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308-43CE-4C5B-A4DD-75893B67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443-611D-4AFE-9C77-E1C81D74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E8E-44D8-4F24-978A-05057D88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726B-B5DC-49C0-BF8B-408EC2F0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2FD4-C764-400F-BB1B-1E316170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C9DD-C1F7-4FB9-B603-F30DB9AD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AA39-CE31-4736-940A-C4A6A131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84BC-9748-4879-8937-4DD8623D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BAED-567E-4A17-B7A7-8FAFF5A0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B817-EAC8-4972-90E9-116D53F0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8EDE-8376-4283-B06E-34074341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FFC-A721-4917-BAC0-03875BFC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EE97-F411-40FB-9B14-D5F13A0A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492F-172F-45C8-B76F-85065FA6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1918-9DE6-4C23-A584-0A1ECC52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51D8-669C-4286-BBDA-99FF5BC8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A20F-4879-4912-81DD-47A75B29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0400-FA2D-4C3B-984F-7EC13253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FF7-3EE8-4506-A85C-3B73BF92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83B6-09AF-4267-93D8-6FFD6B6F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5E9-8C0A-43C3-B553-1FC284DD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07A-570E-471F-91EB-7EFA74E4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D91-FB29-418E-84C1-CE7BD3F1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1BF-6D26-43FC-9363-7754FE6A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BC3E-59DB-471E-86CB-F6E22B54C7A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98E2-9C0E-499B-AAC2-4FACB749E8A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an-Baptiste Lully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WV3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Jean-Baptiste Lully (Gianbattista Lulli)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28/1632 Floren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3/14 let: Paří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 violons du r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rancouzská 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llets de c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médie-ba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agédies ly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Král tančí (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ean-Baptiste_Lully_Nicolas_Mignard"/>
          <p:cNvPicPr/>
          <p:nvPr/>
        </p:nvPicPr>
        <p:blipFill>
          <a:blip r:embed="rId1"/>
          <a:stretch/>
        </p:blipFill>
        <p:spPr>
          <a:xfrm>
            <a:off x="5219640" y="1628640"/>
            <a:ext cx="35546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uchovní hudb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roku 166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64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iser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61 (1668) </a:t>
            </a: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laude laetare Gal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77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Te D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Moteto </a:t>
            </a:r>
            <a:r>
              <a:rPr b="0" i="1" lang="cs-CZ" sz="38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tinský text: Pierre Per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duj se a zpívej, Franci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uphin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 části: I. Sympho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I. O Jesu vita precant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II. Vivat regnet princeps fidel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lý x velký s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che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800px-Dauphiné"/>
          <p:cNvPicPr/>
          <p:nvPr/>
        </p:nvPicPr>
        <p:blipFill>
          <a:blip r:embed="rId1"/>
          <a:stretch/>
        </p:blipFill>
        <p:spPr>
          <a:xfrm>
            <a:off x="6156360" y="1341360"/>
            <a:ext cx="2436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. Symph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duj se a zpívej Fran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re caelesti rigantur lilia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lie je umyta nebeskou roso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acro Delphinus fonte lavatu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uphin se očistil 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vátném Pís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t christianus Christo dicatur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křesťan je určen Kris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O Jesu vita precan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Jesu vita preca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Ó Ježíši, živote těch, kdo se modl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Jesu vita crede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Ó Ježíši, živote těch, kdo věř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audi vota preca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yš modlitbu tvých prosební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. Vivat regnet princeps fide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vat regnet princeps fidel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éž Princ dlouho žije a vlád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mper justus, semper victor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ždy správně, vždy vítězně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mper august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ždy královs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umphet in cael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éž zvítězí na neb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 sempiterna luceat corona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kéž jeho koruna září navž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arak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étorické fig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ČIC, Ladislav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ějiny hudby III.: Barok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Euromedia Group, k. s. – Ikar, 200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ŇOUROVÁ, Lucie. Skladatel měsíce: Jean-Baptiste Lully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Harmon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14.12.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EYER, Hajdu Jones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Jean-Baptiste Lully and the music of the French Baroque: essays in honor of James R. Antho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Cambridge University Press, 198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1T15:02:49Z</dcterms:created>
  <dc:creator>Pinkova</dc:creator>
  <dc:description/>
  <dc:language>en-US</dc:language>
  <cp:lastModifiedBy>Jana Perutková</cp:lastModifiedBy>
  <dcterms:modified xsi:type="dcterms:W3CDTF">2016-12-07T22:30:58Z</dcterms:modified>
  <cp:revision>9</cp:revision>
  <dc:subject/>
  <dc:title>Plaude laetare Gallia</dc:title>
</cp:coreProperties>
</file>