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B078-5CA4-4B44-BA8F-12C29EC846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D8DB-6FE1-46BF-872A-A8364675E3C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298-2DEF-4FEF-986E-0BB76570677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BFC-CB72-45F4-9F25-C540550F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7F2-C049-41E3-9408-BED22886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5D2-14EF-480D-87E0-E5CC094F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BDD-F9C7-4F6A-BB76-895FDEA2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0015-1024-465B-A3C6-EFE7A834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2445-022B-479D-84DC-A521264C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6150-CA9B-4BAA-8C4A-49E454A8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BEAF-A613-4F31-9D50-776582A4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EAE9-CEF1-456D-B97B-95CF37F0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9E5E-D1FB-4610-B2BE-9C748233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7C17-2911-4085-B3B3-2802CB90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861-2C64-42C2-973E-17F1FBD1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1B85-8539-48E6-BCD3-5C10CADF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87C8-EA4A-4E18-B26B-CF66EC9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9C3C-4A43-4BF8-83F4-815D928F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F8CC-B144-4EE3-B109-9744EBA1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8AB2-FFB9-4059-9270-C8F8C567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4C7-7A2B-4DA3-9BDF-0A73415F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6CD-C592-4478-A563-B6FDC6A7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5B2-E706-4842-B4EA-0DC6B249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7B03-0331-47FD-8F9C-C5101C77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6E3-9F68-487E-AC84-0D79BE75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FCA-9094-4EDE-870C-E1746B1E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A45-012E-4902-ADDD-0C57398E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FC62-E0CE-49AF-8BA3-DE005E0543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BF59-BD65-4529-BED1-F0C6E60AAE3E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b.cas.cz/online-katalogy/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s://aleph22.lib.cas.cz/F/D1I2QUQUUXTQ9T4H9AY1SSHENNUCYBJDFRYFHPY8THBMUG89SP-55171?func=find-d-0" TargetMode="External"/><Relationship Id="rId5" Type="http://schemas.openxmlformats.org/officeDocument/2006/relationships/hyperlink" Target="http://www.ncbi.nlm.nih.gov/pubmed/advanced" TargetMode="External"/><Relationship Id="rId6" Type="http://schemas.openxmlformats.org/officeDocument/2006/relationships/hyperlink" Target="http://www.google.cz/advanced_search?hl=cs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12. 2016: Přirozený jazyk vs řízený slovník z hlediska věcného vyhledává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F MU, podzim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množina lexikální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specifické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(v rámci SOD) není potř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blízkosti zadaných výrazů (frá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ximitní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segmentem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élka SOD / tex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ová (selec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á (exhaus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rimovaný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kt, anotace, výtah 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komprim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ý text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řístupný všem typům uži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nedostatečné znalosti systému však uživatel může být frustrován omezeným nebo naopak nadměrný počtem vyhledaným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žadavky na přesnost/úpl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pře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podle konkrétních podmínek zvyšuje 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úp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sledné hodnocení ŘS vs F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560" y="1676160"/>
            <a:ext cx="65595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hledávání pomocí řízeného slovníku i v plném textu má své výhody i nevýho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jich použití je třeba zvažovat podle konkrétních potře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ybridní systé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ý text i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ovaný dotaz – systém TOP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vy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oderní modely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torov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tentní sémantické index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848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, jednoduch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ročilé, podrobn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zený slovník (tezaurus, seznam předmětových hesel nebo klíčových slov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dostupný: KN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samostatně: NTK (P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při vyhledávání: N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otextové (fulltextové)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ertovaný rejstř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venční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roblémy při věcném vyhledávání</a:t>
            </a:r>
            <a:br>
              <a:rPr sz="3400"/>
            </a:b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 ohledem na přirozený jazyk a řízený slovní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 ovlivňující vyhledávání (výběrov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fak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e slovník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vyhledávání nových termínů (pojmů, té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délkou SOD neb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uživate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přesnost a/nebo úp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905120"/>
            <a:ext cx="346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předjímat potřeby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63640" y="1905120"/>
            <a:ext cx="317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yhledávání bez vli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pokojivě řeší z hlediska textu i z hlediska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standardních systémech nutnost formulace několika dotaz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sněmovní ti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ní latentní sémanti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řeš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ykle účinné: antropolog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rivátor slovních 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ynonymie, homonymie, polysémie at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 a další jazykové jevy vyřešen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řeba zohlednit při formulaci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homonyma (objetí, travička, župan, občan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matická homonyma (ženu, j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obecné úrovni obtížně řešitel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aradigmatické vztahy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é vs specifické poj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i v ŘS problémy s vyjádřením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onz -&gt; slitina ko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esta -&gt; typ vrcholu k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Nové termíny, pojmy,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problémů, ovšem s rozptylem daným odlišnostmi mezi jednotlivými autory i terminologickým výv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6-12-02T14:45:09Z</dcterms:modified>
  <cp:revision>152</cp:revision>
  <dc:subject/>
  <dc:title>Selekční jazyky</dc:title>
</cp:coreProperties>
</file>