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6A6-C30E-478C-9CC0-098F19F4EF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CE3D-04C5-4E7F-90B7-8F8111FD37B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668-2FD8-4C5D-AF9F-3F5DF541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DA8-B543-4110-8C96-6629919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9BD-3384-43D2-9C00-8BD73862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5D3-A59F-4F8D-A334-F86EA9C2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A14C-48EB-4E4C-B898-6E8C279E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770-B7F7-406C-A018-C2AEE2CE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3412-C6D9-44E9-9A9D-668E96E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287-D5D9-453C-8CC8-8C8638CF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D43-10A6-445C-9E07-4739DAA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95EA-4A42-4F6B-96F6-CA8F78E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4E02-C718-4427-82DF-2D341DF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46A-2FC2-4279-BD2F-C837FA09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D35-C8DD-48EE-9CAA-EFF56E5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03B-2702-4324-A1FA-0CB22CB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798-0129-4A3B-AEB9-76D29D2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7DF9-B231-4408-AE92-1F67BEFD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BD4-1FF3-40FF-A549-33E794A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843-8BCA-4A15-BAF8-0C1BB81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5C3-3703-42D8-B1D4-35D9A086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0C-E6FB-403E-90C7-FBC4489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327-AEAA-4DFC-9892-9C6C78E1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A4F-CEF7-43F5-8CBC-908A419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86C-D705-4566-93A6-E74618D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2CA-0174-459E-9447-227DFC0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ED5A-C666-4F16-9E0D-D1A925FF9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EA3E-6CEC-47D6-87C2-61DA8CD8D356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ufind.techlib.cz/" TargetMode="External"/><Relationship Id="rId2" Type="http://schemas.openxmlformats.org/officeDocument/2006/relationships/hyperlink" Target="http://www.obchodnirejstrik.cz/" TargetMode="External"/><Relationship Id="rId3" Type="http://schemas.openxmlformats.org/officeDocument/2006/relationships/hyperlink" Target="http://cz.udc-hub.com/cs/login.php" TargetMode="External"/><Relationship Id="rId4" Type="http://schemas.openxmlformats.org/officeDocument/2006/relationships/hyperlink" Target="https://www.czso.cz/csu/czso/klasifikace_ekonomickych_cinnosti_cz_nace" TargetMode="External"/><Relationship Id="rId5" Type="http://schemas.openxmlformats.org/officeDocument/2006/relationships/hyperlink" Target="http://www.census.gov/eos/www/naics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zdroje.muni.cz/prehled/zdroj.php?lang=cs&amp;id=350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theiet.org/resources/inspec/" TargetMode="External"/><Relationship Id="rId4" Type="http://schemas.openxmlformats.org/officeDocument/2006/relationships/hyperlink" Target="http://eric.ed.gov/" TargetMode="External"/><Relationship Id="rId5" Type="http://schemas.openxmlformats.org/officeDocument/2006/relationships/hyperlink" Target="https://ezdroje.muni.cz/prehled/zdroj.php?lang=cs&amp;id=84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rtalstm.cz/" TargetMode="External"/><Relationship Id="rId2" Type="http://schemas.openxmlformats.org/officeDocument/2006/relationships/hyperlink" Target="http://www.jib.cz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xx.lanl.gov/" TargetMode="External"/><Relationship Id="rId2" Type="http://schemas.openxmlformats.org/officeDocument/2006/relationships/hyperlink" Target="https://ezdroje.muni.cz/prehled/zdroj.php?lang=cs&amp;id=58" TargetMode="External"/><Relationship Id="rId3" Type="http://schemas.openxmlformats.org/officeDocument/2006/relationships/hyperlink" Target="https://ezdroje.muni.cz/prehled/zdroj.php?lang=cs&amp;id=58" TargetMode="External"/><Relationship Id="rId4" Type="http://schemas.openxmlformats.org/officeDocument/2006/relationships/hyperlink" Target="https://ezdroje.muni.cz/prehled/zdroj.php?lang=cs&amp;id=58" TargetMode="External"/><Relationship Id="rId5" Type="http://schemas.openxmlformats.org/officeDocument/2006/relationships/hyperlink" Target="http://www.wipo.int/classifications/ipc/en/" TargetMode="External"/><Relationship Id="rId6" Type="http://schemas.openxmlformats.org/officeDocument/2006/relationships/hyperlink" Target="http://brevets-patents.ic.gc.ca/opic-cipo/cpd/eng/introduction.html" TargetMode="External"/><Relationship Id="rId7" Type="http://schemas.openxmlformats.org/officeDocument/2006/relationships/hyperlink" Target="https://www.j-platpat.inpit.go.jp/web/all/top/BTmTopEnglishPage" TargetMode="External"/><Relationship Id="rId8" Type="http://schemas.openxmlformats.org/officeDocument/2006/relationships/hyperlink" Target="https://www.j-platpat.inpit.go.jp/web/all/top/BTmTopEnglishPage" TargetMode="External"/><Relationship Id="rId9" Type="http://schemas.openxmlformats.org/officeDocument/2006/relationships/hyperlink" Target="https://www.j-platpat.inpit.go.jp/web/all/top/BTmTopEnglishPage" TargetMode="External"/><Relationship Id="rId10" Type="http://schemas.openxmlformats.org/officeDocument/2006/relationships/hyperlink" Target="https://www.j-platpat.inpit.go.jp/web/all/top/BTmTopEnglishPage" TargetMode="External"/><Relationship Id="rId11" Type="http://schemas.openxmlformats.org/officeDocument/2006/relationships/hyperlink" Target="http://www.diss.fu-berlin.de/diss/content/below/index.xml" TargetMode="External"/><Relationship Id="rId12" Type="http://schemas.openxmlformats.org/officeDocument/2006/relationships/hyperlink" Target="http://theses.cz/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12. 2016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lekční jazyky a věcné vyhledávání; standardizace a harmonizace SJ (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 a harmonizace S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informačních zdrojů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sekundár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přejímaných bbg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ysl a 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měn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pora práce, času a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nadnění věcného přístupu k dokumentům a informa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64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rové zaměření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ého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postkoordinace/preko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lex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řevzetí tezauru nebo jeho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MDT-výběr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efinice vzta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ravidla pro tvorbu hesel L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3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form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UNIMARC/Aut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FLA Classification and Indexing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can Society for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447920"/>
            <a:ext cx="7380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jitelnost SJ a potažm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 harmon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bi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t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né sbližování dvou nebo víc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or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převodníku mezi dvěma nebo více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lexikální jedno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po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– mapování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7483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stejný typ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J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ovaný SJ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směrný nebo obousměrný pře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ovací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u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- mapování SJ</a:t>
            </a:r>
            <a:br>
              <a:rPr sz="4200"/>
            </a:b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LJ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CSH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spekt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M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rovoc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pojm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LS Meta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1523520"/>
            <a:ext cx="707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harmonizace a inte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rmonizace řízených slovníků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ISO 5964 (ČSN 01 0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rovoc (27 jazyků), Eurovoc (23),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verze předmětových h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ostup při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3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alýza požadav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dentifikace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anovení rešeršní strategie a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ulace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odnocení/interpretace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gvistické problémy (překlad/přev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k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% kompatibilita (+nedeskriptory a poznám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y tezauru pro lokál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správy a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proces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tezauru do A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W pro správu tez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79280" y="1699920"/>
            <a:ext cx="71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s ja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inantní jazyk/sekundární 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rostředkujíc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66600" y="1904760"/>
            <a:ext cx="6667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klad/převod teza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zí jazyk – jazyk, ze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řekladu – jazyk, do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lingvistické a intralingvistické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(PSH, řa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ekvivalence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ín/více ter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Phys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1"/>
          <p:cNvPicPr/>
          <p:nvPr/>
        </p:nvPicPr>
        <p:blipFill>
          <a:blip r:embed="rId1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Ged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Picture 6" descr="sj2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Wissensch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7" name="Picture 6" descr="sj3"/>
          <p:cNvPicPr/>
          <p:nvPr/>
        </p:nvPicPr>
        <p:blipFill>
          <a:blip r:embed="rId5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fu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79680" y="190512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arb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ombust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2" name="Picture 6" descr="sj4"/>
          <p:cNvPicPr/>
          <p:nvPr/>
        </p:nvPicPr>
        <p:blipFill>
          <a:blip r:embed="rId8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enhanced publ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J: ?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ustálený termí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j5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ruhy vyhledávání podle typu hledané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ikační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áme některé údaje o hledaném dokumentu nebo polož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T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bchodní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cné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eznáme požadovaný dokument, hledáme určité t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edávací výrazy: věcné údaje - klíčová slova z názvu, předmětová hesla, klíčová slova, deskriptory tezauru, klíčová slova z textu dokumentu (redukovaného nebo plného), klasifikac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D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CZ-NA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NAIC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ceme zjistit konkrétní informa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údaje podle obsahu a struktury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5238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 a zaměření informačního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da, technika, výzkum, 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á (státní) správa, samospráva, 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zdroje v oblasti kultury, umění,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média, zpravodajství, informace „všedního d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chivní informač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z uvedených okruhů 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nároky na rozsah i hloubku věcné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možnosti věcného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523880"/>
            <a:ext cx="677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elmi schematické rozdě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emi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Reaxy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lékařství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technika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INSP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enské a humanitní vědy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ER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roquest - humanit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bliografická (dokumentografická) databáze/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otextov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typu adres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bázová centra (funkce CrossSearch, CrossFile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katalogu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ST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metavyhledávačů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J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ový“ web „hlubok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resp. „neviditeln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ivisi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6846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okumentů/informací v informačním zdroji (záznamy n. plné tex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né zprávy, techn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-Print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ferenční materiály (preprinty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Ulrich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’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Mezinárodní patentové tříd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db: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Canadian Patent Databa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Japan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latform for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atent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ational Classification fo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ademické práce (dizertace, habili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Dissertationen online an der FU Ber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Thes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77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oklady úspěšného věcného vyhledávání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obsahem informačního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ý postup věcného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á formulace dotaz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nástře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hodné rešeršní strat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úspěšném vyhledávání přeformulování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SOD konkrétních dokumentů pro úpravu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12-09T14:47:30Z</dcterms:modified>
  <cp:revision>154</cp:revision>
  <dc:subject/>
  <dc:title>Selekční jazyky</dc:title>
</cp:coreProperties>
</file>