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9D80F-EDFB-41CD-A594-8410FC1F1182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902040" y="951372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FAB4F-6B7E-4852-BE23-D893D9CB4FEC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39960" y="750960"/>
            <a:ext cx="5008320" cy="3757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9040" y="4757760"/>
            <a:ext cx="5510160" cy="450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0160-E32A-4F87-A13E-FD8B82937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14D5-BA4F-485E-BF00-D3E6C55A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B8C-05DD-46D1-9149-462D84BAD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22DE-1288-4968-8AB1-B2DAEA131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A403F-7239-47AB-85A7-0A5A92753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DC72A-54A2-49CA-8118-ADB26D16C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4938-D10B-476E-B3C2-83A90A7E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C66F7-F5A8-4705-9DC7-D53BE72F0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5289-989A-420A-BC01-BA8199920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70BC0-F295-4A6F-B5EB-9FE5A51E8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84D8B-89EB-4BA9-9032-93F1366E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ED12-3673-46D6-AC93-6DB11ED74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FB388-63DC-4DF9-8A9B-33802D30D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11C83-75C6-4888-96B9-37715E80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86DEA-3743-4D56-8A34-87F15C87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6E29-3D45-4C86-BACD-B31D10284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3D588-7DA7-41A5-B808-570F4486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2D76-D4D8-4DAC-AD52-2D92BAF2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DD22-ACB9-4DFC-9714-68F1703EF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5F36-E07D-4B25-9C1C-479BBF62D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1DCF-AD42-4572-A46F-3477B70DF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C894-953D-4B73-A1AC-07CB2CE2B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1819-F344-494F-B20B-4219E7BFC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02E0-4592-4AB1-A77C-A53273935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DB3B-C649-4FA5-A6E2-8079F2F198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2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3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4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DD39F-13F3-4A66-9578-CF9AE64CCFCA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iso.org/" TargetMode="Externa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vufind.techlib.cz/" TargetMode="External"/><Relationship Id="rId2" Type="http://schemas.openxmlformats.org/officeDocument/2006/relationships/hyperlink" Target="http://www.obchodnirejstrik.cz/" TargetMode="External"/><Relationship Id="rId3" Type="http://schemas.openxmlformats.org/officeDocument/2006/relationships/hyperlink" Target="http://cz.udc-hub.com/cs/login.php" TargetMode="External"/><Relationship Id="rId4" Type="http://schemas.openxmlformats.org/officeDocument/2006/relationships/hyperlink" Target="https://www.czso.cz/csu/czso/klasifikace_ekonomickych_cinnosti_cz_nace" TargetMode="External"/><Relationship Id="rId5" Type="http://schemas.openxmlformats.org/officeDocument/2006/relationships/hyperlink" Target="http://www.census.gov/eos/www/naics/" TargetMode="External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ezdroje.muni.cz/prehled/zdroj.php?lang=cs&amp;id=350" TargetMode="External"/><Relationship Id="rId2" Type="http://schemas.openxmlformats.org/officeDocument/2006/relationships/hyperlink" Target="http://www.ncbi.nlm.nih.gov/pubmed/" TargetMode="External"/><Relationship Id="rId3" Type="http://schemas.openxmlformats.org/officeDocument/2006/relationships/hyperlink" Target="http://www.theiet.org/resources/inspec/" TargetMode="External"/><Relationship Id="rId4" Type="http://schemas.openxmlformats.org/officeDocument/2006/relationships/hyperlink" Target="http://eric.ed.gov/" TargetMode="External"/><Relationship Id="rId5" Type="http://schemas.openxmlformats.org/officeDocument/2006/relationships/hyperlink" Target="https://ezdroje.muni.cz/prehled/zdroj.php?lang=cs&amp;id=84" TargetMode="External"/><Relationship Id="rId6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portalstm.cz/" TargetMode="External"/><Relationship Id="rId2" Type="http://schemas.openxmlformats.org/officeDocument/2006/relationships/hyperlink" Target="http://www.jib.cz/" TargetMode="External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xx.lanl.gov/" TargetMode="External"/><Relationship Id="rId2" Type="http://schemas.openxmlformats.org/officeDocument/2006/relationships/hyperlink" Target="https://ezdroje.muni.cz/prehled/zdroj.php?lang=cs&amp;id=58" TargetMode="External"/><Relationship Id="rId3" Type="http://schemas.openxmlformats.org/officeDocument/2006/relationships/hyperlink" Target="https://ezdroje.muni.cz/prehled/zdroj.php?lang=cs&amp;id=58" TargetMode="External"/><Relationship Id="rId4" Type="http://schemas.openxmlformats.org/officeDocument/2006/relationships/hyperlink" Target="https://ezdroje.muni.cz/prehled/zdroj.php?lang=cs&amp;id=58" TargetMode="External"/><Relationship Id="rId5" Type="http://schemas.openxmlformats.org/officeDocument/2006/relationships/hyperlink" Target="http://www.wipo.int/classifications/ipc/en/" TargetMode="External"/><Relationship Id="rId6" Type="http://schemas.openxmlformats.org/officeDocument/2006/relationships/hyperlink" Target="http://brevets-patents.ic.gc.ca/opic-cipo/cpd/eng/introduction.html" TargetMode="External"/><Relationship Id="rId7" Type="http://schemas.openxmlformats.org/officeDocument/2006/relationships/hyperlink" Target="https://www.j-platpat.inpit.go.jp/web/all/top/BTmTopEnglishPage" TargetMode="External"/><Relationship Id="rId8" Type="http://schemas.openxmlformats.org/officeDocument/2006/relationships/hyperlink" Target="https://www.j-platpat.inpit.go.jp/web/all/top/BTmTopEnglishPage" TargetMode="External"/><Relationship Id="rId9" Type="http://schemas.openxmlformats.org/officeDocument/2006/relationships/hyperlink" Target="https://www.j-platpat.inpit.go.jp/web/all/top/BTmTopEnglishPage" TargetMode="External"/><Relationship Id="rId10" Type="http://schemas.openxmlformats.org/officeDocument/2006/relationships/hyperlink" Target="https://www.j-platpat.inpit.go.jp/web/all/top/BTmTopEnglishPage" TargetMode="External"/><Relationship Id="rId11" Type="http://schemas.openxmlformats.org/officeDocument/2006/relationships/hyperlink" Target="http://www.diss.fu-berlin.de/diss/content/below/index.xml" TargetMode="External"/><Relationship Id="rId12" Type="http://schemas.openxmlformats.org/officeDocument/2006/relationships/hyperlink" Target="http://theses.cz/" TargetMode="External"/><Relationship Id="rId1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BA11</a:t>
            </a:r>
            <a:br>
              <a:rPr sz="1600"/>
            </a:b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Selekční jazy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700" spc="-1" strike="noStrike">
                <a:solidFill>
                  <a:srgbClr val="000000"/>
                </a:solidFill>
                <a:latin typeface="Arial"/>
              </a:rPr>
              <a:t>9. 12. 2016: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lekční jazyky a věcné vyhledávání; standardizace a harmonizace SJ (P1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FF MU, podzim 201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 a harmonizace SJ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692360" y="155736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aktor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informačních zdrojů v elektronické podo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sekundárních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stoucí počet přejímaných bbg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mysl a 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měn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pora práce, času a lidských zdroj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nadnění věcného přístupu k dokumentům a informací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76364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orové zaměření S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a řízeného slovní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pecifičnost L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postkoordinace/prekooordin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ícejazyč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andardizace S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lex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řevzetí tezauru nebo jeho čá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MDT-výběr znak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definice vztahů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morf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pravidla pro tvorbu hesel LC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(tvorba P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úrovni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Wingdings" charset="2"/>
              <a:buChar char="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ČSN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Standardizac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8352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metody a prostředk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ndardizace formá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př. UNIMARC/Auto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ěcné aut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nstitu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FLA Classification and Indexing S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erican Society for Index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47640" y="18900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63280" y="1447920"/>
            <a:ext cx="73803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pojitelnost SJ a potažmo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y harmoniza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bili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tibil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ver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upné sbližování dvou nebo více systém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nkor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tvoření převodníku mezi dvěma nebo více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lexikální jednot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úrovni poj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– mapování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08000" y="1523520"/>
            <a:ext cx="748368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dpoklad: stejný typ SJ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stkoordinovaný SJ 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ost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ekoordinovaný SJ</a:t>
            </a:r>
            <a:r>
              <a:rPr b="0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prekoordinovaný S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Jednosměrný nebo obousměrný převo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edno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ojovací S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PropS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ousměrn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2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1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J3 </a:t>
            </a:r>
            <a:r>
              <a:rPr b="0" lang="cs-CZ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SJ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Harmonizace - mapování SJ</a:t>
            </a:r>
            <a:br>
              <a:rPr sz="4200"/>
            </a:br>
            <a:r>
              <a:rPr b="1" lang="cs-CZ" sz="2100" spc="-1" strike="noStrike">
                <a:solidFill>
                  <a:srgbClr val="000000"/>
                </a:solidFill>
                <a:latin typeface="Arial"/>
              </a:rPr>
              <a:t>Příklady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050920" y="1700280"/>
            <a:ext cx="381024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LJ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LCSH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onspekt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MD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DD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Eurovoc </a:t>
            </a:r>
            <a:r>
              <a:rPr b="1" lang="cs-CZ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Pol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000000"/>
                </a:solidFill>
                <a:latin typeface="Arial"/>
              </a:rPr>
              <a:t>Na úrovni pojm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UMLS Metathesau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5097240" y="1905120"/>
            <a:ext cx="343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55640" y="2130120"/>
            <a:ext cx="59022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SJ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692000" y="1523520"/>
            <a:ext cx="70707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zinárodní harmonizace a integ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harmonizace řízených slovníků a 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orm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SN ISO 5964 (ČSN 01 017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grovoc (27 jazyků), Eurovoc (23), M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verze předmětových hes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C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becný postup při vyhledává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195640" y="1905120"/>
            <a:ext cx="6338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nalýza požadav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identifikace informačních zdroj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anovení rešeršní strategie a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ormulace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yhodnocení/interpretace výsledků vyhledáván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7640" y="1905120"/>
            <a:ext cx="6626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oblém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lingvistické problémy (překlad/přev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rminolo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uk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kompat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00% kompatibilita (+nedeskriptory a poznámk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pravy tezauru pro lokální potřeb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blémy správy a údrž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žitější proces aktual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ementace tezauru do AI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W pro správu tezau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979280" y="1699920"/>
            <a:ext cx="7164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Status jazyk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jný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inantní jazyk/sekundární jazy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prostředkující jazy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866600" y="1904760"/>
            <a:ext cx="66675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řeklad/převod tezau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chozí jazyk – jazyk, ze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azyk překladu – jazyk, do kterého se překlád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lingvistické a intralingvistické probl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-18504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íklad (PSH, řad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ráv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4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6666"/>
              </a:buClr>
              <a:buSzPct val="11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9" name="Rectangle 5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336666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0" name="Line 6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33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Vícejazyčné tezaury</a:t>
            </a:r>
            <a:br>
              <a:rPr sz="4200"/>
            </a:br>
            <a:r>
              <a:rPr b="1" lang="cs-CZ" sz="1900" spc="-1" strike="noStrike">
                <a:solidFill>
                  <a:srgbClr val="000000"/>
                </a:solidFill>
                <a:latin typeface="Arial"/>
              </a:rPr>
              <a:t>Vybrané jazykové problém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834920" y="1905120"/>
            <a:ext cx="669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tupeň ekvivalence výraz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úpl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Částečná 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rmín/více termín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ekvival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physic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Physi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sj1"/>
          <p:cNvPicPr/>
          <p:nvPr/>
        </p:nvPicPr>
        <p:blipFill>
          <a:blip r:embed="rId1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6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520" y="1905120"/>
            <a:ext cx="2062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men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Gedec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2" name="Picture 6" descr="sj2"/>
          <p:cNvPicPr/>
          <p:nvPr/>
        </p:nvPicPr>
        <p:blipFill>
          <a:blip r:embed="rId5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J: Wissenscha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998880" y="1905120"/>
            <a:ext cx="213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sci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57" name="Picture 6" descr="sj3"/>
          <p:cNvPicPr/>
          <p:nvPr/>
        </p:nvPicPr>
        <p:blipFill>
          <a:blip r:embed="rId5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fuel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79680" y="1905120"/>
            <a:ext cx="2749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arbur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FJ: combust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66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2" name="Picture 6" descr="sj4"/>
          <p:cNvPicPr/>
          <p:nvPr/>
        </p:nvPicPr>
        <p:blipFill>
          <a:blip r:embed="rId8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AJ: enhanced publication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ČJ: ??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neustálený termí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sj5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Druhy vyhledávání podle typu hledané informac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dentifikační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známe některé údaje o hledaném dokumentu nebo polož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klad: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NTK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Obchodní rejstří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ěcné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neznáme požadovaný dokument, hledáme určité tém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vyhledávací výrazy: věcné údaje - klíčová slova z názvu, předmětová hesla, klíčová slova, deskriptory tezauru, klíčová slova z textu dokumentu (redukovaného nebo plného), klasifikac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MDT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CZ-NAC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NAICS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) a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chceme zjistit konkrétní informac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hledávací výrazy: údaje podle obsahu a struktury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63280" y="1523880"/>
            <a:ext cx="6846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účel a zaměření informačního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formační okru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ěda, technika, výzkum, standardiz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řejná (státní) správa, samospráva, legisl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formační zdroje v oblasti kultury, umění, záb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smédia, zpravodajství, informace „všedního dne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rchivní informační fon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aždý z uvedených okruhů m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nároky na rozsah i hloubku věcného zpra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iné možnosti věcného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835280" y="1523880"/>
            <a:ext cx="677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velmi schematické rozdělení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emie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Reaxy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lékařství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PubMed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technika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INSPE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19920" indent="-217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lečenské a humanitní vědy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ERIC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Proquest - humanitie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4764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zdro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ibliografická (dokumentografická) databáze/katalo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lnotextov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ktografická data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droj typu adresá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etazdro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atabázová centra (funkce CrossSearch, CrossFile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katalogu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STM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rtály typu metavyhledávačů (</a:t>
            </a: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JIB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rchový“ web „hlubok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deep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, resp. „neviditelný“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inivisible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Obecné aspekt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63280" y="1371600"/>
            <a:ext cx="68468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typ dokumentů/informací v informačním zdroji (záznamy n. plné tex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zkumné zprávy, technické zprá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e-Print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ferenční materiály (preprinty aj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asopi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2"/>
              </a:rPr>
              <a:t>Ulrich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3"/>
              </a:rPr>
              <a:t>’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4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člá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aten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5"/>
              </a:rPr>
              <a:t>Mezinárodní patentové třídění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; db: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6"/>
              </a:rPr>
              <a:t>Canadian Patent Databas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7"/>
              </a:rPr>
              <a:t>Japan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8"/>
              </a:rPr>
              <a:t>Platform for </a:t>
            </a: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9"/>
              </a:rPr>
              <a:t>Patent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0"/>
              </a:rPr>
              <a:t>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nternational Classification for Standa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kademické práce (dizertace, habilita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6666"/>
                </a:solidFill>
                <a:uFillTx/>
                <a:latin typeface="Arial"/>
                <a:hlinkClick r:id="rId11"/>
              </a:rPr>
              <a:t>Dissertationen online an der FU Berlin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6666"/>
                </a:solidFill>
                <a:uFillTx/>
                <a:latin typeface="Arial"/>
                <a:hlinkClick r:id="rId12"/>
              </a:rPr>
              <a:t>Theses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nograf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35280" y="1752480"/>
            <a:ext cx="6775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předpoklady úspěšného věcného vyhledávání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obsahem informačního zdro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800" spc="-1" strike="noStrike">
                <a:solidFill>
                  <a:srgbClr val="000000"/>
                </a:solidFill>
                <a:latin typeface="Arial"/>
              </a:rPr>
              <a:t>Základní metody věcného vyhledávání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619280" y="1447920"/>
            <a:ext cx="75247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24"/>
              </a:spcBef>
              <a:buClr>
                <a:srgbClr val="336666"/>
              </a:buClr>
              <a:buSzPct val="9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Arial"/>
              </a:rPr>
              <a:t>obecný postup věcného vyhledávání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ečlivá formulace dotazu 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vs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„nástřel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olba vhodné rešeršní strate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rostoucí per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rategie osek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i neúspěšném vyhledávání přeformulování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cc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SOD konkrétních dokumentů pro úpravu dot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16-12-09T14:47:30Z</dcterms:modified>
  <cp:revision>154</cp:revision>
  <dc:subject/>
  <dc:title>Selekční jazyky</dc:title>
</cp:coreProperties>
</file>