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04D0-A9B4-46EB-88C8-659F1F42EF7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C5D3-CDE9-4044-B91E-E06AAB8666B0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7DBE-8DD1-45FF-9060-6C32B1A73ECE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113F-F39F-43AA-9F3E-518EA74998E9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3E86-FAA6-450E-9729-8EEF01C6CBFA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67FE-ACD6-4214-BD4E-51B8910BBC55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8068-1DA4-4DD6-9760-7B0C3604AA44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9B46-4AEB-4BC0-B526-107ABB49365F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022F-E5A4-475E-B6FC-FD34CB37D9C7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1A66-42FD-4450-9D2C-FB09173DD7D0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330D-7AEF-4683-AE9E-F609AAD7024E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C310-D5D3-4421-A430-B9BF0A58684B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D5DC-565F-49AA-A3B1-D92C99A579BC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20C9-851B-4391-899A-763AB981A1EE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ACCF-7978-46B1-86B7-4D571CC532D4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DFA3-EAE8-4D6C-97EF-BE2C13CE958F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2CC0-C563-4DB6-8D6E-3B317A10DC75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D791-F90F-4968-9D4A-8967D51A8172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B584-8425-4680-A553-5ADEB3B8FACB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311E-04D7-42D2-A427-F2A9C9EE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C714-66C6-4E1A-BF52-420AC485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BE68-9C28-4A77-912E-712601FF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DC57-1B31-43B5-826F-B7449C0C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5CD3-7BBE-43D2-AE19-43EE99D13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2C04-8609-4167-AA2F-70548543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B28C-F31F-4337-A1D4-432E992A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BA22-5BF8-4C9A-9C45-0D846E5C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FAB2-7ACE-4EF8-B7EE-4B628827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C943-123F-4061-8F9A-EEB26733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1DA8-561D-438F-A5F9-F42B791B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0AC3-DA2C-4C9F-8B0A-581A587A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D745-5F45-4C32-A21A-BF4A16AD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4FA7-9E9A-4E5F-9C47-3DD24189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48CE-CECA-4ED9-97C3-07CBADE1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94F5-BA64-477F-87BE-0DF203D33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60B0-9972-4D38-8DC7-FE061942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B47E-11BA-4C13-B6CF-EC602888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C041-366E-4797-9514-C145263E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F263-69CC-4F9D-8FBB-9CB36CEC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744D-C413-4389-AC86-3F65F459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2F2E-2F68-4551-9200-A9FA74B6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5A12-0A0B-4B94-832A-111C63A1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0316-6ACB-4F9E-9693-50CEA6F1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EC2E-F953-4360-A19B-1DD7AA84A2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AE3C-C377-4C84-A371-9E2CCD991B75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126172@mail.muni.cz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KMA06</a:t>
            </a:r>
            <a:br>
              <a:rPr sz="1600"/>
            </a:b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Vyhledávání informac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21. 10. 2016: Přednáška P5: Rešeršní strate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F MU, podzim 20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126172@mail.muni.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trategie osekává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lnSpc>
                <a:spcPct val="90000"/>
              </a:lnSpc>
              <a:spcBef>
                <a:spcPts val="649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vní formulace dotazu - </a:t>
            </a:r>
            <a:r>
              <a:rPr b="0" lang="cs-CZ" sz="3000" spc="-1" strike="noStrike">
                <a:solidFill>
                  <a:srgbClr val="0033cc"/>
                </a:solidFill>
                <a:latin typeface="Arial"/>
              </a:rPr>
              <a:t>širší formulace, tj. pomocí obecného pojmu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cílem je vyhledání více záznam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2640" indent="-422640">
              <a:lnSpc>
                <a:spcPct val="90000"/>
              </a:lnSpc>
              <a:spcBef>
                <a:spcPts val="751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cc00"/>
                </a:solidFill>
                <a:latin typeface="Arial"/>
              </a:rPr>
              <a:t>postupná specifikace dotaz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22640" indent="-422640">
              <a:lnSpc>
                <a:spcPct val="90000"/>
              </a:lnSpc>
              <a:spcBef>
                <a:spcPts val="751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cccccc"/>
                </a:solidFill>
                <a:latin typeface="Arial"/>
              </a:rPr>
              <a:t>uplatnění taktik pro zúžení záběru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(AND, NOT, proxim. oper., field searching, formální omezení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22640" indent="-422640">
              <a:lnSpc>
                <a:spcPct val="90000"/>
              </a:lnSpc>
              <a:spcBef>
                <a:spcPts val="751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formulace širší kategorie (obor, vědní disciplína), klasifik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22640" indent="-422640">
              <a:lnSpc>
                <a:spcPct val="90000"/>
              </a:lnSpc>
              <a:spcBef>
                <a:spcPts val="751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áročnější na č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trategie pro zúžení záběru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trategie pro zúžení záběru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49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klí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ová slova se kombinují s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věcným selekčním jazyk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49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omezení na ur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ité pole záznamu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49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vyu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ití proximitních operátor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49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omezení na ur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itý typ dokumentu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49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operátor NOT pro vylou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ní n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kterých zázna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49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jazykové vymezení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49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sové rozmezí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49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kombinace mno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iny deskriptor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ů/hesel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s pod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zenými klí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ovými slov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49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ombinace s množinou sel. údajů vyjadřující další pojem z dotazu, hledisk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47280" y="189000"/>
            <a:ext cx="74170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trategie pro rozšíření záběru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6000" y="162864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47280" y="189000"/>
            <a:ext cx="74170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trategie pro rozšíření záběru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6000" y="162864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uvedení synonym, tvarů slov, pravopisných variant  (operátor OR, zástupné znaky, krácení podle slovních kořenů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49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uvedení jednotek věcného SJ jako klíčových slov (např. vyhledávání ve všech políc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49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odatečné uvedení širších jednotek věcného SJ, tj. těch, které jsou nadřazeny použitým výrazům (deskriptorům, předmětovým heslů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49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becné výrazy, tj. s vysokým výsky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49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rušení předběžných omeze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yhledávací techniky pro zvýšení přesnost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užití operátoru 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užití operátoru N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case sensitive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oximitní operá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ážené vyhledávání („weighted searching“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mezení na pole („field searching“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yhledávací techniky pro zvýšení úplnost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užití operátoru 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rácení, zástupné zna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fuzzy vyhledáv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ozšiřování dotazu („query expansion“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aralelní vyhledávání – „multiple database searc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Rešeršní strategie - praktické rad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33cc33"/>
                </a:solidFill>
                <a:latin typeface="Arial"/>
              </a:rPr>
              <a:t>Buďte flexibil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berte připravené kroky strategie orientačně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přizpůsobujte další taktiky výsledkům rešerš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ulový výsledek – hledání příčin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33cc33"/>
                </a:solidFill>
                <a:latin typeface="Arial"/>
              </a:rPr>
              <a:t>Využívejte řízených slovník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yužívejte souvisejících pojmů ke konkrétnímu řízenému termínu (nadřazené, podřazené pojmy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ikdy nespojujte výrazy s malou frekvencí výskytu (zjistitelné v katalogu) operátorem AN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33cc33"/>
                </a:solidFill>
                <a:latin typeface="Arial"/>
              </a:rPr>
              <a:t>Vytvářejte množiny termín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je velmi důležité k jednotlivým klíčovým slovům vytvářet množiny souvisejících termín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termíny v množině se spojují pomocí logického součtu – 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33cc33"/>
                </a:solidFill>
                <a:latin typeface="Arial"/>
              </a:rPr>
              <a:t>Využívejte klasifikac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pomocí klasifikací vyhledáte většinou mnoho záznamů, proto se hodí jejich využití při strategii osekává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apitoly ze základní a doplňkové literatu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07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kap. 6, 9 (s. 81-96, 145-16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G92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kap. 6 (s. 123-15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IC04, kap. 7 (s. 180-20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Rešeršní strategi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širší pojet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žší pojet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běr konkrétního vyhledávacího nástroje a komunikace se systé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Cíle rešeršní strategi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11280" y="19162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levance X pertin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úplnost X přesnos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Úplnost a přesnos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lnost 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 = a / (a+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snost (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 = a / (a+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tah mezi úplností a přesností je nepřímo úměrný (vyšší přesnost znamená nižší úplnost a naopa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417760" y="2286000"/>
          <a:ext cx="5429160" cy="1523880"/>
        </p:xfrm>
        <a:graphic>
          <a:graphicData uri="http://schemas.openxmlformats.org/drawingml/2006/table">
            <a:tbl>
              <a:tblPr/>
              <a:tblGrid>
                <a:gridCol w="1809720"/>
                <a:gridCol w="1809720"/>
                <a:gridCol w="180972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vantní dok.</a:t>
                      </a:r>
                      <a:endParaRPr b="0" lang="en-US" sz="1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elevantní dok.</a:t>
                      </a:r>
                      <a:endParaRPr b="0" lang="en-US" sz="1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hledané dok.</a:t>
                      </a:r>
                      <a:endParaRPr b="0" lang="en-US" sz="1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yhledané dok</a:t>
                      </a:r>
                      <a:endParaRPr b="0" lang="en-US" sz="1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23640" y="190440"/>
            <a:ext cx="6410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ředpoklady rešeršní strategi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edpokladem pro stanovení rešeršní strategie je znalos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formačního zdroje (databá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sah – jaké dokumenty, v jaké retrospektivě a úplnosti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ruktura – podle jakých polí lze vyhledáv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stro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ízené slovníky, hesláře, autority a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gorit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perátory dotazovacího jazyka, konvence pravostranného rozšíření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živatelského rozhra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Typy rešeršní strategi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trategie stavebních kamen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cc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yhledávání pomocí nejspecifičtější faze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cc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trategie rostoucí pe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cc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trategie osekáv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6201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trategie stavebních kamenů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Arial"/>
              </a:rPr>
              <a:t>samostatné dílčí dotazy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vyjadřující ústřední pojmy původního rešeršního požadavku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dentifikace klíčových/významných pojm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nožina výrazů vztahující se k pojmu: synonyma, kvazisynonyma, pravopisné formy, nadřazené, podřízené výraz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, truncation (krácení podle slov. kořenů), stemming, wild cards (zástupné zna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pojení dílčích formulací ve finální soub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hodné použít, když usilujeme o úplnost u úzce specifikovaných té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yhledávání pomocí nejspecifičtější fazet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cccccc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ztahuje se k vyhledávání složených témat – více aspekt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cccccc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živatel musí znát všechny dílčí témata a musí být schopen určit, které téma je nejspecifičtějš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33cc"/>
                </a:solidFill>
                <a:latin typeface="Arial"/>
              </a:rPr>
              <a:t>Vyhledáv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cccc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cc00"/>
                </a:solidFill>
                <a:latin typeface="Arial"/>
              </a:rPr>
              <a:t>podle nejužšího pojmu z rešeršního požadav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cc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kud je výsledek uspokojivý, nemusí být do rešerše zahrnuta další dílčí hledisk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trategie rostoucí perl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377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otaz je postupně modifikován dle výsledků rešerše – záznamy jsou postupně procházeny a zjišťovány relevantní termíny (řízené termíny, slova z názvů apod.), které jsou použity k revidování dotaz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9900"/>
                </a:solidFill>
                <a:latin typeface="Arial"/>
              </a:rPr>
              <a:t>Prvotním cílem je alespoň jeden zázn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550"/>
              </a:spcBef>
              <a:buClr>
                <a:srgbClr val="cccc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jištění použitelných selekčních termín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550"/>
              </a:spcBef>
              <a:buClr>
                <a:srgbClr val="cccc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úprava formulace rešeršního dotaz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16-10-21T14:05:50Z</dcterms:modified>
  <cp:revision>188</cp:revision>
  <dc:subject/>
  <dc:title>Selekční jazyky</dc:title>
</cp:coreProperties>
</file>