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DFB2-0A52-46C4-9841-FD9BB5B5F5B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AF6E-2FF4-4037-B561-3E0B2E05B0ED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6CB8-7C08-4190-AC7B-D06B4B51B9F3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63EB-BFF8-4F20-9510-B286187E3EF1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F765-E4AC-46E8-B29C-013BD92D6B6C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DA62-3C3B-41C4-B2C5-D7ED14B880E0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211D-248A-473F-BE9E-3F607A3EDFFF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4ED3-7835-482A-989A-8639D1CAAE1B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E630-0A70-4364-AA7A-4FEDC344FFA9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9229-F64F-40CE-934F-B98A445E3BA7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D709-3F9D-4681-A379-816A46B238C5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6597-09A6-41C1-9CE6-7D04EAF64CE2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35FD-2FFD-4BA7-840C-455A2A6FA126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F424-300C-4D15-9DF7-C1238E65DF74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B5CD-2DF1-48D9-8A56-DFAB6013E7EA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0739-CA75-47F5-B9BB-A71FC6BBE660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8053-3879-4BD7-BD13-3A27382EF3ED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5041-6BFA-4EF2-A98F-35A9CB980F16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83CC-69EE-4698-9281-4A57BD36B8E4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E52E-EA32-4775-8CC7-85FD88860B56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8433-61A1-476D-A078-5F2110173DD8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833-C809-4378-A856-C8A53BFA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B8C-94B2-4FB3-944A-D39437F6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209-4063-43B2-A3ED-AE85ED80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526-F1C7-4EE5-8184-E2CE8CA9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6EE9-B7E8-4415-BCFB-C0DDC2D6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FF0E-F27B-4153-8FDF-9A0CAFA6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97FE-2924-42D8-917D-697E8615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6489-7DAD-4A8E-BCA5-8DDD5083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35C8-55FA-4886-804E-0A2D3C5B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19BA-B572-4B29-AA23-87141F03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B3C7-EE27-4B1E-B067-9F9A34A0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5BA-C16D-4A87-BA6B-1F263B2E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95AA-835D-4A0A-9080-C380CEE4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4FE3-9362-4FC0-85AB-0DED616D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9350-6864-4FFF-B8DF-834D87DB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EE8A-9DF3-4E97-A012-39BA73EC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454B-21D9-4133-BBAD-D27EC74F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97C-3F43-4B41-B766-7D84919F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FCFE-F18F-49D4-828E-7EE18D5F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828-5706-4520-A047-A3821059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5695-9E50-4F18-BF6A-A74716B4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A14-3270-4461-AAE2-914B5242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1BEB-0AA9-473F-A4CF-2D7EAF1D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A27-AC72-4925-85E0-7DD3FC95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EF6D-8639-433B-AFCF-93F646F3E7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FE02-1D30-4158-93BB-D8FDF3587C5E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ull.nkp.cz/" TargetMode="External"/><Relationship Id="rId2" Type="http://schemas.openxmlformats.org/officeDocument/2006/relationships/hyperlink" Target="file:///POJIST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kp.cz/sluzby/edodo" TargetMode="External"/><Relationship Id="rId2" Type="http://schemas.openxmlformats.org/officeDocument/2006/relationships/hyperlink" Target="https://www.techlib.cz/cs/2892-virtualni-polytechnicka-knihovna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pk.nkp.cz/odborne-cinnosti/mereni-vykonu-a-kvality-v-knihovnach-1/Benchmarking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zdroje.muni.cz/" TargetMode="External"/><Relationship Id="rId2" Type="http://schemas.openxmlformats.org/officeDocument/2006/relationships/hyperlink" Target="http://pez.cuni.cz/" TargetMode="External"/><Relationship Id="rId3" Type="http://schemas.openxmlformats.org/officeDocument/2006/relationships/hyperlink" Target="http://ezb.nkp.cz/" TargetMode="External"/><Relationship Id="rId4" Type="http://schemas.openxmlformats.org/officeDocument/2006/relationships/hyperlink" Target="http://pez.cuni.cz/prehled/zdroj.php?id=397&amp;lang=cs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dk.cz/" TargetMode="External"/><Relationship Id="rId2" Type="http://schemas.openxmlformats.org/officeDocument/2006/relationships/hyperlink" Target="http://kramerius.nkp.cz/" TargetMode="External"/><Relationship Id="rId3" Type="http://schemas.openxmlformats.org/officeDocument/2006/relationships/hyperlink" Target="http://kramerius.mlp.cz/kramerius" TargetMode="External"/><Relationship Id="rId4" Type="http://schemas.openxmlformats.org/officeDocument/2006/relationships/hyperlink" Target="http://www.manuscriptorium.com/index.php?q=cs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MA06</a:t>
            </a:r>
            <a:br>
              <a:rPr sz="1600"/>
            </a:br>
            <a:r>
              <a:rPr b="1" lang="cs-CZ" sz="3400" spc="-1" strike="noStrike">
                <a:solidFill>
                  <a:srgbClr val="000000"/>
                </a:solidFill>
                <a:latin typeface="Arial"/>
              </a:rPr>
              <a:t>Vyhledávání informací</a:t>
            </a:r>
            <a:r>
              <a:rPr b="0" lang="cs-CZ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. 11. 2017: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řednáška P7: Vyhledávání informací jako služba knihov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F MU, podzim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pecifické nástroj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pojování informačních zdroj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F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ozvoj vyhledávacích nástroj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ANL FUL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ystém </a:t>
            </a: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TOPI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zdálený příst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Dodávka plného text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ůjč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VS, MMV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elektronická dodávka dokument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eDD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VP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Hodnocení - kvalitativní aspek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dikátory kv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měření výkonu a kvality v knihovná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benchmarking knih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ká Britá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ěření doby přijetí online požadav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hledávání inform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dar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IC – standardy čl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rtifik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RB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frbr1"/>
          <p:cNvPicPr/>
          <p:nvPr/>
        </p:nvPicPr>
        <p:blipFill>
          <a:blip r:embed="rId1"/>
          <a:stretch/>
        </p:blipFill>
        <p:spPr>
          <a:xfrm>
            <a:off x="1979640" y="2133720"/>
            <a:ext cx="6419880" cy="35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RB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frbr2"/>
          <p:cNvPicPr/>
          <p:nvPr/>
        </p:nvPicPr>
        <p:blipFill>
          <a:blip r:embed="rId1"/>
          <a:stretch/>
        </p:blipFill>
        <p:spPr>
          <a:xfrm>
            <a:off x="2556000" y="1916280"/>
            <a:ext cx="46591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RB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frbr3"/>
          <p:cNvPicPr/>
          <p:nvPr/>
        </p:nvPicPr>
        <p:blipFill>
          <a:blip r:embed="rId1"/>
          <a:stretch/>
        </p:blipFill>
        <p:spPr>
          <a:xfrm>
            <a:off x="3708360" y="836640"/>
            <a:ext cx="3957840" cy="6021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RB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Rectangle 4" descr=""/>
          <p:cNvPicPr/>
          <p:nvPr/>
        </p:nvPicPr>
        <p:blipFill>
          <a:blip r:embed="rId1"/>
          <a:stretch/>
        </p:blipFill>
        <p:spPr>
          <a:xfrm>
            <a:off x="1523880" y="1908000"/>
            <a:ext cx="7113600" cy="4273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RB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í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áj Karla Hynka Mách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cenace Máchova Máje E. F. Burianem v D 3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filmovaný Máj režiséra F. A. Brab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rodie Máchova Máje od Josefa Vách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RB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jád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ukopis Máchova Má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ydání Máchova Má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rzo Máchova Máje vydané v roce 1845 bratrem Michal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xt Máchova Máje připravený K. Janským pro Knihovnu klasiků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klad Máchova Máje do němčiny (a jiných jazyků – každý překlad je vždy samostatným vyjádření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álečnou cenzurou pozměněná podoba Máje (např. nahrazení slov „Vůdce zhynul“ cenzurně přijatelným „Pán náš zhynul“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ibliofilské Portmanovo vydání Máchova Máje z roku 1936 („Změny ve slovosledu, vynechaná slova, verše i celé sloky...“ – dle Stejskala, 1990, záznam č. 11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ání Máje bez motta, dedikace, dedikační básně a poznamen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RB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47640" y="1484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aksimile 1. vydání Máje vydané v Praze v roce 1910 nakladatelstvím Máj jako separátní otisk z „Prémie Spolku Máje na rok 1911“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gitalizovaná verze 1. vydání Máje provedená Národní knihovn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Kobrovo vydání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Lorenzovo kolibří vydání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rožované vydání Sebraných spisů K. H. Máchy u B. Kočího v roce 1906 (vydání s celoplátěnou vazbou od téhož nakladatele a z téhož roku je samostatným provedení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ání Máchova Máje ve výbor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Jasná noc mne vzhůru vábí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 roku 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rbertovo bibliofilské vydání Máchova Máje pro Františka Koubka v počtu 10 výtisků z roku 194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tisk vydání Máchova Máje O. Pyšvejce z roku 1911 na ručním papíře Bezru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é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6000" y="1341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hledávání informací jako služba knihoven a dalších informačních institu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í informační služ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zpřístupňování informačních zdrojů a možnosti vyhledávání v n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využití vyhledávacích ná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prostředkování plného textu dokum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RB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en z výtisků 1. vydání Máje dostupný v Národní knihovně pod signaturou 54 K 1746 s chybějícími stranami 1–2 a podpisem „Jos. Kořenský“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gitalizovaná verze tohoto výtisku v databázi Kramerius s URI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kramerius.nkp.cz/kramerius/handle/ABA001/136174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emplář anonymního vydání Máje z roku 1947, který J. Stejskal zakoupil v dubnu 1947 za 36 Kč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tisk Máchova Máje s ilustracemi Jana Zrzavého vydaný v nakladatelství Nibiru v roce 2009 v ruční umělecké vazbě s číslem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y instituc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měťové instit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ov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řejné/neveřejné, národní/odborné/univerzitní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rchi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ale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z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formační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uristická informační středi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abázov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stituce veřejné správy (zák. č. 106/1999 S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y služeb (knihovny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eferenč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rtuální referenční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tejte se knihov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ešer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bibliografické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rganizační začleně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ferenční od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šeršní od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bliograficko-informační od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y služeb (knihovny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školení, instruktáž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ce knihovních zdrojů a fondů, informační zdroje, poskytovan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formace o dostupnosti informačních zdroj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aktografické inform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bibliografické inform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formace vědecko-výzkumného charakt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y rešerš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rientační X výběrová X úpln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trospekt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dnorázová X průběžná (SDI/AR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ibliografická (dokumentografická) X faktografick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dnodruhová X druhově komplex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ematická X autorsk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notovan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pecifické informační zdroj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ata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ístkové, digitalizované, elektron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y spojené s vyhledáván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a zázn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FR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ra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borné kata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yzické, virtuá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avní SK a metavyhledáva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pecifické informační zdroj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etazdro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tabáze databáz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EIZ M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EZ U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avyhledáva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resáře časopis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EZ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PEC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pecifické informační zdroj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atabá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gionáln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 Plze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igitaliz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Národní digitální knihov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merius </a:t>
            </a: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N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MZK, </a:t>
            </a: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M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Manuscripto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17-11-11T08:56:11Z</dcterms:modified>
  <cp:revision>137</cp:revision>
  <dc:subject/>
  <dc:title>Selekční jazyky</dc:title>
</cp:coreProperties>
</file>