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742E-A648-487B-A02C-6B1DA83D86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9175-2CA1-47F7-B68D-B5788C83E3F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977F-6BE5-46F4-AFB4-FA936DC1990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074-D954-4617-BA2C-B9558D907A1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3CF-D58A-49DC-8453-C37C45B2F4D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38A5-9CB8-4BD0-81C2-8A8C3DE8E48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5103-9DA8-40AE-B7F3-EDA30B1F7F7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0174-7387-4126-8FE4-C95D5592052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795F-889F-4359-85F7-07B891CD159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3388-D696-4E8B-8988-B80AB3C3D9B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1532-923B-4AA4-A8CC-B245FAD090B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E282-6673-4BDE-B478-63B4074946B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43CA-0844-4E0F-8A38-589C40809F9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57A-44B5-42BD-8642-F079257A3C1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85D0-3B13-46C7-80B8-84C53E26C5D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3675-1E03-4ACC-8699-375704B8277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1FDB-ACC0-4B9C-B854-CE4465AC46E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A69A-8A58-43A0-A370-3A7A5C86A5F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BE97-FB49-40F3-BFB6-C70C305CD21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5A9-1E0C-49FE-88F8-E86E6E9212A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59DA-941E-4070-8A29-2B7A721834C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AD2-4B9E-4D56-8412-AF84B3BD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0AD-4652-4543-B71F-CE2898E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D7C-88E3-42DC-9336-18C45DA5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643-118E-4203-A33F-E8056683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23A9-959E-4337-BE23-B56C71F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0C2A-B641-4C2B-BFA5-0D0AF420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C48-3730-43EA-8446-E074D96A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ED26-1414-417E-B8C8-36024763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F5AF-2F07-4E93-8726-118D57E5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8C06-8FC4-414C-9A84-CE6F93F1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7071-07FB-4DEA-B53C-D00E6A1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1A1-600E-4544-A309-9765F098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44DD-742C-4F31-A67C-429AD8C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74AC-589A-4169-B7F6-33FB60F6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24CF-01CE-4E82-8635-BAC19F26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0C4-748F-45A7-8C6A-F1DCE4E8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BA61-5139-4B4F-B719-EBBBC87A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674-94C3-48F3-9726-67C90E1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A34-BEAE-4D9B-B2F3-A8A4112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722-8F1D-4131-A1C4-2348816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DC8-AAB4-4072-B9BB-03CD953F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5FD-E4FC-4D18-ADE9-379E1364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2F2-EA1D-4100-AF76-BD88F39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EAC-591F-4C42-B94E-4FF1422A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BA4A-23F5-4C2A-96AB-2B6F7BCD3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6F10-0096-4BBB-98F6-32F4F7CF0F56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ull.nkp.cz/" TargetMode="External"/><Relationship Id="rId2" Type="http://schemas.openxmlformats.org/officeDocument/2006/relationships/hyperlink" Target="file:///POJI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kp.cz/sluzby/edodo" TargetMode="External"/><Relationship Id="rId2" Type="http://schemas.openxmlformats.org/officeDocument/2006/relationships/hyperlink" Target="https://www.techlib.cz/cs/2892-virtualni-polytechnicka-knihovn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pk.nkp.cz/odborne-cinnosti/mereni-vykonu-a-kvality-v-knihovnach-1/Benchmarking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zdroje.muni.cz/" TargetMode="External"/><Relationship Id="rId2" Type="http://schemas.openxmlformats.org/officeDocument/2006/relationships/hyperlink" Target="http://pez.cuni.cz/" TargetMode="External"/><Relationship Id="rId3" Type="http://schemas.openxmlformats.org/officeDocument/2006/relationships/hyperlink" Target="http://ezb.nkp.cz/" TargetMode="External"/><Relationship Id="rId4" Type="http://schemas.openxmlformats.org/officeDocument/2006/relationships/hyperlink" Target="http://pez.cuni.cz/prehled/zdroj.php?id=397&amp;lang=c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dk.cz/" TargetMode="External"/><Relationship Id="rId2" Type="http://schemas.openxmlformats.org/officeDocument/2006/relationships/hyperlink" Target="http://kramerius.nkp.cz/" TargetMode="External"/><Relationship Id="rId3" Type="http://schemas.openxmlformats.org/officeDocument/2006/relationships/hyperlink" Target="http://kramerius.mlp.cz/kramerius" TargetMode="External"/><Relationship Id="rId4" Type="http://schemas.openxmlformats.org/officeDocument/2006/relationships/hyperlink" Target="http://www.manuscriptorium.com/index.php?q=c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6</a:t>
            </a:r>
            <a:br>
              <a:rPr sz="1600"/>
            </a:b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Vyhledávání informací</a:t>
            </a: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. 11. 2017: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náška P7: Vyhledávání informací jako služba knihov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podzim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nást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pojování informačních zd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F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voj vyhledávacích nást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ANL FUL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ystém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TOPI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zdálený příst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odávka plného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ůjč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VS, MMV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lektronická dodávka dokumen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DD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VP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odnocení - kvalitativní aspek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dikátory kv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měření výkonu a kvality v knihovn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benchmarking knih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Britá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ení doby přijetí online požada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IC – standardy čl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rtifik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frbr1"/>
          <p:cNvPicPr/>
          <p:nvPr/>
        </p:nvPicPr>
        <p:blipFill>
          <a:blip r:embed="rId1"/>
          <a:stretch/>
        </p:blipFill>
        <p:spPr>
          <a:xfrm>
            <a:off x="1979640" y="2133720"/>
            <a:ext cx="6419880" cy="35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frbr2"/>
          <p:cNvPicPr/>
          <p:nvPr/>
        </p:nvPicPr>
        <p:blipFill>
          <a:blip r:embed="rId1"/>
          <a:stretch/>
        </p:blipFill>
        <p:spPr>
          <a:xfrm>
            <a:off x="2556000" y="1916280"/>
            <a:ext cx="46591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frbr3"/>
          <p:cNvPicPr/>
          <p:nvPr/>
        </p:nvPicPr>
        <p:blipFill>
          <a:blip r:embed="rId1"/>
          <a:stretch/>
        </p:blipFill>
        <p:spPr>
          <a:xfrm>
            <a:off x="3708360" y="836640"/>
            <a:ext cx="3957840" cy="60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tangle 4" descr=""/>
          <p:cNvPicPr/>
          <p:nvPr/>
        </p:nvPicPr>
        <p:blipFill>
          <a:blip r:embed="rId1"/>
          <a:stretch/>
        </p:blipFill>
        <p:spPr>
          <a:xfrm>
            <a:off x="1523880" y="1908000"/>
            <a:ext cx="7113600" cy="427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j Karla Hynka Mách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cenace Máchova Máje E. F. Burianem v D 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filmovaný Máj režiséra F. A. Brab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odie Máchova Máje od Josefa Vách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jád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kopis Máchova Má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ydání Máchova Má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rzo Máchova Máje vydané v roce 1845 bratrem Michal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xt Máchova Máje připravený K. Janským pro Knihovnu klasiků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lad Máchova Máje do němčiny (a jiných jazyků – každý překlad je vždy samostatným vyjádření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álečnou cenzurou pozměněná podoba Máje (např. nahrazení slov „Vůdce zhynul“ cenzurně přijatelným „Pán náš zhynul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bliofilské Portmanovo vydání Máchova Máje z roku 1936 („Změny ve slovosledu, vynechaná slova, verše i celé sloky...“ – dle Stejskala, 1990, záznam č. 11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í Máje bez motta, dedikace, dedikační básně a pozname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47640" y="1484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ksimile 1. vydání Máje vydané v Praze v roce 1910 nakladatelstvím Máj jako separátní otisk z „Prémie Spolku Máje na rok 1911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gitalizovaná verze 1. vydání Máje provedená Národní knihov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Kobrovo vydán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Lorenzovo kolibří vydán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ožované vydání Sebraných spisů K. H. Máchy u B. Kočího v roce 1906 (vydání s celoplátěnou vazbou od téhož nakladatele a z téhož roku je samostatným provedení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í Máchova Máje ve výbor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Jasná noc mne vzhůru vábí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roku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rbertovo bibliofilské vydání Máchova Máje pro Františka Koubka v počtu 10 výtisků z roku 194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tisk vydání Máchova Máje O. Pyšvejce z roku 1911 na ručním papíře Bezru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é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edávání informací jako služba knihoven a dalších informačních institu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informač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přístupňování informačních zdrojů a možnosti vyhledávání v n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využití vyhledávacích ná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ostředkování plného textu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en z výtisků 1. vydání Máje dostupný v Národní knihovně pod signaturou 54 K 1746 s chybějícími stranami 1–2 a podpisem „Jos. Kořenský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gitalizovaná verze tohoto výtisku v databázi Kramerius s URI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kramerius.nkp.cz/kramerius/handle/ABA001/136174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emplář anonymního vydání Máje z roku 1947, který J. Stejskal zakoupil v dubnu 1947 za 36 Kč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tisk Máchova Máje s ilustracemi Jana Zrzavého vydaný v nakladatelství Nibiru v roce 2009 v ruční umělecké vazbě s číslem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instituc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ové instit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o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é/neveřejné, národní/odborné/univerzit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al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z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cká informační střed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bázov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stituce veřejné správy (zák. č. 106/1999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služeb (knihovny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eferenč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rtuální referenč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ejte se knihov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ešer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bibliografick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rganizační začleně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ferenční od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šeršní od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bliograficko-informační od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služeb (knihovny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ení, instruktá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 knihovních zdrojů a fondů, informační zdroje, poskytovan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 o dostupnosti informačních zdro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grafické inform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ibliografické inform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 vědecko-výzkumného charakt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rešerš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ientační X výběrová X úpl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trospe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á X průběžná (SDI/AR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ibliografická (dokumentografická) X faktografick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druhová X druhově komplex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matická X autorsk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otova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informační zd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ta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ístkové, digitalizované, elektron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pojené s vyhledáv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zázn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borné kata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yzické, virtu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SK a metavyhledáva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informační zd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azd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abáze databáz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IZ M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EZ U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avyhledáv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áře časopi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EZ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PEC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informační zd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tabá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ionál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 Plz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gital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árodní digitální knihov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merius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N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MZK,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Manuscripto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7-11-11T08:56:11Z</dcterms:modified>
  <cp:revision>137</cp:revision>
  <dc:subject/>
  <dc:title>Selekční jazyky</dc:title>
</cp:coreProperties>
</file>