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10018713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0018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401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5675400" y="-360"/>
            <a:ext cx="43401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3285720" y="515520"/>
            <a:ext cx="3444840" cy="25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1001880" y="3271320"/>
            <a:ext cx="801360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6541560"/>
            <a:ext cx="43401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5675400" y="6541560"/>
            <a:ext cx="43401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1F32-8E57-43E2-B02F-4C1A6ABFCFD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5675400" y="6541920"/>
            <a:ext cx="4340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EF20-68D0-4A5D-962D-23B58038A14F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2860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001880" y="3271320"/>
            <a:ext cx="801360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86080" y="515880"/>
            <a:ext cx="3444840" cy="25844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001880" y="3271320"/>
            <a:ext cx="8013600" cy="31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Zástupný symbol pro číslo snímku 3"/>
          <p:cNvSpPr/>
          <p:nvPr/>
        </p:nvSpPr>
        <p:spPr>
          <a:xfrm>
            <a:off x="5675400" y="6541920"/>
            <a:ext cx="4340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A3E4-AD5A-4CCC-A865-BDC9F0B07F9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446-A051-4CF1-B7DB-5D9B3141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1EBC-BF13-456D-8E37-8D1EB900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2CB-8505-4C4C-AA82-DCD72447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04F-B862-492B-ADAA-4E3DB9EA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1A64-1FCA-4F1E-8BF5-0DE7CDBE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55DB-E817-4EF6-BAD4-D06F1F7D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F232-F4A1-4A80-951C-931B2CAF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8621-5198-4BB5-AABC-23124481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FC58-94A0-4CF3-9966-6A26B17C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41AB-8E1E-4320-BCFB-B93FB9F7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2404-EEAC-47D9-A8AC-CD21E7DA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669-9374-4278-A633-E6E2C19C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1A38-57F8-4DCB-B648-02EB87C3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8CC4-AA95-409C-9DF5-E8AFE0C4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B571-9ECF-4183-9F77-25C2E5AC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0E9B-A007-41DA-A533-EC0ABF70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1B17-CD5A-4129-BFA9-95002AB2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3A0-5FB2-49B6-B853-F753C5E8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85A-F2A5-48C7-A1C7-79C96001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65B-A486-40C9-B7BF-CEB2DF4A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153E-3AB0-409A-A649-88D85FCE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842-DB71-4D25-844D-6FC9A8E3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CE07-B712-49D5-A2B6-F5800944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4BA-B619-4726-96A9-3E23D8FE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9B58-823C-4164-9BF3-EF891B9A5C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46E6-CE3C-4BC2-AEEF-7BB29D52BDF8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atalog.mkkurim.cz/clavius/c1ta.htm" TargetMode="External"/><Relationship Id="rId2" Type="http://schemas.openxmlformats.org/officeDocument/2006/relationships/hyperlink" Target="http://aleph.nkp.cz/cze/nkc" TargetMode="External"/><Relationship Id="rId3" Type="http://schemas.openxmlformats.org/officeDocument/2006/relationships/hyperlink" Target="http://aleph.nkp.cz/cze/nkc" TargetMode="External"/><Relationship Id="rId4" Type="http://schemas.openxmlformats.org/officeDocument/2006/relationships/hyperlink" Target="file:///tez%20syn%2001.pdf" TargetMode="External"/><Relationship Id="rId5" Type="http://schemas.openxmlformats.org/officeDocument/2006/relationships/hyperlink" Target="file:///tez%20syn%2002.pdf" TargetMode="External"/><Relationship Id="rId6" Type="http://schemas.openxmlformats.org/officeDocument/2006/relationships/hyperlink" Target="file:///tez%20syn%2003.pdf" TargetMode="External"/><Relationship Id="rId7" Type="http://schemas.openxmlformats.org/officeDocument/2006/relationships/hyperlink" Target="file:///tez%20syn%2004.pdf" TargetMode="External"/><Relationship Id="rId8" Type="http://schemas.openxmlformats.org/officeDocument/2006/relationships/hyperlink" Target="file:///tez%20syn%2005%20systematika.pdf" TargetMode="External"/><Relationship Id="rId9" Type="http://schemas.openxmlformats.org/officeDocument/2006/relationships/hyperlink" Target="file:///tez%20syn%2005%20hnizda.pdf" TargetMode="External"/><Relationship Id="rId10" Type="http://schemas.openxmlformats.org/officeDocument/2006/relationships/hyperlink" Target="file:///tezaurus%20inf%2001.pdf" TargetMode="External"/><Relationship Id="rId11" Type="http://schemas.openxmlformats.org/officeDocument/2006/relationships/hyperlink" Target="file:///tezaurus%20inf%2001%20rot%20rejstrik.pdf" TargetMode="External"/><Relationship Id="rId12" Type="http://schemas.openxmlformats.org/officeDocument/2006/relationships/hyperlink" Target="file:///tezaurus%20inf%2002.pdf" TargetMode="External"/><Relationship Id="rId13" Type="http://schemas.openxmlformats.org/officeDocument/2006/relationships/hyperlink" Target="file:///tezaurus%20inf%2002%20hierarchie.pdf" TargetMode="External"/><Relationship Id="rId14" Type="http://schemas.openxmlformats.org/officeDocument/2006/relationships/hyperlink" Target="http://eurovoc.europa.eu/drupal/?q=cs" TargetMode="External"/><Relationship Id="rId15" Type="http://schemas.openxmlformats.org/officeDocument/2006/relationships/hyperlink" Target="file:///MDT%20syst%2001.pdf" TargetMode="External"/><Relationship Id="rId16" Type="http://schemas.openxmlformats.org/officeDocument/2006/relationships/hyperlink" Target="file:///MDT%20abc%2001.pdf" TargetMode="External"/><Relationship Id="rId17" Type="http://schemas.openxmlformats.org/officeDocument/2006/relationships/hyperlink" Target="file:///MDT%20abc%2001.pdf" TargetMode="External"/><Relationship Id="rId18" Type="http://schemas.openxmlformats.org/officeDocument/2006/relationships/hyperlink" Target="file:///MDT%20syst%2002.pdf" TargetMode="External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BA11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10. 2018: Základní pojmy, vztahy, terminologie SJ (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F MU, podzim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23640" y="190440"/>
            <a:ext cx="6410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říklady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68360" y="1773000"/>
            <a:ext cx="626616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líčová slov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´Předmětová hes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říklad 1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7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Příklad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Tezau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Tezaury coby synonymické slovník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Příklad 1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Příklad 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Příklad 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Příklad 4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Příklad 5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9"/>
              </a:rPr>
              <a:t>Příklad 6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Informační tezaury (tezaury coby řízené slovník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32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0"/>
              </a:rPr>
              <a:t>Příklad 1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1"/>
              </a:rPr>
              <a:t>Příklad 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2"/>
              </a:rPr>
              <a:t>Příklad 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200" spc="-1" strike="noStrike" u="sng">
                <a:solidFill>
                  <a:srgbClr val="006666"/>
                </a:solidFill>
                <a:uFillTx/>
                <a:latin typeface="Arial"/>
                <a:hlinkClick r:id="rId13"/>
              </a:rPr>
              <a:t>Příklad 4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300" spc="-1" strike="noStrike" u="sng">
                <a:solidFill>
                  <a:srgbClr val="006666"/>
                </a:solidFill>
                <a:uFillTx/>
                <a:latin typeface="Arial"/>
                <a:hlinkClick r:id="rId14"/>
              </a:rPr>
              <a:t>Příklad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lasifik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MD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3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5"/>
              </a:rPr>
              <a:t>Příklad 1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6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7"/>
              </a:rPr>
              <a:t>Příklad 2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400" spc="-1" strike="noStrike" u="sng">
                <a:solidFill>
                  <a:srgbClr val="006666"/>
                </a:solidFill>
                <a:uFillTx/>
                <a:latin typeface="Arial"/>
                <a:hlinkClick r:id="rId18"/>
              </a:rPr>
              <a:t>Příklad 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klad 4 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25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Oborové třídění KK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326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0" y="1523520"/>
            <a:ext cx="64947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Charakter selekčního jazyka z hlediska lingvistiky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Základní lingvistické pojmy (výběr)</a:t>
            </a: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68360" y="1773000"/>
            <a:ext cx="626616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komunikace, lingvistika, lexikografie, lexikologie, terminologie, sémiotika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jazyk (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přirozený jazyk, umělý jazyk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 formální jazyk), metajazy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symbol, znak, pojem (intenze, extenze, denotát), význam, smysl, kód, </a:t>
            </a:r>
            <a:r>
              <a:rPr b="0" i="1" lang="cs-CZ" sz="1900" spc="-1" strike="noStrike">
                <a:solidFill>
                  <a:srgbClr val="000000"/>
                </a:solidFill>
                <a:latin typeface="Arial"/>
              </a:rPr>
              <a:t>sémantický trojúhelník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 arbitrárnost zna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gramatika, morfologie, synt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lexikum, lexikální jednotka, slovo, sousloví, inverze, termí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homonymie, homofonie, homografie, polysémie, synonymie, antonymi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hyponymie, hyperonymie, kohyponymie, meronymie, holonym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ýklad těchto i dalších termínů, se kterými budeme pracovat, najdete v databázi TDKIV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émantický trojúhlení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 mezi pojmem, znakem a předmětem (skutečností) vyjadřuje sémantický (sémiotický) trojúhelní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rázek 3" descr=""/>
          <p:cNvPicPr/>
          <p:nvPr/>
        </p:nvPicPr>
        <p:blipFill>
          <a:blip r:embed="rId1"/>
          <a:stretch/>
        </p:blipFill>
        <p:spPr>
          <a:xfrm>
            <a:off x="3059280" y="3213000"/>
            <a:ext cx="323532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Charakter SJ z hlediska lingvistiky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24000" y="1904760"/>
            <a:ext cx="6486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irozený jazyk (PJ) má dvě základní složky: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lovník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(lexikum) a pravidla, jak s tímto slovníkem nakládat, tedy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gramatiku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 Součástí gramatiky je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morfologi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tedy nauka o tom, jak se slova ohýbají (flexe) nebo tvoří (slovotvorba), a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tedy způsob, jakým se slova spojují do vě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dobně i SJ má tyto tři složky, tedy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lovník, morfologii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syntax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Charakter SJ z hlediska lingvistiky 2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50560" y="1447920"/>
            <a:ext cx="7093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rovnání tří základních složek SJ a PJ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xiku (slovníku) PJ odpovídají u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řízený slovní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klasifikační tabu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u nebo slovnímu spojení v PJ odpovídá u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ořádací zn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terý je u předmětových SJ vyjádřen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lexikální jednotk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u systematických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klasifikačních zna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rfologii (přesněji její části, slovotvorbě, protože flexi nelze u SJ uplatnit) PJ odpovídají u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avidla pro tvorbu pořádacích zna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zde je jednou z podstatných otázek především míra prekoordinace/postkoordinace pořádacích zna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xi (skladbě) PJ odpovídají u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avidla pro indexaci (klasifikaci) a formulaci dotazu při vyhledává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tedy pravidla pro spojování a kombinaci pořádacích zna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tě v PJ odpovídá v SJ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elekční obraz dokument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selekční obraz dota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říklad normativní defini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23640" y="1905120"/>
            <a:ext cx="64803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ČSN 01 0193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„Selekční jazyk je řízený soubor lexikálních jednotek vybraných z přirozeného jazyka a užívaných k vyjádření témat dokumentů“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Korigovaná definice (pracovní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„Selekční jazyk je umělý jazyk určený pro vyjádření obsahu dokumentů. Skládá se ze slovníku, tj. řízeného (strukturovaného) souboru pořádacích znaků, dále pravidel jejich tvorby a pravidel jejich užívání při věcném zpracování a vyhledávání dokumentů.“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7-09-29T05:15:37Z</cp:lastPrinted>
  <dcterms:modified xsi:type="dcterms:W3CDTF">2018-10-06T02:34:00Z</dcterms:modified>
  <cp:revision>204</cp:revision>
  <dc:subject/>
  <dc:title>Selekční jazyky</dc:title>
</cp:coreProperties>
</file>