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57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880" y="3271320"/>
            <a:ext cx="801360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65415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5400" y="65415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E359-B340-41D6-BD85-F01761C1FB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75400" y="6541920"/>
            <a:ext cx="4340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F3D5-4999-4D0D-AA56-603BB2E6BA8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001880" y="3271320"/>
            <a:ext cx="801360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001880" y="3271320"/>
            <a:ext cx="801360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5675400" y="6541920"/>
            <a:ext cx="4340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907D-5A75-4499-9216-D3F7331AD34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1B8-7D66-4894-946B-B3D3DA0C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E5A-F275-4738-B93D-5AA8DB73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80C-CFF5-4A86-BB24-CC24B8FC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275-4FAF-4DF3-9A4C-D53361E7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BE06-9D45-4FF7-996D-90C76B1F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D176-E3BF-4FBA-BAAC-E86AE76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B2B0-8335-4370-96D4-31B9703A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5263-5D62-44D6-92A0-EF6BC3CF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912F-1C15-494A-BE90-86FA3D77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FB92-A55B-4634-975B-0430CCFB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7C1A-FDFE-4F2E-A550-FB243D2C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E1D-EEDD-440F-9857-F7C969E2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8415-09EC-4069-97B4-E36857E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D4B0-4753-44AA-82F6-3CC629F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683-482A-4446-A3F1-ADCAB004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A9A6-6085-438E-8C6B-6A779483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2673-E0AA-4D57-95B3-E7D57FBD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48E-2C65-4EC3-903A-67D01528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821-9350-4D1C-991A-D56401B9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C56-728E-4D8C-B1E9-FF896478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CAF-4059-40F2-8002-47DD1E6E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FFF-375B-45FA-9FAF-880EE8C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490-2CC1-471E-A9B8-EB96798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D94-61DE-406C-98FC-0C26088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08FA-3D7A-4E7D-87C8-B7E3E243BD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E6A-4A9C-4DF3-BC7D-85EBEE80ABB8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atalog.mkkurim.cz/clavius/c1ta.htm" TargetMode="External"/><Relationship Id="rId2" Type="http://schemas.openxmlformats.org/officeDocument/2006/relationships/hyperlink" Target="http://aleph.nkp.cz/cze/nkc" TargetMode="External"/><Relationship Id="rId3" Type="http://schemas.openxmlformats.org/officeDocument/2006/relationships/hyperlink" Target="http://aleph.nkp.cz/cze/nkc" TargetMode="External"/><Relationship Id="rId4" Type="http://schemas.openxmlformats.org/officeDocument/2006/relationships/hyperlink" Target="file:///tez%20syn%2001.pdf" TargetMode="External"/><Relationship Id="rId5" Type="http://schemas.openxmlformats.org/officeDocument/2006/relationships/hyperlink" Target="file:///tez%20syn%2002.pdf" TargetMode="External"/><Relationship Id="rId6" Type="http://schemas.openxmlformats.org/officeDocument/2006/relationships/hyperlink" Target="file:///tez%20syn%2003.pdf" TargetMode="External"/><Relationship Id="rId7" Type="http://schemas.openxmlformats.org/officeDocument/2006/relationships/hyperlink" Target="file:///tez%20syn%2004.pdf" TargetMode="External"/><Relationship Id="rId8" Type="http://schemas.openxmlformats.org/officeDocument/2006/relationships/hyperlink" Target="file:///tez%20syn%2005%20systematika.pdf" TargetMode="External"/><Relationship Id="rId9" Type="http://schemas.openxmlformats.org/officeDocument/2006/relationships/hyperlink" Target="file:///tez%20syn%2005%20hnizda.pdf" TargetMode="External"/><Relationship Id="rId10" Type="http://schemas.openxmlformats.org/officeDocument/2006/relationships/hyperlink" Target="file:///tezaurus%20inf%2001.pdf" TargetMode="External"/><Relationship Id="rId11" Type="http://schemas.openxmlformats.org/officeDocument/2006/relationships/hyperlink" Target="file:///tezaurus%20inf%2001%20rot%20rejstrik.pdf" TargetMode="External"/><Relationship Id="rId12" Type="http://schemas.openxmlformats.org/officeDocument/2006/relationships/hyperlink" Target="file:///tezaurus%20inf%2002.pdf" TargetMode="External"/><Relationship Id="rId13" Type="http://schemas.openxmlformats.org/officeDocument/2006/relationships/hyperlink" Target="file:///tezaurus%20inf%2002%20hierarchie.pdf" TargetMode="External"/><Relationship Id="rId14" Type="http://schemas.openxmlformats.org/officeDocument/2006/relationships/hyperlink" Target="http://eurovoc.europa.eu/drupal/?q=cs" TargetMode="External"/><Relationship Id="rId15" Type="http://schemas.openxmlformats.org/officeDocument/2006/relationships/hyperlink" Target="file:///MDT%20syst%2001.pdf" TargetMode="External"/><Relationship Id="rId16" Type="http://schemas.openxmlformats.org/officeDocument/2006/relationships/hyperlink" Target="file:///MDT%20abc%2001.pdf" TargetMode="External"/><Relationship Id="rId17" Type="http://schemas.openxmlformats.org/officeDocument/2006/relationships/hyperlink" Target="file:///MDT%20abc%2001.pdf" TargetMode="External"/><Relationship Id="rId18" Type="http://schemas.openxmlformats.org/officeDocument/2006/relationships/hyperlink" Target="file:///MDT%20syst%2002.pdf" TargetMode="External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10. 2018: Základní pojmy, vztahy, terminologie SJ (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F MU, podzim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íklady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68360" y="1773000"/>
            <a:ext cx="62661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líčová slo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´Předmětová hes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říklad 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7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Příklad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Tezau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Tezaury coby synonymické slovník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Příklad 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říklad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Příklad 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Příklad 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Příklad 5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Příklad 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Informační tezaury (tezaury coby řízené slovník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2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Příklad 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Příklad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Příklad 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3"/>
              </a:rPr>
              <a:t>Příklad 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300" spc="-1" strike="noStrike" u="sng">
                <a:solidFill>
                  <a:srgbClr val="006666"/>
                </a:solidFill>
                <a:uFillTx/>
                <a:latin typeface="Arial"/>
                <a:hlinkClick r:id="rId14"/>
              </a:rPr>
              <a:t>Příklad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MD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5"/>
              </a:rPr>
              <a:t>Příklad 1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6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7"/>
              </a:rPr>
              <a:t>Příklad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8"/>
              </a:rPr>
              <a:t>Příklad 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 4 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Oborové třídění KK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2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1523520"/>
            <a:ext cx="64947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harakter selekčního jazyka z hlediska lingvistik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Základní lingvistické pojmy (výběr)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360" y="1773000"/>
            <a:ext cx="62661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omunikace, lingvistika, lexikografie, lexikologie, terminologie, sémiotika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azyk (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řirozený jazyk, umělý jazyk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formální jazyk), metajazy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ymbol, znak, pojem (intenze, extenze, denotát), význam, smysl, kód,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sémantický trojúhelník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arbitrárnost zna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gramatika, morfologie, syn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lexikum, lexikální jednotka, slovo, sousloví, inverze, termí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homonymie, homofonie, homografie, polysémie, synonymie, antonymi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hyponymie, hyperonymie, kohyponymie, meronymie, holonym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ýklad těchto i dalších termínů, se kterými budeme pracovat, najdete v databázi TDKIV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émantický trojúhlení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mezi pojmem, znakem a předmětem (skutečností) vyjadřuje sémantický (sémiotický) trojúhelní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ázek 3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323532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 SJ z hlediska lingvistiky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24000" y="1904760"/>
            <a:ext cx="6486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rozený jazyk (PJ) má dvě základní složky: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lovník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lexikum) a pravidla, jak s tímto slovníkem nakládat, tedy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gramatiku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 Součástí gramatiky je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morfologi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tedy nauka o tom, jak se slova ohýbají (flexe) nebo tvoří (slovotvorba), a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tedy způsob, jakým se slova spojují do vě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obně i SJ má tyto tři složky, tedy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lovník, morfologii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synta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 SJ z hlediska lingvistiky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0560" y="1447920"/>
            <a:ext cx="7093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rovnání tří základních složek SJ a PJ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xiku (slovníku) PJ odpovídají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lasifikační tabu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u nebo slovnímu spojení v PJ odpovídá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ořádac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ý je u předmětových SJ vyjádřen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exikální jedno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u systematických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lasifikačních zna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rfologii (přesněji její části, slovotvorbě, protože flexi nelze u SJ uplatnit) PJ odpovídají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avidla pro tvorbu pořádacích zna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zde je jednou z podstatných otázek především míra prekoordinace/postkoordinace pořádacích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xi (skladbě) PJ odpovídají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avidla pro indexaci (klasifikaci) a formulaci dotazu při vyhledává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edy pravidla pro spojování a kombinaci pořádacích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ě v PJ odpovídá v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elekční obraz dokument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selekční obraz dot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íklad normativní defin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23640" y="1905120"/>
            <a:ext cx="64803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ČSN 01 0193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„Selekční jazyk je řízený soubor lexikálních jednotek vybraných z přirozeného jazyka a užívaných k vyjádření témat dokumentů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Korigovaná definice (pracovní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„Selekční jazyk je umělý jazyk určený pro vyjádření obsahu dokumentů. Skládá se ze slovníku, tj. řízeného (strukturovaného) souboru pořádacích znaků, dále pravidel jejich tvorby a pravidel jejich užívání při věcném zpracování a vyhledávání dokumentů.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7-09-29T05:15:37Z</cp:lastPrinted>
  <dcterms:modified xsi:type="dcterms:W3CDTF">2018-10-06T02:34:00Z</dcterms:modified>
  <cp:revision>204</cp:revision>
  <dc:subject/>
  <dc:title>Selekční jazyky</dc:title>
</cp:coreProperties>
</file>