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AE6-2011-41AE-BB11-F4E5C8B332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F30A-204E-4B98-91F0-2012A4AAC29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364-C906-47B6-B62B-9379E26D457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DC2-A4B5-4569-8592-2D271F11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57E-F357-408E-A044-4AD05DE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087-8694-46EF-BAB4-03515A27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FE4-0F5F-4CAF-A609-4A030067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80B-2581-428B-894F-4A67B460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2561-6A1C-4DDF-887D-91FAB5A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3720-859A-4C32-BCAC-DE3BA628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F0EE-B3BA-486F-9B2F-3205D6EA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3F0D-5829-4F83-B288-6434C50D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F666-E9D1-4B20-9C75-D5FF6E73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1DC4-7D98-4F75-A6F5-02608A8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895-1ADD-4E03-927F-706897C9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568D-9418-41D0-80FB-BB8E761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2C3E-DC74-4764-BB90-F284A2D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7205-883F-4CEB-ACA1-87578C9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8144-7517-4807-A356-EF1D9FB7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D92-1D9E-4CAE-9544-F8B99593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231-6819-4169-A338-DB1BAA2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F70-2D30-48D1-9465-DC4D779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D44-CBF3-4516-8D7F-3F3DB56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919-3204-4157-8796-95CEFD5C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CE7-102E-42A6-A4AA-D4B6195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5FF-3A96-4938-B1DD-4B3369A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A2B-2E62-40D1-B09E-9703DAC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1BF7-B1A2-4490-9CB7-BD50A84E29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2C8-1E60-4DC8-88B1-EAE3DF23E7B5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s://vufind.lib.cas.cz/ustav/KNAV/Search/Advanced" TargetMode="External"/><Relationship Id="rId5" Type="http://schemas.openxmlformats.org/officeDocument/2006/relationships/hyperlink" Target="http://www.ncbi.nlm.nih.gov/pubmed/advanc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. 11. 2018: Přirozený jazyk vs řízený slovník z hlediska věcného vyhled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 (tezaurus, seznam předmětových hesel nebo klíčových slov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,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rtovaný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ční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sněmovní t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11-30T07:09:33Z</cp:lastPrinted>
  <dcterms:modified xsi:type="dcterms:W3CDTF">2018-12-01T09:15:03Z</dcterms:modified>
  <cp:revision>167</cp:revision>
  <dc:subject/>
  <dc:title>Selekční jazyky</dc:title>
</cp:coreProperties>
</file>