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816B-FE8D-4372-B29D-C1B28CE2BF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123A-B2FE-4184-8BDA-F4923C5C3BC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F3E2-6D55-42B0-8A28-57BD9C3DB7F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623-EBE1-43D9-94F0-7D8A073C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0FF-73CA-47D9-B605-9B1DB8C0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02A-6FE5-4B34-B2A8-F16A5CCC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3C4-E9FF-44EE-BD36-C57BB779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8B7A-B3F9-4AA0-A733-6682ABB9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06C9-42D2-4C63-83DD-A4F02364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A502-EB3A-4173-B5CA-2031DEF1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D560-F16F-40F6-B6E8-BB7A01F5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67A2-EC43-448F-A585-29EF03F9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4B22-8D28-4604-8B4C-EF71A7FA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E386-937D-4F0E-95FD-787281E8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234-174C-46AC-82F7-FC557C5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34C1-2D86-42AF-B7B0-15DFE8B0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705E-167F-4846-BDC4-557C9DF6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67CB-5B46-404D-BB42-1A073CDB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6DF8-B1FF-41A1-A41E-6C2DD686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C530-54AD-49DC-91EE-D83CC5D1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B4A-669E-4D87-8332-6C346077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B17-2A4D-47F2-95B4-00DB742C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DEC-700E-48F9-AC8F-EB4EFFD0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FC4-1E7C-4813-A074-75D3B3D7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DBC-4B15-48CD-8926-25165D4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7F0-57B1-4871-8E1E-92046F05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70D-64B7-4737-A97E-2E9A150E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47FB-2A3C-4641-B645-CBE35BE61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CD83-16D6-4214-82F0-8E2398C11A63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b.cas.cz/online-katalogy/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s://vufind.lib.cas.cz/ustav/KNAV/Search/Advanced" TargetMode="External"/><Relationship Id="rId5" Type="http://schemas.openxmlformats.org/officeDocument/2006/relationships/hyperlink" Target="http://www.ncbi.nlm.nih.gov/pubmed/advanc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0. 11. 2018: Přirozený jazyk vs řízený slovník z hlediska věcného vyhled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množina lexikální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specifické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(v rámci SOD) není potř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blízkosti zadaných výrazů (fr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segmentem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élka SOD /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á (selec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á (exhaus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rimova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kt, anotace, výtah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komprim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ý text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řístupný všem typům uži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ečné znalosti systému však uživatel může být frustrován omezeným nebo naopak nadměrný počtem vyhledaným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žadavky na přesnost/úpl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podle konkrétních podmínek zvyšuje 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úp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né hodnocení ŘS vs F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560" y="1676160"/>
            <a:ext cx="65595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edávání pomocí řízeného slovníku i v plném textu má své výhody i nevýh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použití je třeba zvažovat podle konkrétních potř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bridní systé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ý text i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ovaný dotaz – systém T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vy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erní modely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torov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entní sémantické index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, jednoduch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očilé, podrobn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ý slovník (tezaurus, seznam předmětových hesel nebo klíčových slov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dostupný: KN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samostatně: NTK (P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při vyhledávání: NKP, 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otextové (fulltextové)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ertovaný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venční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blémy při věcném vyhledávání</a:t>
            </a:r>
            <a:br>
              <a:rPr sz="34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ohledem na přirozený jazyk a řízený slovní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 ovlivňující vyhledávání (výběrov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e slovník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vyhledávání nových termínů (pojmů, té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délkou SOD neb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uživat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přesnost a/nebo úp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346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předjímat potřeby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3640" y="1905120"/>
            <a:ext cx="317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yhledávání bez vl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kojivě řeší z hlediska textu i z hlediska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andardních systémech nutnost formulace několika dota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sněmovní ti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ní latentní sémant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řeš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účinné: antropolog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ivátor slovních 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ynonymie, homonymie, polysémie at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 a další jazykové jevy vyřešen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zohlednit při formulaci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homonyma (objetí, travička, župan, obča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matická homonyma (ženu, j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obecné úrovni obtížně řeš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aradigmatické vztahy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é vs specifické poj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i v ŘS problémy s vyjádřením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nz -&gt; slitina ko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esta -&gt; typ vrcholu k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ové termíny, pojmy,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blémů, ovšem s rozptylem daným odlišnostmi mezi jednotlivými autory i terminologickým výv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8-11-30T07:09:33Z</cp:lastPrinted>
  <dcterms:modified xsi:type="dcterms:W3CDTF">2018-12-01T09:15:03Z</dcterms:modified>
  <cp:revision>167</cp:revision>
  <dc:subject/>
  <dc:title>Selekční jazyky</dc:title>
</cp:coreProperties>
</file>