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86800" cy="100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84400" cy="50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902040" y="-360"/>
            <a:ext cx="2984400" cy="50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9040" y="4757760"/>
            <a:ext cx="5510160" cy="45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0" y="9513720"/>
            <a:ext cx="2984400" cy="5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902040" y="9513720"/>
            <a:ext cx="2984400" cy="5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CA8CE-5E03-4E08-ABC1-2A919454E551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902040" y="951372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0D9C2-01AE-47E3-B181-00E821D882F8}" type="slidenum">
              <a:rPr b="0" lang="cs-CZ" sz="12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9040" y="4757760"/>
            <a:ext cx="5510160" cy="45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15E12-0552-46D4-8435-00F53A83B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4703B-71B8-491C-9F50-AA3E08121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CAC51-A701-4687-8418-57D380C9F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D68AB-76D3-4A7F-BB30-23FDC82DB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16E65-C5E3-4575-BDEC-90C1674CC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8EB49-46C4-4F46-A5C3-23F034146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2F5B5-2B65-4D03-8222-E248CD965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E5F9E-B077-4855-9CC9-183BA3B47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BF03B-3D75-466B-9866-FE2E3FF90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D611C-2389-436E-B866-01D3583F6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475F8-CFFA-480E-8D7E-B332D7135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CAA03-7F60-4C2F-8E3F-E20C35109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875FC-085E-4DBB-B892-97610453C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B3D38-B73B-4097-88A5-DD088AC45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14125-43EF-4CB9-932D-58153DC45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0C80D-913C-4683-B420-207D27464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787E0-3ED1-4E97-B2CE-2304B25F6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94E7F-2807-4BF1-A62B-7EB87DD21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DABD0-9675-467E-BABC-1357AE28D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2B3EE-E3B0-4DE0-8C3C-996122A8B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E1B4A-43C6-4BFF-B51C-59536FDBC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FD041-212D-4687-85C1-7AE23340F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D5130-95D4-4DB4-A87E-F59C1B18B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C2D76-22E5-49CF-920D-2D8A0756B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8DE38-35E9-4487-9336-D8AE993CF9A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Line 7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2" name="Oval 8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3" name="Oval 9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4" name="Oval 10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C46A2-764C-494D-A07A-2084729EB612}" type="slidenum">
              <a:rPr b="0" lang="cs-CZ" sz="14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126172@mail.muni.cz" TargetMode="External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s://eric.ed.gov/" TargetMode="External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iso.org/" TargetMode="External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5.jpeg"/><Relationship Id="rId9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s://vufind.techlib.cz/" TargetMode="External"/><Relationship Id="rId2" Type="http://schemas.openxmlformats.org/officeDocument/2006/relationships/hyperlink" Target="http://www.obchodnirejstrik.cz/" TargetMode="External"/><Relationship Id="rId3" Type="http://schemas.openxmlformats.org/officeDocument/2006/relationships/hyperlink" Target="http://cz.udc-hub.com/cs/login.php" TargetMode="External"/><Relationship Id="rId4" Type="http://schemas.openxmlformats.org/officeDocument/2006/relationships/hyperlink" Target="https://www.czso.cz/csu/czso/klasifikace_ekonomickych_cinnosti_cz_nace" TargetMode="External"/><Relationship Id="rId5" Type="http://schemas.openxmlformats.org/officeDocument/2006/relationships/hyperlink" Target="http://www.census.gov/eos/www/naics/" TargetMode="External"/><Relationship Id="rId6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s://ezdroje.muni.cz/prehled/zdroj.php?lang=cs&amp;id=350" TargetMode="External"/><Relationship Id="rId2" Type="http://schemas.openxmlformats.org/officeDocument/2006/relationships/hyperlink" Target="http://www.ncbi.nlm.nih.gov/pubmed/" TargetMode="External"/><Relationship Id="rId3" Type="http://schemas.openxmlformats.org/officeDocument/2006/relationships/hyperlink" Target="http://www.theiet.org/resources/inspec/" TargetMode="External"/><Relationship Id="rId4" Type="http://schemas.openxmlformats.org/officeDocument/2006/relationships/hyperlink" Target="http://eric.ed.gov/" TargetMode="External"/><Relationship Id="rId5" Type="http://schemas.openxmlformats.org/officeDocument/2006/relationships/hyperlink" Target="https://ezdroje.muni.cz/prehled/zdroj.php?lang=cs&amp;id=84" TargetMode="External"/><Relationship Id="rId6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tech.jib.cz/" TargetMode="External"/><Relationship Id="rId2" Type="http://schemas.openxmlformats.org/officeDocument/2006/relationships/hyperlink" Target="http://www.jib.cz/" TargetMode="External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xx.lanl.gov/" TargetMode="External"/><Relationship Id="rId2" Type="http://schemas.openxmlformats.org/officeDocument/2006/relationships/hyperlink" Target="https://ezdroje.muni.cz/prehled/zdroj.php?lang=cs&amp;id=58" TargetMode="External"/><Relationship Id="rId3" Type="http://schemas.openxmlformats.org/officeDocument/2006/relationships/hyperlink" Target="https://ezdroje.muni.cz/prehled/zdroj.php?lang=cs&amp;id=58" TargetMode="External"/><Relationship Id="rId4" Type="http://schemas.openxmlformats.org/officeDocument/2006/relationships/hyperlink" Target="https://ezdroje.muni.cz/prehled/zdroj.php?lang=cs&amp;id=58" TargetMode="External"/><Relationship Id="rId5" Type="http://schemas.openxmlformats.org/officeDocument/2006/relationships/hyperlink" Target="http://www.wipo.int/classifications/ipc/en/" TargetMode="External"/><Relationship Id="rId6" Type="http://schemas.openxmlformats.org/officeDocument/2006/relationships/hyperlink" Target="http://brevets-patents.ic.gc.ca/opic-cipo/cpd/eng/introduction.html" TargetMode="External"/><Relationship Id="rId7" Type="http://schemas.openxmlformats.org/officeDocument/2006/relationships/hyperlink" Target="https://www.j-platpat.inpit.go.jp/web/all/top/BTmTopEnglishPage" TargetMode="External"/><Relationship Id="rId8" Type="http://schemas.openxmlformats.org/officeDocument/2006/relationships/hyperlink" Target="https://www.j-platpat.inpit.go.jp/web/all/top/BTmTopEnglishPage" TargetMode="External"/><Relationship Id="rId9" Type="http://schemas.openxmlformats.org/officeDocument/2006/relationships/hyperlink" Target="https://www.j-platpat.inpit.go.jp/web/all/top/BTmTopEnglishPage" TargetMode="External"/><Relationship Id="rId10" Type="http://schemas.openxmlformats.org/officeDocument/2006/relationships/hyperlink" Target="https://www.j-platpat.inpit.go.jp/web/all/top/BTmTopEnglishPage" TargetMode="External"/><Relationship Id="rId11" Type="http://schemas.openxmlformats.org/officeDocument/2006/relationships/hyperlink" Target="http://www.diss.fu-berlin.de/diss/content/below/index.xml" TargetMode="External"/><Relationship Id="rId12" Type="http://schemas.openxmlformats.org/officeDocument/2006/relationships/hyperlink" Target="http://theses.cz/" TargetMode="External"/><Relationship Id="rId1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050560" y="1371600"/>
            <a:ext cx="709308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VIKBA11</a:t>
            </a:r>
            <a:br>
              <a:rPr sz="1600"/>
            </a:br>
            <a:r>
              <a:rPr b="1" lang="cs-CZ" sz="2600" spc="-1" strike="noStrike">
                <a:solidFill>
                  <a:srgbClr val="000000"/>
                </a:solidFill>
                <a:latin typeface="Arial"/>
              </a:rPr>
              <a:t>Selekční jazyk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2133360" y="3733920"/>
            <a:ext cx="6476760" cy="27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Arial"/>
              </a:rPr>
              <a:t>7. 12. 2018: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elekční jazyky a věcné vyhledávání; standardizace a harmonizace SJ (P1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FF MU, podzim 201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Mgr. Josef Schwar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 u="sng">
                <a:solidFill>
                  <a:srgbClr val="006666"/>
                </a:solidFill>
                <a:uFillTx/>
                <a:latin typeface="Arial"/>
                <a:hlinkClick r:id="rId1"/>
              </a:rPr>
              <a:t>126172@mail.muni.c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7631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Arial"/>
              </a:rPr>
              <a:t>Základní metody věcného vyhledávání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907640" y="1371600"/>
            <a:ext cx="752508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336666"/>
              </a:buClr>
              <a:buSzPct val="9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Příklad (úkol č. 7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V databázi ERIC (volně dostupná na </a:t>
            </a:r>
            <a:r>
              <a:rPr b="0" lang="cs-CZ" sz="1400" spc="-1" strike="noStrike" u="sng">
                <a:solidFill>
                  <a:srgbClr val="006666"/>
                </a:solidFill>
                <a:uFillTx/>
                <a:latin typeface="Arial"/>
                <a:hlinkClick r:id="rId1"/>
              </a:rPr>
              <a:t>https://eric.ed.gov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) vyhledejte dokumenty, který se týkají tématu </a:t>
            </a:r>
            <a:r>
              <a:rPr b="0" i="1" lang="cs-CZ" sz="1400" spc="-1" strike="noStrike">
                <a:solidFill>
                  <a:srgbClr val="000000"/>
                </a:solidFill>
                <a:latin typeface="Arial"/>
              </a:rPr>
              <a:t>vyučování angličtiny jako druhého jazyka za pomoci technologie interaktivního videa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. Rešeršní dotaz formulujte pomocí deskriptorů tezauru ERI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VZOROVÉ (AUTORSKÉ) ŘEŠENÍ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Pojmová analýza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vyučování, výuka, učení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angličti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druhý (cizí) jazy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interaktivní vide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Vybrané deskriptory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llege Second Language Progr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Language Instru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Language Progr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Language Learn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glish (Second Languag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active Vide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Rešeršní dotaz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scriptor:(english AND ("second language") AND (programs OR learning OR 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struction) AND "interactive video"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Počet záznamů: 4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2923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Arial"/>
              </a:rPr>
              <a:t>Standardizace a harmonizace SJ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Standardizac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692360" y="155736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fakto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ostoucí počet informačních zdrojů v elektronické podob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ostoucí počet sekundárních dokument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ostoucí počet přejímaných bbg záznam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ozvoj digitálních knihoven a online služeb ve vícejazyčném prostřed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smysl a úč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ýměna informac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úspora práce, času a lidských zdroj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usnadnění věcného přístupu k dokumentům a informací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Arial"/>
              </a:rPr>
              <a:t>Standardizac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763640" y="14479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problém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borové zaměření S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truktura řízeného slovník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pecifičnost L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íra postkoordinace/prekooordin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ícejazyč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Arial"/>
              </a:rPr>
              <a:t>Standardizac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619280" y="14479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metody a prostředk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tandardizace S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a úrovni lexi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33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apř. převzetí tezauru nebo jeho čás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336666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zrušená ČSN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01 0180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 (MDT-výběr znaků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a úrovni struktu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33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apř. definice vztahů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336666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ČSN 010193; ČSN 01 0172; zrušená ČSN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01 0188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 (tvorba P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a úrovni morfolog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33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apř. pravidla pro tvorbu hesel LC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336666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ČSN 010193; ČSN 01 0172; zrušená ČSN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01 0188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 (tvorba P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a úrovni syntax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33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apř. indexační pravidla nebo standardizace metod obsahové analýz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336666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ČSN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SO 5963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Arial"/>
              </a:rPr>
              <a:t>Standardizac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835280" y="14479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metody a prostředk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tandardizace formát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apř. UNIMARC/Auto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ěcné aut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institu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006666"/>
                </a:solidFill>
                <a:uFillTx/>
                <a:latin typeface="Arial"/>
                <a:hlinkClick r:id="rId1"/>
              </a:rPr>
              <a:t>I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IFLA Classification and Indexing S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merican Society for Index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47640" y="18900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Harmonizace SJ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763280" y="1447920"/>
            <a:ext cx="738036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úč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opojitelnost SJ a potažmo 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typy harmoniza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ompabilit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možnost přímého propojení (výstupy jednoho systému lze použít přímo jako vstupy jiného systému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onvertibili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možnost převoditelnosti (výstupy jednoho systému lze po zpracování použít jako vstupy jiného systému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onverg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stupné sbližování dvou nebo více systém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onkord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ytvoření převodníku mezi dvěma nebo více systém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lnSpc>
                <a:spcPct val="90000"/>
              </a:lnSpc>
              <a:spcBef>
                <a:spcPts val="451"/>
              </a:spcBef>
              <a:buClr>
                <a:srgbClr val="33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a úrovni lexikální jednotk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lnSpc>
                <a:spcPct val="90000"/>
              </a:lnSpc>
              <a:spcBef>
                <a:spcPts val="451"/>
              </a:spcBef>
              <a:buClr>
                <a:srgbClr val="33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a úrovni pojm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Harmonizace – mapování SJ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908000" y="1523520"/>
            <a:ext cx="74836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Předpoklad: stejný typ SJ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stkoordinovaný SJ </a:t>
            </a:r>
            <a:r>
              <a:rPr b="0" lang="cs-CZ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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postkoordinovaný S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rekoordinovaný SJ</a:t>
            </a:r>
            <a:r>
              <a:rPr b="0" lang="cs-CZ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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prekoordinovaný S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Jednosměrný nebo obousměrný převo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jednosměrn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ropojovací S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33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SJ1  </a:t>
            </a:r>
            <a:r>
              <a:rPr b="0" lang="cs-CZ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PropSJ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33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SJ2  </a:t>
            </a:r>
            <a:r>
              <a:rPr b="0" lang="cs-CZ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PropS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33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SJ3  </a:t>
            </a:r>
            <a:r>
              <a:rPr b="0" lang="cs-CZ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PropS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bousměrn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33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SJ1 </a:t>
            </a:r>
            <a:r>
              <a:rPr b="0" lang="cs-CZ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SJ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33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SJ2 </a:t>
            </a:r>
            <a:r>
              <a:rPr b="0" lang="cs-CZ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SJ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33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SJ2 </a:t>
            </a:r>
            <a:r>
              <a:rPr b="0" lang="cs-CZ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SJ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33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SJ3 </a:t>
            </a:r>
            <a:r>
              <a:rPr b="0" lang="cs-CZ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SJ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33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SJ1 </a:t>
            </a:r>
            <a:r>
              <a:rPr b="0" lang="cs-CZ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SJ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33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SJ3 </a:t>
            </a:r>
            <a:r>
              <a:rPr b="0" lang="cs-CZ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SJ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Harmonizace - mapování SJ</a:t>
            </a:r>
            <a:br>
              <a:rPr sz="4200"/>
            </a:br>
            <a:r>
              <a:rPr b="1" lang="cs-CZ" sz="2100" spc="-1" strike="noStrike">
                <a:solidFill>
                  <a:srgbClr val="000000"/>
                </a:solidFill>
                <a:latin typeface="Arial"/>
              </a:rPr>
              <a:t>Příklady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050920" y="1700280"/>
            <a:ext cx="38102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Arial"/>
              </a:rPr>
              <a:t>Na úrovni LJ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LCSH </a:t>
            </a:r>
            <a:r>
              <a:rPr b="1" lang="cs-CZ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DD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Konspekt  </a:t>
            </a:r>
            <a:r>
              <a:rPr b="1" lang="cs-CZ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MD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cs-CZ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DD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Eurovoc </a:t>
            </a:r>
            <a:r>
              <a:rPr b="1" lang="cs-CZ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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Pol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Arial"/>
              </a:rPr>
              <a:t>Na úrovni pojmu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UMLS Metathesau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097240" y="1905120"/>
            <a:ext cx="3436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555640" y="2130120"/>
            <a:ext cx="59022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Vícejazyčné SJ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Obecný postup při vyhledávání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195640" y="1905120"/>
            <a:ext cx="6338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analýza požadavku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identifikace informačních zdrojů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stanovení rešeršní strategie a vyhledávání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formulace dotaz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zpracování výsledků vyhledávání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vyhodnocení/interpretace výsledků vyhledávání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Vícejazyčné SJ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692000" y="1523520"/>
            <a:ext cx="707076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úč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ezinárodní harmonizace a integr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94320" indent="-198720">
              <a:lnSpc>
                <a:spcPct val="9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harmonizace řízených slovníků a terminolog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94320" indent="-198720">
              <a:lnSpc>
                <a:spcPct val="9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ropojování informačních systémů (např. paralelní vyhledávání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ožnost indexace a vyhledávání v jazyce, který je zpracovateli/uživateli nejbližš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form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ícejazyčné tezau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94320" indent="-198720">
              <a:lnSpc>
                <a:spcPct val="9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ČSN ISO 5964 (ČSN 01 017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94320" indent="-198720">
              <a:lnSpc>
                <a:spcPct val="9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Agrovoc (29 jazyků), Eurovoc (26), Me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94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azykové verze předmětových hes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94320" indent="-198720">
              <a:lnSpc>
                <a:spcPct val="9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LC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94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Vícejazyčné tezaury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907640" y="1905120"/>
            <a:ext cx="6626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problém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lingvistické problémy (překlad/převo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terminolog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truktu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oblémy kompat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100% kompatibilita (+nedeskriptory a poznámk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úpravy tezauru pro lokální potře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oblémy správy a údrž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ložitější proces aktualiz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implementace tezauru do AI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W pro správu tezau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Vícejazyčné tezaury</a:t>
            </a:r>
            <a:br>
              <a:rPr sz="4200"/>
            </a:br>
            <a:r>
              <a:rPr b="1" lang="cs-CZ" sz="1900" spc="-1" strike="noStrike">
                <a:solidFill>
                  <a:srgbClr val="000000"/>
                </a:solidFill>
                <a:latin typeface="Arial"/>
              </a:rPr>
              <a:t>Vybrané jazykové problémy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979280" y="1699920"/>
            <a:ext cx="71643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Status jazyk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tejný stat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aždý deskriptor v jednom jazyce má ekvivalenty v jiných jazycí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inantní jazyk/sekundární jazy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ominantní jazyk – hlavní jazyk, ve kterém jsou vyjádřeny všechny deskrip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ekundární jazyk – vedlejší jazyk, mohou chybět některé deskrip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Zprostředkující jazy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jazyk používaný používaný pro indexaci a vyhledávání a pro výměnu dat (mapování, paralelní vyhledávání apod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Vícejazyčné tezaury</a:t>
            </a:r>
            <a:br>
              <a:rPr sz="4200"/>
            </a:br>
            <a:r>
              <a:rPr b="1" lang="cs-CZ" sz="1900" spc="-1" strike="noStrike">
                <a:solidFill>
                  <a:srgbClr val="000000"/>
                </a:solidFill>
                <a:latin typeface="Arial"/>
              </a:rPr>
              <a:t>Vybrané jazykové problémy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866600" y="1904760"/>
            <a:ext cx="666756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Překlad/převod tezaur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25560" indent="-185040">
              <a:lnSpc>
                <a:spcPct val="9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ýchozí jazyk – jazyk, ze kterého se překlád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25560" indent="-185040">
              <a:lnSpc>
                <a:spcPct val="9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jazyk překladu – jazyk, do kterého se překlád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25560" indent="-185040">
              <a:lnSpc>
                <a:spcPct val="9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zpětná vazba – změna LJ výchozího jazyka na základě problémů v jazyce překlad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25560" indent="-185040">
              <a:lnSpc>
                <a:spcPct val="9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interlingvistické a intralingvistické problém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25560" indent="-185040">
              <a:lnSpc>
                <a:spcPct val="9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ři překladu/převodu nutno zohlednit nejen samotný výraz, ale i jeho zařazení do struktu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96000" indent="-185040">
              <a:lnSpc>
                <a:spcPct val="90000"/>
              </a:lnSpc>
              <a:spcBef>
                <a:spcPts val="451"/>
              </a:spcBef>
              <a:buClr>
                <a:srgbClr val="33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říklad (PSH, řada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právo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4"/>
          <p:cNvSpPr/>
          <p:nvPr/>
        </p:nvSpPr>
        <p:spPr>
          <a:xfrm>
            <a:off x="0" y="5029200"/>
            <a:ext cx="51814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3" marL="1600200" indent="-2286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36666"/>
                </a:solidFill>
                <a:latin typeface="Tahoma"/>
              </a:rPr>
              <a:t>právo 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36666"/>
                </a:solidFill>
                <a:latin typeface="Tahoma"/>
              </a:rPr>
              <a:t>    </a:t>
            </a:r>
            <a:r>
              <a:rPr b="0" lang="cs-CZ" sz="1800" spc="-1" strike="noStrike">
                <a:solidFill>
                  <a:srgbClr val="336666"/>
                </a:solidFill>
                <a:latin typeface="Tahoma"/>
              </a:rPr>
              <a:t>mezinárodní právo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36666"/>
                </a:solidFill>
                <a:latin typeface="Tahoma"/>
              </a:rPr>
              <a:t>        </a:t>
            </a:r>
            <a:r>
              <a:rPr b="0" lang="cs-CZ" sz="1800" spc="-1" strike="noStrike">
                <a:solidFill>
                  <a:srgbClr val="336666"/>
                </a:solidFill>
                <a:latin typeface="Tahoma"/>
              </a:rPr>
              <a:t>mezinárodní právo veřejné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36666"/>
                </a:solidFill>
                <a:latin typeface="Tahoma"/>
              </a:rPr>
              <a:t>            </a:t>
            </a:r>
            <a:r>
              <a:rPr b="0" lang="cs-CZ" sz="1800" spc="-1" strike="noStrike">
                <a:solidFill>
                  <a:srgbClr val="336666"/>
                </a:solidFill>
                <a:latin typeface="Tahoma"/>
              </a:rPr>
              <a:t>státní občanství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36666"/>
                </a:solidFill>
                <a:latin typeface="Tahoma"/>
              </a:rPr>
              <a:t>                </a:t>
            </a:r>
            <a:r>
              <a:rPr b="0" lang="cs-CZ" sz="1800" spc="-1" strike="noStrike">
                <a:solidFill>
                  <a:srgbClr val="336666"/>
                </a:solidFill>
                <a:latin typeface="Tahoma"/>
              </a:rPr>
              <a:t>bezdomovectví 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6666"/>
              </a:buClr>
              <a:buSzPct val="11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1" name="Rectangle 5"/>
          <p:cNvSpPr/>
          <p:nvPr/>
        </p:nvSpPr>
        <p:spPr>
          <a:xfrm>
            <a:off x="3048120" y="5029200"/>
            <a:ext cx="51814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lvl="3" marL="1584000" indent="-226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36666"/>
                </a:solidFill>
                <a:latin typeface="Tahoma"/>
              </a:rPr>
              <a:t>law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lvl="3" marL="1584000" indent="-226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36666"/>
                </a:solidFill>
                <a:latin typeface="Tahoma"/>
              </a:rPr>
              <a:t>    </a:t>
            </a:r>
            <a:r>
              <a:rPr b="0" lang="cs-CZ" sz="1800" spc="-1" strike="noStrike">
                <a:solidFill>
                  <a:srgbClr val="336666"/>
                </a:solidFill>
                <a:latin typeface="Tahoma"/>
              </a:rPr>
              <a:t>international law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lvl="3" marL="1584000" indent="-226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36666"/>
                </a:solidFill>
                <a:latin typeface="Tahoma"/>
              </a:rPr>
              <a:t>        </a:t>
            </a:r>
            <a:r>
              <a:rPr b="0" lang="cs-CZ" sz="1800" spc="-1" strike="noStrike">
                <a:solidFill>
                  <a:srgbClr val="336666"/>
                </a:solidFill>
                <a:latin typeface="Tahoma"/>
              </a:rPr>
              <a:t>public international law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lvl="3" marL="1584000" indent="-226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36666"/>
                </a:solidFill>
                <a:latin typeface="Tahoma"/>
              </a:rPr>
              <a:t>            </a:t>
            </a:r>
            <a:r>
              <a:rPr b="0" lang="cs-CZ" sz="1800" spc="-1" strike="noStrike">
                <a:solidFill>
                  <a:srgbClr val="336666"/>
                </a:solidFill>
                <a:latin typeface="Tahoma"/>
              </a:rPr>
              <a:t>nationality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lvl="3" marL="1584000" indent="-226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36666"/>
                </a:solidFill>
                <a:latin typeface="Tahoma"/>
              </a:rPr>
              <a:t>                 </a:t>
            </a:r>
            <a:r>
              <a:rPr b="0" lang="cs-CZ" sz="1800" spc="-1" strike="noStrike">
                <a:solidFill>
                  <a:srgbClr val="336666"/>
                </a:solidFill>
                <a:latin typeface="Tahoma"/>
                <a:ea typeface="Times New Roman"/>
              </a:rPr>
              <a:t>homelessness </a:t>
            </a:r>
            <a:r>
              <a:rPr b="0" lang="cs-CZ" sz="1800" spc="-1" strike="noStrike">
                <a:solidFill>
                  <a:srgbClr val="336666"/>
                </a:solidFill>
                <a:latin typeface="Tahoma"/>
              </a:rPr>
              <a:t>-&gt; </a:t>
            </a:r>
            <a:r>
              <a:rPr b="0" lang="cs-CZ" sz="1800" spc="-1" strike="noStrike">
                <a:solidFill>
                  <a:srgbClr val="336666"/>
                </a:solidFill>
                <a:latin typeface="Tahoma"/>
              </a:rPr>
              <a:t>	</a:t>
            </a:r>
            <a:r>
              <a:rPr b="0" lang="cs-CZ" sz="1800" spc="-1" strike="noStrike">
                <a:solidFill>
                  <a:srgbClr val="336666"/>
                </a:solidFill>
                <a:latin typeface="Tahoma"/>
              </a:rPr>
              <a:t>	</a:t>
            </a:r>
            <a:r>
              <a:rPr b="0" lang="cs-CZ" sz="1800" spc="-1" strike="noStrike">
                <a:solidFill>
                  <a:srgbClr val="336666"/>
                </a:solidFill>
                <a:latin typeface="Tahoma"/>
              </a:rPr>
              <a:t>           stateless persons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2" name="Line 6"/>
          <p:cNvSpPr/>
          <p:nvPr/>
        </p:nvSpPr>
        <p:spPr>
          <a:xfrm>
            <a:off x="5638680" y="6400800"/>
            <a:ext cx="1447920" cy="0"/>
          </a:xfrm>
          <a:prstGeom prst="line">
            <a:avLst/>
          </a:prstGeom>
          <a:ln w="2232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Vícejazyčné tezaury</a:t>
            </a:r>
            <a:br>
              <a:rPr sz="4200"/>
            </a:br>
            <a:r>
              <a:rPr b="1" lang="cs-CZ" sz="1900" spc="-1" strike="noStrike">
                <a:solidFill>
                  <a:srgbClr val="000000"/>
                </a:solidFill>
                <a:latin typeface="Arial"/>
              </a:rPr>
              <a:t>Vybrané jazykové problémy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834920" y="1905120"/>
            <a:ext cx="6699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Stupeň ekvivalence výrazů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Úplná ekvival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eúplná ekvival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Částečná ekvival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ermín/více termín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eekvival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523520" y="1905120"/>
            <a:ext cx="2062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AJ: physic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998880" y="1905120"/>
            <a:ext cx="2130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NJ: Physi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5" descr="sj1"/>
          <p:cNvPicPr/>
          <p:nvPr/>
        </p:nvPicPr>
        <p:blipFill>
          <a:blip r:embed="rId1"/>
          <a:stretch/>
        </p:blipFill>
        <p:spPr>
          <a:xfrm>
            <a:off x="0" y="1447920"/>
            <a:ext cx="8839080" cy="1585800"/>
          </a:xfrm>
          <a:prstGeom prst="rect">
            <a:avLst/>
          </a:prstGeom>
          <a:ln w="0">
            <a:noFill/>
          </a:ln>
        </p:spPr>
      </p:pic>
      <p:sp>
        <p:nvSpPr>
          <p:cNvPr id="149" name="Rectangle 6"/>
          <p:cNvSpPr/>
          <p:nvPr/>
        </p:nvSpPr>
        <p:spPr>
          <a:xfrm>
            <a:off x="6248520" y="1905120"/>
            <a:ext cx="23619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130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1307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1307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6666"/>
                </a:solidFill>
                <a:latin typeface="Tahoma"/>
              </a:rPr>
              <a:t>ČJ: fyzika</a:t>
            </a: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23520" y="1905120"/>
            <a:ext cx="2062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FJ: men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998880" y="1905120"/>
            <a:ext cx="2130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NJ: Gedec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5"/>
          <p:cNvSpPr/>
          <p:nvPr/>
        </p:nvSpPr>
        <p:spPr>
          <a:xfrm>
            <a:off x="6248520" y="1905120"/>
            <a:ext cx="23619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130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1307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6666"/>
                </a:solidFill>
                <a:latin typeface="Tahoma"/>
              </a:rPr>
              <a:t>ČJ: jídelní lístek</a:t>
            </a: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54" name="Picture 6" descr="sj2"/>
          <p:cNvPicPr/>
          <p:nvPr/>
        </p:nvPicPr>
        <p:blipFill>
          <a:blip r:embed="rId5"/>
          <a:stretch/>
        </p:blipFill>
        <p:spPr>
          <a:xfrm>
            <a:off x="0" y="1600200"/>
            <a:ext cx="9144000" cy="1224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04920" y="1905120"/>
            <a:ext cx="3200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NJ: Wissenschaf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998880" y="1905120"/>
            <a:ext cx="2130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AJ: ?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AJ: sci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5"/>
          <p:cNvSpPr/>
          <p:nvPr/>
        </p:nvSpPr>
        <p:spPr>
          <a:xfrm>
            <a:off x="6248520" y="1905120"/>
            <a:ext cx="23619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130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1307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6666"/>
                </a:solidFill>
                <a:latin typeface="Tahoma"/>
              </a:rPr>
              <a:t>ČJ: věda</a:t>
            </a: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59" name="Picture 6" descr="sj3"/>
          <p:cNvPicPr/>
          <p:nvPr/>
        </p:nvPicPr>
        <p:blipFill>
          <a:blip r:embed="rId5"/>
          <a:stretch/>
        </p:blipFill>
        <p:spPr>
          <a:xfrm>
            <a:off x="0" y="1752480"/>
            <a:ext cx="9144000" cy="11052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560" y="1905120"/>
            <a:ext cx="2819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AJ: fue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379680" y="1905120"/>
            <a:ext cx="2749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FJ: ?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FJ: carbura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FJ: combusti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5"/>
          <p:cNvSpPr/>
          <p:nvPr/>
        </p:nvSpPr>
        <p:spPr>
          <a:xfrm>
            <a:off x="6248520" y="1905120"/>
            <a:ext cx="2666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130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1307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6666"/>
                </a:solidFill>
                <a:latin typeface="Tahoma"/>
              </a:rPr>
              <a:t>ČJ: ??</a:t>
            </a: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1307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1307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6666"/>
                </a:solidFill>
                <a:latin typeface="Tahoma"/>
              </a:rPr>
              <a:t>ČJ: palivo</a:t>
            </a: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1307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6666"/>
                </a:solidFill>
                <a:latin typeface="Tahoma"/>
              </a:rPr>
              <a:t>ČJ: topivo</a:t>
            </a: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64" name="Picture 6" descr="sj4"/>
          <p:cNvPicPr/>
          <p:nvPr/>
        </p:nvPicPr>
        <p:blipFill>
          <a:blip r:embed="rId8"/>
          <a:stretch/>
        </p:blipFill>
        <p:spPr>
          <a:xfrm>
            <a:off x="0" y="1828800"/>
            <a:ext cx="9144000" cy="11523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90512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AJ: enhanced publication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343400" y="1828800"/>
            <a:ext cx="44956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ČJ: ??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neustálený termí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5" descr="sj5"/>
          <p:cNvPicPr/>
          <p:nvPr/>
        </p:nvPicPr>
        <p:blipFill>
          <a:blip r:embed="rId1"/>
          <a:stretch/>
        </p:blipFill>
        <p:spPr>
          <a:xfrm>
            <a:off x="0" y="1905120"/>
            <a:ext cx="9144000" cy="10969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7631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Arial"/>
              </a:rPr>
              <a:t>Obecné aspekty věcného vyhledávání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26560" y="1412640"/>
            <a:ext cx="810108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Druhy vyhledávání podle typu hledané informace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dentifikační vyhledává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(známe některé údaje o hledaném dokumentu nebo polož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yhledávací výrazy: formální údaje - osobní jméno, název, nakladatel, rok, místo vydání, název časopisu, ISBN, ISSN, datum (konání konference, vydání, narození aj.)  apo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říklad: </a:t>
            </a:r>
            <a:r>
              <a:rPr b="0" lang="cs-CZ" sz="2000" spc="-1" strike="noStrike" u="sng">
                <a:solidFill>
                  <a:srgbClr val="006666"/>
                </a:solidFill>
                <a:uFillTx/>
                <a:latin typeface="Arial"/>
                <a:hlinkClick r:id="rId1"/>
              </a:rPr>
              <a:t>NTK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cs-CZ" sz="2000" spc="-1" strike="noStrike" u="sng">
                <a:solidFill>
                  <a:srgbClr val="006666"/>
                </a:solidFill>
                <a:uFillTx/>
                <a:latin typeface="Arial"/>
                <a:hlinkClick r:id="rId2"/>
              </a:rPr>
              <a:t>Obchodní rejstří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věcné vyhledává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(neznáme požadovaný dokument, hledáme určité tém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vyhledávací výrazy: věcné údaje - klíčová slova z názvu, předmětová hesla, klíčová slova, deskriptory tezauru, klíčová slova z textu dokumentu (redukovaného nebo plného), klasifikace (</a:t>
            </a:r>
            <a:r>
              <a:rPr b="0" lang="cs-CZ" sz="2000" spc="-1" strike="noStrike" u="sng">
                <a:solidFill>
                  <a:srgbClr val="006666"/>
                </a:solidFill>
                <a:uFillTx/>
                <a:latin typeface="Arial"/>
                <a:hlinkClick r:id="rId3"/>
              </a:rPr>
              <a:t>MDT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cs-CZ" sz="2000" spc="-1" strike="noStrike" u="sng">
                <a:solidFill>
                  <a:srgbClr val="006666"/>
                </a:solidFill>
                <a:uFillTx/>
                <a:latin typeface="Arial"/>
                <a:hlinkClick r:id="rId4"/>
              </a:rPr>
              <a:t>CZ-NACE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cs-CZ" sz="2000" spc="-1" strike="noStrike" u="sng">
                <a:solidFill>
                  <a:srgbClr val="006666"/>
                </a:solidFill>
                <a:uFillTx/>
                <a:latin typeface="Arial"/>
                <a:hlinkClick r:id="rId5"/>
              </a:rPr>
              <a:t>NAICS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) apo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ktografick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(chceme zjistit konkrétní informac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yhledávací výrazy: údaje podle obsahu a struktury zdro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Arial"/>
              </a:rPr>
              <a:t>Obecné aspekty věcného vyhledávání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763280" y="1523880"/>
            <a:ext cx="6846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účel a zaměření informačního zdroj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nformační okru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ěda, technika, výzkum, standardiz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eřejná (státní) správa, samospráva, legislati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ekonomická oblast (obchodní, firemní, bankovní informační zdroje), podnikové informační systém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informační zdroje v oblasti kultury, umění, zábav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masmédia, zpravodajství, informace „všedního dne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archivní informační fon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aždý z uvedených okruhů má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jiné nároky na rozsah i hloubku věcného zpracová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jiné možnosti věcného vyhledává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Arial"/>
              </a:rPr>
              <a:t>Obecné aspekty věcného vyhledávání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835280" y="1523880"/>
            <a:ext cx="6775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obor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(velmi schematické rozdělení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lnSpc>
                <a:spcPct val="90000"/>
              </a:lnSpc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bory s propracovaným systémem řízených slovníků, klasifikací, číselníků a možnostmi multikriteriálního, fazetového věcného vyhledává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19920" indent="-217080">
              <a:lnSpc>
                <a:spcPct val="90000"/>
              </a:lnSpc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chemie (</a:t>
            </a:r>
            <a:r>
              <a:rPr b="0" lang="cs-CZ" sz="2000" spc="-1" strike="noStrike" u="sng">
                <a:solidFill>
                  <a:srgbClr val="006666"/>
                </a:solidFill>
                <a:uFillTx/>
                <a:latin typeface="Arial"/>
                <a:hlinkClick r:id="rId1"/>
              </a:rPr>
              <a:t>Reaxys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), lékařství (</a:t>
            </a:r>
            <a:r>
              <a:rPr b="0" lang="cs-CZ" sz="2000" spc="-1" strike="noStrike" u="sng">
                <a:solidFill>
                  <a:srgbClr val="006666"/>
                </a:solidFill>
                <a:uFillTx/>
                <a:latin typeface="Arial"/>
                <a:hlinkClick r:id="rId2"/>
              </a:rPr>
              <a:t>PubMed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), technika (</a:t>
            </a:r>
            <a:r>
              <a:rPr b="0" lang="cs-CZ" sz="2000" spc="-1" strike="noStrike" u="sng">
                <a:solidFill>
                  <a:srgbClr val="006666"/>
                </a:solidFill>
                <a:uFillTx/>
                <a:latin typeface="Arial"/>
                <a:hlinkClick r:id="rId3"/>
              </a:rPr>
              <a:t>INSPEC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lnSpc>
                <a:spcPct val="90000"/>
              </a:lnSpc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bory s jednoduchým systémem věcného zpracování a vyhledává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19920" indent="-217080">
              <a:lnSpc>
                <a:spcPct val="90000"/>
              </a:lnSpc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polečenské a humanitní vědy (</a:t>
            </a:r>
            <a:r>
              <a:rPr b="0" lang="cs-CZ" sz="2000" spc="-1" strike="noStrike" u="sng">
                <a:solidFill>
                  <a:srgbClr val="006666"/>
                </a:solidFill>
                <a:uFillTx/>
                <a:latin typeface="Arial"/>
                <a:hlinkClick r:id="rId4"/>
              </a:rPr>
              <a:t>ERIC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cs-CZ" sz="2000" spc="-1" strike="noStrike" u="sng">
                <a:solidFill>
                  <a:srgbClr val="006666"/>
                </a:solidFill>
                <a:uFillTx/>
                <a:latin typeface="Arial"/>
                <a:hlinkClick r:id="rId5"/>
              </a:rPr>
              <a:t>Proquest - humanities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Arial"/>
              </a:rPr>
              <a:t>Obecné aspekty věcného vyhledávání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547640" y="13716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typ zdroj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bibliografická (dokumentografická) databáze/katalo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lnotextová databá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ktografická databá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droj typu adresář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etazdro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atabázová centra (funkce CrossSearch, CrossFile apod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rtály typu katalogu (</a:t>
            </a:r>
            <a:r>
              <a:rPr b="0" lang="cs-CZ" sz="2000" spc="-1" strike="noStrike" u="sng">
                <a:solidFill>
                  <a:srgbClr val="006666"/>
                </a:solidFill>
                <a:uFillTx/>
                <a:latin typeface="Arial"/>
                <a:hlinkClick r:id="rId1"/>
              </a:rPr>
              <a:t>Tech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rtály typu metavyhledávačů (</a:t>
            </a:r>
            <a:r>
              <a:rPr b="0" lang="cs-CZ" sz="2000" spc="-1" strike="noStrike" u="sng">
                <a:solidFill>
                  <a:srgbClr val="006666"/>
                </a:solidFill>
                <a:uFillTx/>
                <a:latin typeface="Arial"/>
                <a:hlinkClick r:id="rId2"/>
              </a:rPr>
              <a:t>JIB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vrchový“ web „hluboký“ (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deep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), resp. „neviditelný“ (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inivisible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) we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Arial"/>
              </a:rPr>
              <a:t>Obecné aspekty věcného vyhledávání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763280" y="1371600"/>
            <a:ext cx="684684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typ dokumentů/informací v informačním zdroji (záznamy n. plné texty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ýzkumné zprávy, technické zpráv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lnSpc>
                <a:spcPct val="90000"/>
              </a:lnSpc>
              <a:spcBef>
                <a:spcPts val="451"/>
              </a:spcBef>
              <a:buClr>
                <a:srgbClr val="33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006666"/>
                </a:solidFill>
                <a:uFillTx/>
                <a:latin typeface="Arial"/>
                <a:hlinkClick r:id="rId1"/>
              </a:rPr>
              <a:t>e-Print arch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onferenční materiály (preprinty aj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časopis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lnSpc>
                <a:spcPct val="90000"/>
              </a:lnSpc>
              <a:spcBef>
                <a:spcPts val="451"/>
              </a:spcBef>
              <a:buClr>
                <a:srgbClr val="33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006666"/>
                </a:solidFill>
                <a:uFillTx/>
                <a:latin typeface="Arial"/>
                <a:hlinkClick r:id="rId2"/>
              </a:rPr>
              <a:t>Ulrich</a:t>
            </a:r>
            <a:r>
              <a:rPr b="0" lang="en-US" sz="1800" spc="-1" strike="noStrike" u="sng">
                <a:solidFill>
                  <a:srgbClr val="006666"/>
                </a:solidFill>
                <a:uFillTx/>
                <a:latin typeface="Arial"/>
                <a:hlinkClick r:id="rId3"/>
              </a:rPr>
              <a:t>’</a:t>
            </a:r>
            <a:r>
              <a:rPr b="0" lang="cs-CZ" sz="1800" spc="-1" strike="noStrike" u="sng">
                <a:solidFill>
                  <a:srgbClr val="006666"/>
                </a:solidFill>
                <a:uFillTx/>
                <a:latin typeface="Arial"/>
                <a:hlinkClick r:id="rId4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člán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aten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lnSpc>
                <a:spcPct val="90000"/>
              </a:lnSpc>
              <a:spcBef>
                <a:spcPts val="451"/>
              </a:spcBef>
              <a:buClr>
                <a:srgbClr val="33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006666"/>
                </a:solidFill>
                <a:uFillTx/>
                <a:latin typeface="Arial"/>
                <a:hlinkClick r:id="rId5"/>
              </a:rPr>
              <a:t>Mezinárodní patentové tříděn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; db: </a:t>
            </a:r>
            <a:r>
              <a:rPr b="0" lang="cs-CZ" sz="1800" spc="-1" strike="noStrike" u="sng">
                <a:solidFill>
                  <a:srgbClr val="006666"/>
                </a:solidFill>
                <a:uFillTx/>
                <a:latin typeface="Arial"/>
                <a:hlinkClick r:id="rId6"/>
              </a:rPr>
              <a:t>Canadian Patent Databas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cs-CZ" sz="1800" spc="-1" strike="noStrike" u="sng">
                <a:solidFill>
                  <a:srgbClr val="006666"/>
                </a:solidFill>
                <a:uFillTx/>
                <a:latin typeface="Arial"/>
                <a:hlinkClick r:id="rId7"/>
              </a:rPr>
              <a:t>Japan </a:t>
            </a:r>
            <a:r>
              <a:rPr b="0" lang="en-US" sz="1800" spc="-1" strike="noStrike" u="sng">
                <a:solidFill>
                  <a:srgbClr val="006666"/>
                </a:solidFill>
                <a:uFillTx/>
                <a:latin typeface="Arial"/>
                <a:hlinkClick r:id="rId8"/>
              </a:rPr>
              <a:t>Platform for </a:t>
            </a:r>
            <a:r>
              <a:rPr b="0" lang="cs-CZ" sz="1800" spc="-1" strike="noStrike" u="sng">
                <a:solidFill>
                  <a:srgbClr val="006666"/>
                </a:solidFill>
                <a:uFillTx/>
                <a:latin typeface="Arial"/>
                <a:hlinkClick r:id="rId9"/>
              </a:rPr>
              <a:t>Patent </a:t>
            </a:r>
            <a:r>
              <a:rPr b="0" lang="en-US" sz="1800" spc="-1" strike="noStrike" u="sng">
                <a:solidFill>
                  <a:srgbClr val="006666"/>
                </a:solidFill>
                <a:uFillTx/>
                <a:latin typeface="Arial"/>
                <a:hlinkClick r:id="rId10"/>
              </a:rPr>
              <a:t>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orm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lnSpc>
                <a:spcPct val="90000"/>
              </a:lnSpc>
              <a:spcBef>
                <a:spcPts val="400"/>
              </a:spcBef>
              <a:buClr>
                <a:srgbClr val="33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International Classification for Standar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akademické práce (dizertace, habilita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lnSpc>
                <a:spcPct val="90000"/>
              </a:lnSpc>
              <a:spcBef>
                <a:spcPts val="451"/>
              </a:spcBef>
              <a:buClr>
                <a:srgbClr val="33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006666"/>
                </a:solidFill>
                <a:uFillTx/>
                <a:latin typeface="Arial"/>
                <a:hlinkClick r:id="rId11"/>
              </a:rPr>
              <a:t>Dissertationen online an der FU Berlin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6666"/>
                </a:solidFill>
                <a:uFillTx/>
                <a:latin typeface="Arial"/>
                <a:hlinkClick r:id="rId12"/>
              </a:rPr>
              <a:t>Theses.c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monograf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7631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Arial"/>
              </a:rPr>
              <a:t>Základní metody věcného vyhledávání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835280" y="1752480"/>
            <a:ext cx="6775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524"/>
              </a:spcBef>
              <a:buClr>
                <a:srgbClr val="336666"/>
              </a:buClr>
              <a:buSzPct val="9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vzhledem k variabilitě informačních zdrojů i různých selekčních jazyků neexistuje pro věcné vyhledávání jednotný postup nebo pravidla – úspěšnost věcného vyhledávání je často spojena se znalostí konkrétních nástrojů a oboru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524"/>
              </a:spcBef>
              <a:buClr>
                <a:srgbClr val="336666"/>
              </a:buClr>
              <a:buSzPct val="9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předpoklady úspěšného věcného vyhledávání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99cccc"/>
              </a:buClr>
              <a:buSzPct val="9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eznámit se se strukturou a obsahem informačního zdro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99cccc"/>
              </a:buClr>
              <a:buSzPct val="9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eznámit se se strukturou a rozsahem řízených slovníků, vč. kvality a rozsahu věcného popisu a pravidel postkoordinace a prekoordin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99cccc"/>
              </a:buClr>
              <a:buSzPct val="9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eznámit se s možnostmi, které pro věcné vyhledávání nabízí daný informační zdroj (konzultace řízeného slovníku, rozšiřování uživatelského dotazu, hledání podobných dokumentů atd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7631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Arial"/>
              </a:rPr>
              <a:t>Základní metody věcného vyhledávání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619280" y="1447920"/>
            <a:ext cx="75247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524"/>
              </a:spcBef>
              <a:buClr>
                <a:srgbClr val="336666"/>
              </a:buClr>
              <a:buSzPct val="9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obecný postup věcného vyhledávání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99cccc"/>
              </a:buClr>
              <a:buSzPct val="9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ečlivá formulace dotazu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vs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„nástřel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99cccc"/>
              </a:buClr>
              <a:buSzPct val="9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olba vhodné rešeršní strateg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trategie rostoucí per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trategie osekává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99cccc"/>
              </a:buClr>
              <a:buSzPct val="9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ři použití klasifikace dbát na výběr vhodných klasifikačních znaků a dodržovat pravidla jejich kombin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99cccc"/>
              </a:buClr>
              <a:buSzPct val="9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ři použití řízeného slovníku zohlednit hierarchii a asociaci, definovat dotaz tak, aby zahrnoval všechny potenciálně použitelné lexikální jednotky řízeného slovník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99cccc"/>
              </a:buClr>
              <a:buSzPct val="9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ři použití klíčových slov (název, plný text, freetextové vyhledávání) zahrnout všechna synonyma a vhodně nastavit zkrácení výraz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99cccc"/>
              </a:buClr>
              <a:buSzPct val="9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ři neúspěšném vyhledávání přeformulování dotaz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99cccc"/>
              </a:buClr>
              <a:buSzPct val="9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ombinovat různé selekční jazyky a různé způsoby vyhledává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99cccc"/>
              </a:buClr>
              <a:buSzPct val="9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yužití SOD konkrétních dokumentů pro úpravu dotaz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5T21:06:36Z</dcterms:created>
  <dc:creator>J.Schwarz</dc:creator>
  <dc:description/>
  <dc:language>en-US</dc:language>
  <cp:lastModifiedBy>Josef Schwarz</cp:lastModifiedBy>
  <dcterms:modified xsi:type="dcterms:W3CDTF">2018-12-08T10:51:06Z</dcterms:modified>
  <cp:revision>167</cp:revision>
  <dc:subject/>
  <dc:title>Selekční jazyky</dc:title>
</cp:coreProperties>
</file>