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4B96-FB4F-46E3-BF85-419824A294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216-1BE4-4CB2-B6FD-D00997B60C7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157-AF21-4199-9FAB-1EA50AFE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02B-A8CE-4324-A658-C96849B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237-5C59-43D4-A763-64DF360A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9BB-F7FE-4A0B-AA3D-659F6EA8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396-BA8A-42CF-AE3E-1F355B63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FD27-FD97-469A-8CEB-5967EF73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C9A2-0E43-4C83-8942-953F685C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58E-DA28-4425-A753-38AD6F6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C340-F544-461F-9AAC-1A4DC5FB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A38-4FE3-4112-A27D-684F0E5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E7E4-6222-41B7-9B9C-3376D2DA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29B-9E7C-4A65-BC25-3FECC01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B66-608F-4917-834F-C25D7A6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5555-1BBD-453A-BFE3-9292832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3DAA-46DE-4D1E-BE7A-3AC6C18B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44D4-E763-4A83-8E27-226CFDA9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BD20-FA0D-41BE-A716-48A1AFAE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AFC-9DD9-49D0-A19B-0A9F9702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ED9-D4C4-4B8A-9A25-102FFC9D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420-46DC-4434-8AF0-52FF7EA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F8E-3CDB-4378-94CF-A0BBFD68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1C0-BE42-4D42-BA24-A88AECF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09E-D25F-415C-B602-E747BBC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74F-A293-4917-AB03-0FE42E9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4F6-D5FC-43FF-82D6-8F702F84E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3DB-3CB9-48FC-B771-491A365B679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eric.ed.gov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ufind.techlib.cz/" TargetMode="External"/><Relationship Id="rId2" Type="http://schemas.openxmlformats.org/officeDocument/2006/relationships/hyperlink" Target="http://www.obchodnirejstrik.cz/" TargetMode="External"/><Relationship Id="rId3" Type="http://schemas.openxmlformats.org/officeDocument/2006/relationships/hyperlink" Target="http://cz.udc-hub.com/cs/login.php" TargetMode="External"/><Relationship Id="rId4" Type="http://schemas.openxmlformats.org/officeDocument/2006/relationships/hyperlink" Target="https://www.czso.cz/csu/czso/klasifikace_ekonomickych_cinnosti_cz_nace" TargetMode="External"/><Relationship Id="rId5" Type="http://schemas.openxmlformats.org/officeDocument/2006/relationships/hyperlink" Target="http://www.census.gov/eos/www/naics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zdroje.muni.cz/prehled/zdroj.php?lang=cs&amp;id=350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theiet.org/resources/inspec/" TargetMode="External"/><Relationship Id="rId4" Type="http://schemas.openxmlformats.org/officeDocument/2006/relationships/hyperlink" Target="http://eric.ed.gov/" TargetMode="External"/><Relationship Id="rId5" Type="http://schemas.openxmlformats.org/officeDocument/2006/relationships/hyperlink" Target="https://ezdroje.muni.cz/prehled/zdroj.php?lang=cs&amp;id=84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ch.jib.cz/" TargetMode="External"/><Relationship Id="rId2" Type="http://schemas.openxmlformats.org/officeDocument/2006/relationships/hyperlink" Target="http://www.jib.cz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xx.lanl.gov/" TargetMode="External"/><Relationship Id="rId2" Type="http://schemas.openxmlformats.org/officeDocument/2006/relationships/hyperlink" Target="https://ezdroje.muni.cz/prehled/zdroj.php?lang=cs&amp;id=58" TargetMode="External"/><Relationship Id="rId3" Type="http://schemas.openxmlformats.org/officeDocument/2006/relationships/hyperlink" Target="https://ezdroje.muni.cz/prehled/zdroj.php?lang=cs&amp;id=58" TargetMode="External"/><Relationship Id="rId4" Type="http://schemas.openxmlformats.org/officeDocument/2006/relationships/hyperlink" Target="https://ezdroje.muni.cz/prehled/zdroj.php?lang=cs&amp;id=58" TargetMode="External"/><Relationship Id="rId5" Type="http://schemas.openxmlformats.org/officeDocument/2006/relationships/hyperlink" Target="http://www.wipo.int/classifications/ipc/en/" TargetMode="External"/><Relationship Id="rId6" Type="http://schemas.openxmlformats.org/officeDocument/2006/relationships/hyperlink" Target="http://brevets-patents.ic.gc.ca/opic-cipo/cpd/eng/introduction.html" TargetMode="External"/><Relationship Id="rId7" Type="http://schemas.openxmlformats.org/officeDocument/2006/relationships/hyperlink" Target="https://www.j-platpat.inpit.go.jp/web/all/top/BTmTopEnglishPage" TargetMode="External"/><Relationship Id="rId8" Type="http://schemas.openxmlformats.org/officeDocument/2006/relationships/hyperlink" Target="https://www.j-platpat.inpit.go.jp/web/all/top/BTmTopEnglishPage" TargetMode="External"/><Relationship Id="rId9" Type="http://schemas.openxmlformats.org/officeDocument/2006/relationships/hyperlink" Target="https://www.j-platpat.inpit.go.jp/web/all/top/BTmTopEnglishPage" TargetMode="External"/><Relationship Id="rId10" Type="http://schemas.openxmlformats.org/officeDocument/2006/relationships/hyperlink" Target="https://www.j-platpat.inpit.go.jp/web/all/top/BTmTopEnglishPage" TargetMode="External"/><Relationship Id="rId11" Type="http://schemas.openxmlformats.org/officeDocument/2006/relationships/hyperlink" Target="http://www.diss.fu-berlin.de/diss/content/below/index.xml" TargetMode="External"/><Relationship Id="rId12" Type="http://schemas.openxmlformats.org/officeDocument/2006/relationships/hyperlink" Target="http://theses.cz/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12. 2018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lekční jazyky a věcné vyhledávání; standardizace a harmonizace SJ (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7640" y="1371600"/>
            <a:ext cx="75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íklad (úkol č.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databázi ERIC (volně dostupná na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eric.ed.go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vyhledejte dokumenty, který se týkají tématu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učování angličtiny jako druhého jazyka za pomoci technologie interaktivního vide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Rešeršní dotaz formulujte pomocí deskriptorů tezauru ER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OROVÉ (AUTORSKÉ) ŘEŠE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jmová analýz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učování, výuka, uč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nglič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ruhý (cizí)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ybrané deskripto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ge Second Languag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nguage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nguag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ngu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(Second Langu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ve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šeršní dot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or:(english AND ("second language") AND (programs OR learning OR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truction) AND "interactive video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záznamů: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 a harmonizace S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informačních zdrojů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sekundár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přejímaných bbg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ysl a 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měn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pora práce, času a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nadnění věcného přístupu k dokumentům a informa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64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rové zaměření 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ého sl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postkoordinace/prekooord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izace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lex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řevzetí tezauru nebo jeho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MDT-výběr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definice vzta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ravidla pro tvorbu hesel L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form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UNIMARC/Aut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c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FLA Classification and Indexing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erican Society for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447920"/>
            <a:ext cx="7380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ojitelnost SJ a potažm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 harmon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bi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ti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né sbližování dvou nebo víc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or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převodníku mezi dvěma nebo více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lexikální jedno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po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– mapování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7483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stejný typ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koordinovaný SJ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st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ovaný SJ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směrný nebo obousměrný přev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ovací S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u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- mapování SJ</a:t>
            </a:r>
            <a:br>
              <a:rPr sz="4200"/>
            </a:b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LJ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CSH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spekt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M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rovoc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pojm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MLS Meta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ostup při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3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alýza požadav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dentifikace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anovení rešeršní strategie a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ulace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odnocení/interpretace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523520"/>
            <a:ext cx="707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harmonizace a inte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rmonizace řízených slovníků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ISO 5964 (ČSN 01 0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rovoc (29 jazyků), Eurovoc (26),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verze předmětových h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C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gvistické problémy (překlad/přev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k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0% kompatibilita (+nedeskriptory a poznám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y tezauru pro lokál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správy a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proces aktu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tezauru do A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W pro správu tez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79280" y="1699920"/>
            <a:ext cx="71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s jaz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inantní jazyk/sekundární 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rostředkující jazy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66600" y="1904760"/>
            <a:ext cx="6667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klad/převod teza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zí jazyk – jazyk, ze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řekladu – jazyk, do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lingvistické a intralingvistické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(PSH, řa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6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upeň ekvivalence výraz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ín/více termí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Phys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sj1"/>
          <p:cNvPicPr/>
          <p:nvPr/>
        </p:nvPicPr>
        <p:blipFill>
          <a:blip r:embed="rId1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Ged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4" name="Picture 6" descr="sj2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Wissensch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9" name="Picture 6" descr="sj3"/>
          <p:cNvPicPr/>
          <p:nvPr/>
        </p:nvPicPr>
        <p:blipFill>
          <a:blip r:embed="rId5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fu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79680" y="190512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arb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ombust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4" name="Picture 6" descr="sj4"/>
          <p:cNvPicPr/>
          <p:nvPr/>
        </p:nvPicPr>
        <p:blipFill>
          <a:blip r:embed="rId8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enhanced publica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J: ?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ustálený termí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j5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101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ruhy vyhledávání podle typu hledané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ikační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náme některé údaje o hledaném dokumentu nebo polož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T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bchodní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ěcné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eznáme požadovaný dokument, hledáme určité té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ledávací výrazy: věcné údaje - klíčová slova z názvu, předmětová hesla, klíčová slova, deskriptory tezauru, klíčová slova z textu dokumentu (redukovaného nebo plného), klasifikac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D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CZ-NAC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NAIC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ceme zjistit konkrétní informa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údaje podle obsahu a struktury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5238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 a zaměření informačního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da, technika, výzkum, standard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á (státní) správa, samospráva, legis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zdroje v oblasti kultury, umění, záb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smédia, zpravodajství, informace „všedního d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chivní informač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z uvedených okruhů 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nároky na rozsah i hloubku věcného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možnosti věcného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523880"/>
            <a:ext cx="677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elmi schematické rozdě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emi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Reaxy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lékařství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technika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INSP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enské a humanitní vědy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ER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roquest - humaniti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bliografická (dokumentografická) databáze/k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otextov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typu adres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bázová centra (funkce CrossSearch, CrossFile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katalogu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Te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metavyhledávačů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JI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ový“ web „hlubok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resp. „neviditeln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ivisi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6846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okumentů/informací v informačním zdroji (záznamy n. plné tex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né zprávy, technické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-Print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ferenční materiály (preprinty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Ulrich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’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Mezinárodní patentové tříd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db: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Canadian Patent Databa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Japan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latform for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atent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national Classification fo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ademické práce (dizertace, habili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Dissertationen online an der FU Ber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Theses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77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poklady úspěšného věcného vyhledávání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obsahem informačního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ý postup věcného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á formulace dotaz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nástře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vhodné rešeršní strat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úspěšném vyhledávání přeformulování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SOD konkrétních dokumentů pro úpravu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8-12-08T10:51:06Z</dcterms:modified>
  <cp:revision>167</cp:revision>
  <dc:subject/>
  <dc:title>Selekční jazyky</dc:title>
</cp:coreProperties>
</file>