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10018713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10018800" cy="68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567648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3287520" y="515520"/>
            <a:ext cx="3444840" cy="258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65415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5676480" y="65415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D22B-7D68-4846-A4E2-B016FFD38C0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5676840" y="6541920"/>
            <a:ext cx="43419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BD1B-CD43-458F-9D4B-69CE9FF19BDA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3287880" y="515880"/>
            <a:ext cx="3444840" cy="25844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7099-0F2B-4AAF-A2EC-804D55140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EBD7-9628-4D44-A90F-F4D22B00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9EA5-3B6A-4CDE-83E8-A303F979E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AFF5-E260-4204-B315-80F6FDA86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6E8C-CA48-43D8-9AFF-06FA5BF9A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6894-0F93-432F-9E47-0C5ED00A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DE4F-6BF1-418F-A6DE-7F1E3197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05BB-AD96-4CC6-B38F-D50DB76E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2E09-D50D-4C41-9B71-8C8681CC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B9F6-124B-4EF3-90E9-8C4931BE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FE43-3E18-40A2-807A-CB821F49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9E40-156F-4832-9240-F1BF4BCC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A2FD-1397-466C-B949-3E56881B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A554D-D867-4ED3-AFE2-0A8DEADF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C28FD-934B-4828-AFEC-79D02218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27ED-F6EA-4F19-AE45-DF34BAB1F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2D12-FF06-4084-8377-6AB352079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FF54-AC14-496B-9A0A-3293B3CF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7022-28F0-45A5-886D-0D597E69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61D7-BCFE-4195-9CE7-509358D6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BFC1-74A4-49E5-A0C7-A03A0D94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B207-8F71-49D6-B6F8-A880F99F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892E-E94D-4DB1-969B-BBAA744F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90F0-5E73-4CB6-AE84-E7E43B9D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4822-6F20-4DB9-A852-38C34CD829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358E-2344-41D1-A7A2-3EAB22B6ACE7}" type="slidenum">
              <a:rPr b="0" lang="cs-CZ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0560" y="1371600"/>
            <a:ext cx="70930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KBA11</a:t>
            </a:r>
            <a:br>
              <a:rPr sz="1600"/>
            </a:b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Selekční jazyk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133360" y="3733920"/>
            <a:ext cx="647676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. 11. 201: Kvalita a konzistence indexac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(P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F MU, podzim 20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gr. Josef Schwar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26172@mail.muni.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Kontrola a hodnocení index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340000" y="1523880"/>
            <a:ext cx="627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 procesu index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dexační pravid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rovnání s obsahem databá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utomatické procedury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ODESCHINI, C., FARRELL, M.P. An expert system for quality control in bibliographic databases.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Journal of the American Society for Information Scienc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1989, roč. 40, č. 1, s. 1-1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uperv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rávnost a úplnost obsahové analýz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ěcná i formální správnost přiřazených pořádacích zna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dexační chy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dexační experimen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i vyhledává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levance vyhled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plnost (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recal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 a přesnost (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recisio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Relevance vyhledávání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úplnost (recall) 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čet vyhledaných relevantních dokumentů / počet všech relevantních dokum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esnost (precision) 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čet vyhledaných relevantních dokumentů / počet všech vyhledaných dokum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měr mezi úplností a přesnost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Wingdings 3"/>
                <a:ea typeface="Wingdings 3"/>
              </a:rPr>
              <a:t>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Indexační chyb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08000" y="1523520"/>
            <a:ext cx="6778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data: kontrola indexace UK-ETF 1998-99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z případová stud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nejčastější typy chy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pominutí hledisek (18,6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správné stanovení významu nebo rozsahu deskriptoru (12,3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ybějící jednotlivé deskriptory (11,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typy chyb podle ovlivnění úplnost a přesnost vyhledáván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mplexní chyby snižující úplnost (23,4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ílčí chyby snižující úplnost (22,1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ílčí chyby snižující úplnost i přesnost (14,9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Indexační chyby (pokr.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08000" y="1828800"/>
            <a:ext cx="6778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typy chyb podle fáze indexa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obsahová analýza (18,1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droj chyb: indexá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identifikace pojmů (42,3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droj chyb: indexační pravidla, indexá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častěji: opominutí hledis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běr deskriptorů z tezauru (20,8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droj chyb: indexátor, indexační pravidla, řízený slovní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Indexační experiment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908000" y="1905120"/>
            <a:ext cx="6702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rovnávání různých typů selekčních jazyk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2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dexace vzorku dokumen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2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rovnání formou rešeršních dotaz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konzistence indexátor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2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xperimentální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2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va nebo více indexáto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2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orek dokumen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2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dex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2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terpretace výsled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2948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případová stud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yužití hodnocení index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68000" y="1905120"/>
            <a:ext cx="6342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ndexá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pětná vaz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odnocení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prava lexika n. strukt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prava poznámek o rozsa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dexační pravid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ormu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pr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okumen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index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Kvalita index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050560" y="1700280"/>
            <a:ext cx="6945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valitní indexace – taková indexace, která zajistí (ne)vyhledání dokumentu v rámci konkrétního informačního systé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plnost (hlediska, faze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snost (specifično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oub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de o relativní hodno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el a zaměření informačního systé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třeby a požadavky uživate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lze hodnotit kvantitativními metod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aktory ovlivňující kvalitu index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LAN03, kap. Quality of Indexing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Konzistence index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050560" y="1412640"/>
            <a:ext cx="655956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kumenty stejného obsahu by měly být indexovány ste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íra shody dvou nebo více S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ypy konzis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zi indexátory (interindexer consisten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hoda indexace mezi dvěma nebo více indexá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dexátora (intraindexer consisten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zistence indexace jednoho indexát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zistence z hlediska hloubky index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zistence pořádacích znaků vyjadřujících hlavní té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zistence pořádacích znaků vyjadřujících vedlejší té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LAN03, Consistency of Index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Konzistence indexace (pokr.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79280" y="1599840"/>
            <a:ext cx="6630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ýpočet 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vojice indexátorů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zv. konzistenční pár (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consistency pair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 = a /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= počet pořádacích znaků, které shodně zvolili oba indexátoř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celkový počet přidělených jedinečných pořádacích zna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Konzistence indexace (pokr.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520" y="1980720"/>
            <a:ext cx="34369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Indexátor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ámořní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troskot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stro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Robinson Cruso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obrodružné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rom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3276720" y="129528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6666"/>
                </a:solidFill>
                <a:latin typeface="Tahoma"/>
              </a:rPr>
              <a:t>Příklad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4800600" y="1905120"/>
            <a:ext cx="38098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66"/>
                </a:solidFill>
                <a:latin typeface="Tahoma"/>
              </a:rPr>
              <a:t>Indexátor 2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66"/>
                </a:solidFill>
                <a:latin typeface="Arial"/>
              </a:rPr>
              <a:t>trosečníci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336666"/>
                </a:solidFill>
                <a:uFillTx/>
                <a:latin typeface="Arial"/>
                <a:ea typeface="Arial"/>
              </a:rPr>
              <a:t>ostrovy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336666"/>
                </a:solidFill>
                <a:uFillTx/>
                <a:latin typeface="Arial"/>
                <a:ea typeface="Arial"/>
              </a:rPr>
              <a:t>dobrodružné </a:t>
            </a:r>
            <a:r>
              <a:rPr b="1" lang="cs-CZ" sz="2000" spc="-1" strike="noStrike" u="sng">
                <a:solidFill>
                  <a:srgbClr val="336666"/>
                </a:solidFill>
                <a:uFillTx/>
                <a:latin typeface="Arial"/>
              </a:rPr>
              <a:t>romány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66"/>
                </a:solidFill>
                <a:latin typeface="Arial"/>
              </a:rPr>
              <a:t>anglická literatura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66"/>
                </a:solidFill>
                <a:latin typeface="Arial"/>
              </a:rPr>
              <a:t>18. století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2590920" y="4267080"/>
            <a:ext cx="58672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6666"/>
                </a:solidFill>
                <a:latin typeface="Tahoma"/>
              </a:rPr>
              <a:t>a = 2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6666"/>
                </a:solidFill>
                <a:latin typeface="Tahoma"/>
              </a:rPr>
              <a:t>b = 8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6666"/>
                </a:solidFill>
                <a:latin typeface="Tahoma"/>
              </a:rPr>
              <a:t>C = a / b = 2 / 8 = 0,25 = 25 %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Konzistence indexace (pokr.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835280" y="1599840"/>
            <a:ext cx="677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ýpočet I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íce než dva indexátoř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 = průměr konzistenčních pá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Konzistence indexace (pokr.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520" y="1980720"/>
            <a:ext cx="199404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Indexátor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ámořní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troskot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stro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binson Cruso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obrodružné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má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276720" y="129528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6666"/>
                </a:solidFill>
                <a:latin typeface="Tahoma"/>
              </a:rPr>
              <a:t>Příklad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3048120" y="1905120"/>
            <a:ext cx="26668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66"/>
                </a:solidFill>
                <a:latin typeface="Tahoma"/>
              </a:rPr>
              <a:t>Indexátor 2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Arial"/>
              </a:rPr>
              <a:t>trosečníci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Arial"/>
                <a:ea typeface="Arial"/>
              </a:rPr>
              <a:t>ostrov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Arial"/>
                <a:ea typeface="Arial"/>
              </a:rPr>
              <a:t>dobrodružné </a:t>
            </a:r>
            <a:r>
              <a:rPr b="0" lang="cs-CZ" sz="1800" spc="-1" strike="noStrike">
                <a:solidFill>
                  <a:srgbClr val="336666"/>
                </a:solidFill>
                <a:latin typeface="Arial"/>
              </a:rPr>
              <a:t>román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Arial"/>
              </a:rPr>
              <a:t>anglická literatur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Arial"/>
              </a:rPr>
              <a:t>18. století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685800" y="4724280"/>
            <a:ext cx="76960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6666"/>
                </a:solidFill>
                <a:latin typeface="Tahoma"/>
              </a:rPr>
              <a:t>C</a:t>
            </a:r>
            <a:r>
              <a:rPr b="1" lang="cs-CZ" sz="2400" spc="-1" strike="noStrike" baseline="-25000">
                <a:solidFill>
                  <a:srgbClr val="336666"/>
                </a:solidFill>
                <a:latin typeface="Tahoma"/>
              </a:rPr>
              <a:t>1,2</a:t>
            </a:r>
            <a:r>
              <a:rPr b="0" i="1" lang="cs-CZ" sz="2400" spc="-1" strike="noStrike">
                <a:solidFill>
                  <a:srgbClr val="336666"/>
                </a:solidFill>
                <a:latin typeface="Tahoma"/>
              </a:rPr>
              <a:t> = 2 / 8 = 0,25 = 25 %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6666"/>
                </a:solidFill>
                <a:latin typeface="Tahoma"/>
              </a:rPr>
              <a:t>C</a:t>
            </a:r>
            <a:r>
              <a:rPr b="1" lang="cs-CZ" sz="2400" spc="-1" strike="noStrike" baseline="-25000">
                <a:solidFill>
                  <a:srgbClr val="336666"/>
                </a:solidFill>
                <a:latin typeface="Tahoma"/>
              </a:rPr>
              <a:t>1,3</a:t>
            </a:r>
            <a:r>
              <a:rPr b="0" i="1" lang="cs-CZ" sz="2400" spc="-1" strike="noStrike">
                <a:solidFill>
                  <a:srgbClr val="336666"/>
                </a:solidFill>
                <a:latin typeface="Tahoma"/>
              </a:rPr>
              <a:t> = 5 / 7 = 0,71 = 71 %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6666"/>
                </a:solidFill>
                <a:latin typeface="Tahoma"/>
              </a:rPr>
              <a:t>C</a:t>
            </a:r>
            <a:r>
              <a:rPr b="1" lang="cs-CZ" sz="2400" spc="-1" strike="noStrike" baseline="-25000">
                <a:solidFill>
                  <a:srgbClr val="336666"/>
                </a:solidFill>
                <a:latin typeface="Tahoma"/>
              </a:rPr>
              <a:t>2,3</a:t>
            </a:r>
            <a:r>
              <a:rPr b="0" i="1" lang="cs-CZ" sz="2400" spc="-1" strike="noStrike">
                <a:solidFill>
                  <a:srgbClr val="336666"/>
                </a:solidFill>
                <a:latin typeface="Tahoma"/>
              </a:rPr>
              <a:t> = 3 / 9 = 0,33 = 33 %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6666"/>
                </a:solidFill>
                <a:latin typeface="Tahoma"/>
              </a:rPr>
              <a:t>C = (0,25+0,71+0,33)/3 = 0,43 = 43 %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5791320" y="1981080"/>
            <a:ext cx="29718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66"/>
                </a:solidFill>
                <a:latin typeface="Tahoma"/>
              </a:rPr>
              <a:t>Indexátor 3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Arial"/>
                <a:ea typeface="Arial"/>
              </a:rPr>
              <a:t>námořníci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Arial"/>
                <a:ea typeface="Arial"/>
              </a:rPr>
              <a:t>ztroskotání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Arial"/>
                <a:ea typeface="Arial"/>
              </a:rPr>
              <a:t>ostrov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Arial"/>
                <a:ea typeface="Arial"/>
              </a:rPr>
              <a:t>Robinson Crusoe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Arial"/>
                <a:ea typeface="Arial"/>
              </a:rPr>
              <a:t>dobrodružné </a:t>
            </a:r>
            <a:r>
              <a:rPr b="0" lang="cs-CZ" sz="1800" spc="-1" strike="noStrike">
                <a:solidFill>
                  <a:srgbClr val="336666"/>
                </a:solidFill>
                <a:latin typeface="Arial"/>
              </a:rPr>
              <a:t>román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Arial"/>
              </a:rPr>
              <a:t>Pátek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Arial"/>
              </a:rPr>
              <a:t>anglická literatur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Kvalita vs konzistence index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835280" y="1905120"/>
            <a:ext cx="6775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ztah kvality a konzistence není bezprostřed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zistentní indexace neznamená kvalitní indexa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valitní indexace zahrnuje i konzistentní indexa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zistence indexace zlepšuje efektivitu vyhled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 hlediska správy databáze je konzistence kvalit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klady konzistence z pra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Faktory ovlivňující indexac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340000" y="1523520"/>
            <a:ext cx="627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ndexá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11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j.: zkušenost a znalost SJ, znalost oboru, porozumění textu, systematické myšlení, racionální čt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11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ubj.: soustř., pečlivost, nálada, únava, motiv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11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valita řízeného slovní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11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dexační pravid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okument/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11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or, struktura, délka, styl, žánr, pomocný aparát, jazy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acovní podmínk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11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c. doba, produktivita práce, prac. prostředí, technické prostřed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cp:lastPrinted>2019-11-15T11:20:14Z</cp:lastPrinted>
  <dcterms:modified xsi:type="dcterms:W3CDTF">2019-11-17T15:17:13Z</dcterms:modified>
  <cp:revision>169</cp:revision>
  <dc:subject/>
  <dc:title>Selekční jazyky</dc:title>
</cp:coreProperties>
</file>