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2EA-CD13-4E6A-837E-31F13245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B56-07A6-4364-A784-8C09807B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44A-2608-4FDE-BB97-AE432E1D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40D-32B8-4D3A-AB9A-1AD91355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5E26-9D36-4B04-833E-7C59F600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C6B-2CC5-40DB-93B3-D9528F2B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E2E-FE5C-4F10-A103-F34EB591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598-46FB-460B-8141-154F81F7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C86-FCF6-4082-B1BD-4CEC5C85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3FE-33B3-48A0-BF71-AC1EEC7E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70A-BDFB-4A17-8B4C-EFAF66DE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BD5-9C4E-4223-B210-CF934891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AC031-94A1-48D7-BDDE-18E305E6168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cccccc"/>
                </a:solidFill>
                <a:latin typeface="Times New Roman"/>
              </a:rPr>
              <a:t>Kratochvíla Ondřej,489003 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4720" y="301680"/>
            <a:ext cx="9069480" cy="1859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400" spc="-1" strike="noStrike">
                <a:solidFill>
                  <a:srgbClr val="ff9966"/>
                </a:solidFill>
                <a:latin typeface="Arial"/>
              </a:rPr>
              <a:t>Pravidla přijetí článku 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Přijímáme příspěvky do všech rubrik v českém, slovenském a anglickém jazyce. Nedílnou součástí hlavního článku (max. 54 000 znaků – 30 normostran) je abstrakt (max. 800 znaků včetně mezer), afiliace autora (max. 200 znaků – působiště, profesní profilace, elektronický kontakt) a 5 klíčových slov v jazyce článku. Redakční rada si vyhrazuje právo výběru příspěvku, který bude v aktuálním čísle publikován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400" spc="-1" strike="noStrike">
                <a:solidFill>
                  <a:srgbClr val="ff9966"/>
                </a:solidFill>
                <a:latin typeface="Arial"/>
              </a:rPr>
              <a:t>Nakouknutí do časopisu 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V aktuálním čísle napříkad najdeme studii o Propagaci muzea Klementa Gottwalda  pohledem plakátů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od Jolany Tothové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a mnoho dalšího.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    </a:t>
            </a:r>
            <a:r>
              <a:rPr b="0" lang="cs-CZ" sz="4000" spc="-1" strike="noStrike">
                <a:solidFill>
                  <a:srgbClr val="e6e6e6"/>
                </a:solidFill>
                <a:latin typeface="Times New Roman"/>
              </a:rPr>
              <a:t>              </a:t>
            </a:r>
            <a:r>
              <a:rPr b="0" lang="cs-CZ" sz="4000" spc="-1" strike="noStrike">
                <a:solidFill>
                  <a:srgbClr val="e6e6e6"/>
                </a:solidFill>
                <a:latin typeface="Times New Roman"/>
              </a:rPr>
              <a:t>Děkuji za pozornost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400" spc="-1" strike="noStrike">
                <a:solidFill>
                  <a:srgbClr val="ff9966"/>
                </a:solidFill>
                <a:latin typeface="Arial"/>
              </a:rPr>
              <a:t>Co je to? 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Je mezinárodní vědecký recenzovaný časopis Filozofické fakulty  Masarykovy univerzity publikujicí původní vědecké práce z oblasti muzeologie a muzejnictví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Navazuje na tradici periodika Muzeologické sešity které od roku 1969 vydávali představitelé brněnské muzeologické škol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ISSN 1805-4722 (print), ISSN 2464-5362 (online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Evidenční číslo MK ČR: E 20739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400" spc="-1" strike="noStrike">
                <a:solidFill>
                  <a:srgbClr val="ff9966"/>
                </a:solidFill>
                <a:latin typeface="Arial"/>
              </a:rPr>
              <a:t>Zaměření a poslání 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Publikující původní vědecké práce, metodické a informační texty, recenze a zprávy z oblasti muzeologie a muzejnictví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Cílem je prezentovat muzeologii jako moderní vědeckou disciplínu ovlivňující muzejní praxi a seznámit čtenáře s aktuálními trendy v oboru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360360" y="1944720"/>
            <a:ext cx="10223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Časopis vydává Masarykova univerzita (Ústav archeologie a muzeologie Filozofické fakulty MU). Časopis vychází od r. 2012 dvakrát ročně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První vydání: 2012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Periodicita: dvakrát ročně (léto a zima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400" spc="-1" strike="noStrike">
                <a:solidFill>
                  <a:srgbClr val="ff9966"/>
                </a:solidFill>
                <a:latin typeface="Arial"/>
              </a:rPr>
              <a:t>Redakce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Šéfredaktor: Mgr. Otakar Kirsch, Ph.D. (Masarykova univerzita, Brno, Česká republika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Redaktorka: Mgr. Lucie Jagošová, DiS. (Masarykova univerzita, Brno, Česká republika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400" spc="-1" strike="noStrike">
                <a:solidFill>
                  <a:srgbClr val="ff9966"/>
                </a:solidFill>
                <a:latin typeface="Arial"/>
              </a:rPr>
              <a:t>Redakční rada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e6e6e6"/>
                </a:solidFill>
                <a:latin typeface="Times New Roman"/>
              </a:rPr>
              <a:t>Prof. dr. sc. Darko Babić (odborný asistent na Oddělení managementu muzeologie a dědictví, Univerzita Záhřeb, Chorvatsko)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e6e6e6"/>
                </a:solidFill>
                <a:latin typeface="Times New Roman"/>
              </a:rPr>
              <a:t>Doc. Alexandra Bounia (profesorka Oddělení kulturních technologií a komunikace na Egejské univerzitě v Aténách, Řecko)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e6e6e6"/>
                </a:solidFill>
                <a:latin typeface="Times New Roman"/>
              </a:rPr>
              <a:t>PhDr. Jan Dolák, Ph.D. (odborný asistent na Katedre etnológie a muzeológie, Filozofická fakulta, Univerzita Komenského, Bratislava, Slovensko)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e6e6e6"/>
                </a:solidFill>
                <a:latin typeface="Times New Roman"/>
              </a:rPr>
              <a:t>A mnoho dalších..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400" spc="-1" strike="noStrike">
                <a:solidFill>
                  <a:srgbClr val="ff9966"/>
                </a:solidFill>
                <a:latin typeface="Arial"/>
              </a:rPr>
              <a:t>Kontaktní adresa na redakci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e6e6e6"/>
                </a:solidFill>
                <a:latin typeface="Times New Roman"/>
              </a:rPr>
              <a:t>Museologica Brunensia</a:t>
            </a: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e6e6e6"/>
                </a:solidFill>
                <a:latin typeface="Times New Roman"/>
              </a:rPr>
              <a:t>Ústav archeologie a muzeologie</a:t>
            </a: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e6e6e6"/>
                </a:solidFill>
                <a:latin typeface="Times New Roman"/>
              </a:rPr>
              <a:t>Filozofická fakulta Masarykovy univerzity</a:t>
            </a: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e6e6e6"/>
                </a:solidFill>
                <a:latin typeface="Times New Roman"/>
              </a:rPr>
              <a:t>Arna Nováka 1</a:t>
            </a: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e6e6e6"/>
                </a:solidFill>
                <a:latin typeface="Times New Roman"/>
              </a:rPr>
              <a:t>602 00 Brno</a:t>
            </a: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e6e6e6"/>
                </a:solidFill>
                <a:latin typeface="Times New Roman"/>
              </a:rPr>
              <a:t>E-mail:</a:t>
            </a: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e6e6e6"/>
                </a:solidFill>
                <a:latin typeface="Times New Roman"/>
              </a:rPr>
              <a:t>museologica.brunensia@phil.muni.cz</a:t>
            </a: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e6e6e6"/>
                </a:solidFill>
                <a:latin typeface="Times New Roman"/>
              </a:rPr>
              <a:t>Mgr. Otakar Kirsch, Ph.D.,  šéfredaktor, 9857@mail.muni.cz</a:t>
            </a: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e6e6e6"/>
                </a:solidFill>
                <a:latin typeface="Times New Roman"/>
              </a:rPr>
              <a:t>Mgr. Lucie Jagošová, DiS., výkonný redaktor, jagosova@phil.muni.cz</a:t>
            </a: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e6e6e6"/>
                </a:solidFill>
                <a:latin typeface="Times New Roman"/>
              </a:rPr>
              <a:t>Telefon/Fax:</a:t>
            </a: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e6e6e6"/>
                </a:solidFill>
                <a:latin typeface="Times New Roman"/>
              </a:rPr>
              <a:t>+420 549 493 785</a:t>
            </a: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11280" y="792000"/>
            <a:ext cx="3517920" cy="4989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56360" y="676440"/>
            <a:ext cx="440532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2400" spc="-1" strike="noStrike">
                <a:solidFill>
                  <a:srgbClr val="ff9966"/>
                </a:solidFill>
                <a:latin typeface="Arial"/>
              </a:rPr>
              <a:t>Rubriky 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studie (recenzovaná část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metodické a informační tex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medailony osobností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recenze literatur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muzejní krit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e6e6e6"/>
                </a:solidFill>
                <a:latin typeface="Times New Roman"/>
              </a:rPr>
              <a:t>zprávy z oboru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2T15:23:54Z</dcterms:created>
  <dc:creator/>
  <dc:description/>
  <dc:language>en-US</dc:language>
  <cp:lastModifiedBy/>
  <dcterms:modified xsi:type="dcterms:W3CDTF">2020-10-12T16:02:23Z</dcterms:modified>
  <cp:revision>7</cp:revision>
  <dc:subject/>
  <dc:title/>
</cp:coreProperties>
</file>