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9956-DA42-42A3-8049-47413233F5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0E92-F2D0-446F-AED9-B9D7D734D5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E527-6AA8-426F-B9B5-6FFF444223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81D6-F8C1-47A9-94E3-65DBCC6CA7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9BB0-CF6E-4206-A7AA-35E9D4B456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09E8-E85D-42EA-AA65-45F6A469DD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9508-CE90-4095-B014-414458F447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7C7B-4D09-47CE-8A1D-F1413B09AE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0F39-9C31-4390-8E3F-18F7388021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9488-A6D4-4DA1-B29A-DCF61A36BB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156D-F485-40CF-A2B9-3465547862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585F-4072-4D31-A4D5-6426851591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FE52-12A6-4798-BB59-6B9E655D3C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8D52-1576-41FC-9E9E-C95BC0249E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5A3-BCC7-4A63-915F-310470AE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DFC-B619-4E84-B0C6-0DE7ABB8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F82-311C-480B-9876-7CCA01D3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7E0-B2CC-4B6F-859C-8C563E3C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723-2939-4AB4-B36F-E1FF782A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941-2E74-411C-8525-F8B00650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F42-0FE7-43E4-BCDC-E018D5DD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DD2-82ED-4940-8E44-C6CE22F3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6D8-B947-4A86-8F5D-E655C0F6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628-A11C-4BFC-8B2C-C5D3098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EC0-9DF2-4CD1-AE14-E7D4AD64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F14-DA61-44F6-AC97-F3105A2C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AB3A-727E-4E66-A2A0-A4C1C279CF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Výsledek obrázku pro CONSTRUCTION OF REALITY"/>
          <p:cNvPicPr/>
          <p:nvPr/>
        </p:nvPicPr>
        <p:blipFill>
          <a:blip r:embed="rId1"/>
          <a:stretch/>
        </p:blipFill>
        <p:spPr>
          <a:xfrm>
            <a:off x="1619280" y="2276640"/>
            <a:ext cx="5565600" cy="5135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-387360"/>
            <a:ext cx="9144000" cy="273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KONSTRUKTIVISM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-468360" y="476280"/>
            <a:ext cx="10009080" cy="108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1640" y="836640"/>
            <a:ext cx="79545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CHODISKA KONSTRUKTIVISM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ENOMEN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RAZ NA INTERPRETACI, ŽITÝ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SLEDNĚ HUMANISTICKÉ HLEDISK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IDEOLOGIE, POHLED NA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0"/>
            <a:ext cx="856908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. S. Pierce, W. James, J. Dewe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konec 19. a počátek 20. stol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obně jako pozitivismus odmítá abstraktní spekulace a hledání absolutní pravdy bez vztahu k žitému svě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náší do epistemologie kontext v němž se vědecké poznání odehrá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vda je závislá na podmínkách v nichž je získ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itériem pravdivosti není korespondence výroku s realitou, ale očekávané důsledky. -&gt; od korespondenční přes koherenční k ppragmatické teorii prav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4000" y="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ARL MANNHEIM (1893  - 19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IDEOLOGIE – ZÁPAS O VEŘEJNÝ VÝKLAD SVĚ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LE INTELIGENCE JAKO SOCIÁL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LFRED SCHÜTZ (1899 – 19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ENOLOGICKÁ SOCIOLOGIE – PŘIPISOVÁNÍ SMYSLU KAŽDODENNÍMU ŽITÉMU SVĚ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SUBJE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IVITA / OBJEK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RUČNÍ BALÍK VĚDĚ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5280" y="333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ZÁVĚRU 20. STOLETÍ ZÍSKÁVÁ KONSTRUKTIV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ROVSKÝ VLIV A INSPIRUJE VZNIK CELÝCH DISCIPLÍN NAP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D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CIENCE AND TECHNOLOG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ZNAMNĚ OVLIVŇUJE PŘÍSTUP K MNOHA ZKOUMANÝM FENOMÉN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ROD, ETNICITA, SOCIÁLNÍ TŘÍDA, VĚKOVÉ KATEGORIE, VSTUP DO DOSPĚLOSTI, LÁSKA, PARTNERSTV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Ž TAKÉ ZNAMENÁ ROZŠÍ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DEZINTERPRETACI POJ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916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CO JE TO SOCIÁLNÍ KONSTRUK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333360"/>
            <a:ext cx="756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MĚNY POHLEDU NA DVA DŮLEŽITÉ POJMY EPISTEMO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V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respond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koresponduje s real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her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je konzistentní a logicky propojené s dosavadním věd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gmatická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má důsledky, jež při platnosti teorie očekáv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dmoderní pohled – realita pozo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derní pohled – realita za intersubjektivním pozn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moderní pohled – realita neexistuje, nebo nemá smy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933-Rene-Magritte-The-Human-Condition"/>
          <p:cNvPicPr/>
          <p:nvPr/>
        </p:nvPicPr>
        <p:blipFill>
          <a:blip r:embed="rId1"/>
          <a:stretch/>
        </p:blipFill>
        <p:spPr>
          <a:xfrm>
            <a:off x="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5439960" y="6216120"/>
            <a:ext cx="24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René Magr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La condition humai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614920" y="189000"/>
            <a:ext cx="352908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ÉN (JEV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. fainomenon / fa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TITA (JSOUC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. entitas/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novení zájmu o zkušenost a proží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 přirozeného/žitého světa (Patoč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formulace problému reality (kategorie význ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en ze zdrojů postmoderních a konstruktivistických smě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pirac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9640" y="1197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mund Husserl  (1859 – 1938) *Prostě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1310283-Edmund_Husserl"/>
          <p:cNvPicPr/>
          <p:nvPr/>
        </p:nvPicPr>
        <p:blipFill>
          <a:blip r:embed="rId1"/>
          <a:stretch/>
        </p:blipFill>
        <p:spPr>
          <a:xfrm>
            <a:off x="6372360" y="907920"/>
            <a:ext cx="216504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248360" cy="3054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667440" y="24400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ťme se k alegorii jesky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10320" y="4889520"/>
            <a:ext cx="49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ón – alegorie jes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afora, která na dlouhou dobu ovlivnila te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ní – realita „za horizonte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179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179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ipomeňme východiska interpretativních smě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55640" y="134136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7740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79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4000" y="1125360"/>
            <a:ext cx="82087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ymbolický interakcion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G. H. Mead, C. H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sociální psychologie, pragmat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probíhají symbolické výmě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tnometod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. Garfin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je konstruován řád světa, který vnímáme jako samozřejm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eori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1"/>
          <p:cNvSpPr/>
          <p:nvPr/>
        </p:nvSpPr>
        <p:spPr>
          <a:xfrm>
            <a:off x="324000" y="404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VÝCHOZÍ BODY SYMBOLICKÉHO INTERAKCION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4000" y="184464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Lidské bytosti jednají na základě významů, které přikládají věcem, jež je obklop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vlastností samotných věc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sou produktem sociální interakce probíhající mezi členy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stabilní, mohou být neustále proměňovány a redefinovány v průběhu nových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H. COL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 -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365360" y="3068640"/>
            <a:ext cx="4278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RCADLOVÉ J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IMÁRNÍ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ájem o roli sociálního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 utváření osob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Výsledek obrázku pro C H COOLEY"/>
          <p:cNvPicPr/>
          <p:nvPr/>
        </p:nvPicPr>
        <p:blipFill>
          <a:blip r:embed="rId1"/>
          <a:stretch/>
        </p:blipFill>
        <p:spPr>
          <a:xfrm>
            <a:off x="324000" y="1341360"/>
            <a:ext cx="2819160" cy="4010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ORG 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3 - 1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17640" y="2997360"/>
            <a:ext cx="362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niha </a:t>
            </a: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Mind, Self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áze 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LAY  / 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ELF:  I /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Výsledek obrázku pro h mead"/>
          <p:cNvPicPr/>
          <p:nvPr/>
        </p:nvPicPr>
        <p:blipFill>
          <a:blip r:embed="rId1"/>
          <a:stretch/>
        </p:blipFill>
        <p:spPr>
          <a:xfrm>
            <a:off x="395280" y="1341360"/>
            <a:ext cx="2990880" cy="381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Výsledek obrázku pro MIND SELF AND SOCIETY"/>
          <p:cNvPicPr/>
          <p:nvPr/>
        </p:nvPicPr>
        <p:blipFill>
          <a:blip r:embed="rId2"/>
          <a:stretch/>
        </p:blipFill>
        <p:spPr>
          <a:xfrm>
            <a:off x="6948360" y="3860640"/>
            <a:ext cx="1897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ER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OFF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22 -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27640" y="3027240"/>
            <a:ext cx="474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he Presentation of Self in Everyday Lif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sky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šichni hrajeme divadl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ramaturgický přís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STUP OD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TÁLNÍ INSTI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Výsledek obrázku pro ERVING GOFFMAN"/>
          <p:cNvPicPr/>
          <p:nvPr/>
        </p:nvPicPr>
        <p:blipFill>
          <a:blip r:embed="rId1"/>
          <a:stretch/>
        </p:blipFill>
        <p:spPr>
          <a:xfrm>
            <a:off x="0" y="1052640"/>
            <a:ext cx="38448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HAR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ARFINK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7 -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52480" y="2997360"/>
            <a:ext cx="3884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Studies in Ethno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procesy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álního řá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metody udrž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aždodenní re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Výsledek obrázku pro HAROLD GARFINKEL"/>
          <p:cNvPicPr/>
          <p:nvPr/>
        </p:nvPicPr>
        <p:blipFill>
          <a:blip r:embed="rId1"/>
          <a:stretch/>
        </p:blipFill>
        <p:spPr>
          <a:xfrm>
            <a:off x="0" y="1413000"/>
            <a:ext cx="3924360" cy="235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Výsledek obrázku pro HAROLD GARFINKEL"/>
          <p:cNvPicPr/>
          <p:nvPr/>
        </p:nvPicPr>
        <p:blipFill>
          <a:blip r:embed="rId2"/>
          <a:stretch/>
        </p:blipFill>
        <p:spPr>
          <a:xfrm>
            <a:off x="250920" y="3860640"/>
            <a:ext cx="1828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The Social Construction of Reality, first edition.jpg"/>
          <p:cNvPicPr/>
          <p:nvPr/>
        </p:nvPicPr>
        <p:blipFill>
          <a:blip r:embed="rId1"/>
          <a:stretch/>
        </p:blipFill>
        <p:spPr>
          <a:xfrm>
            <a:off x="0" y="476280"/>
            <a:ext cx="384804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3884760" y="476280"/>
            <a:ext cx="525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EC 60. LET 20.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RGER, LUCK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CE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Výsledek obrázku pro SOCIÁLNÍ KONSTRUKCE REALITY"/>
          <p:cNvPicPr/>
          <p:nvPr/>
        </p:nvPicPr>
        <p:blipFill>
          <a:blip r:embed="rId2"/>
          <a:stretch/>
        </p:blipFill>
        <p:spPr>
          <a:xfrm>
            <a:off x="5724360" y="2838600"/>
            <a:ext cx="2502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dcterms:modified xsi:type="dcterms:W3CDTF">2017-10-30T16:54:36Z</dcterms:modified>
  <cp:revision>16</cp:revision>
  <dc:subject/>
  <dc:title>Snímek 1</dc:title>
</cp:coreProperties>
</file>