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2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36.png" ContentType="image/png"/>
  <Override PartName="/ppt/media/image43.jpeg" ContentType="image/jpeg"/>
  <Override PartName="/ppt/media/image37.png" ContentType="image/png"/>
  <Override PartName="/ppt/media/image48.jpeg" ContentType="image/jpeg"/>
  <Override PartName="/ppt/media/image45.png" ContentType="image/png"/>
  <Override PartName="/ppt/media/image44.jpeg" ContentType="image/jpeg"/>
  <Override PartName="/ppt/media/image46.png" ContentType="image/png"/>
  <Override PartName="/ppt/media/image31.jpeg" ContentType="image/jpeg"/>
  <Override PartName="/ppt/media/image41.png" ContentType="image/pn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2660-C4EB-4546-8055-EF5970BEDC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FFE3-F8D2-4842-9B95-85034F75BA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D5B4-B2D6-4100-A024-455D7AE7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FCD5-B8BD-49B5-9E1B-C772B0E4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D75-0506-4E3D-9F12-D3DAA86B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3BC3-8F70-46DC-9133-C6C3B933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D9F-A2D5-486F-AADB-1AD6D345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62B4-1820-4B90-AA53-CF5F423C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732-D9E0-4B52-9ABB-65597EC3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C56-0E18-430C-8B9A-914BDD1B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234-A446-4A23-8517-E1847FC8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C34B-E6B6-4B56-9DF2-E6CF4ED4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7D5-F071-47EE-B766-6D4A95CF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8C9A-8600-4DE8-9063-43304AE0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876B-3ECB-4428-B125-D0D74EB8A4E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1WYM6jBq7nE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Výsledek obrázku pro chicago school sociology"/>
          <p:cNvPicPr/>
          <p:nvPr/>
        </p:nvPicPr>
        <p:blipFill>
          <a:blip r:embed="rId1"/>
          <a:stretch/>
        </p:blipFill>
        <p:spPr>
          <a:xfrm>
            <a:off x="6896160" y="0"/>
            <a:ext cx="2247840" cy="315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3933720"/>
            <a:ext cx="864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Sociologie v USA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v první půli 20.  století dominují: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Chicagská škola</a:t>
            </a: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později…</a:t>
            </a: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Strukturní funkcionalismu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Výsledek obrázku pro chicago school sociology"/>
          <p:cNvPicPr/>
          <p:nvPr/>
        </p:nvPicPr>
        <p:blipFill>
          <a:blip r:embed="rId2"/>
          <a:stretch/>
        </p:blipFill>
        <p:spPr>
          <a:xfrm>
            <a:off x="0" y="0"/>
            <a:ext cx="20318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299736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11280" y="333360"/>
            <a:ext cx="4248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ystém  jed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-podmínky za nichž probíh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eškeré 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Výsledek obrázku pro cultural system social system personality behavioral organism"/>
          <p:cNvPicPr/>
          <p:nvPr/>
        </p:nvPicPr>
        <p:blipFill>
          <a:blip r:embed="rId1"/>
          <a:stretch/>
        </p:blipFill>
        <p:spPr>
          <a:xfrm>
            <a:off x="4284720" y="189000"/>
            <a:ext cx="4859280" cy="2671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256680" y="3141720"/>
            <a:ext cx="8417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BEHAVIORÁLNÍ ORGAN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Biologické faktory jednání (člověk je tvor…)      - ADAP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OSOB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otřeby, motivy, postoje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NAPLŇOVÁNÍ CÍ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CIÁLNÍ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ubor rolí a rolových očekávání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INTE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KULTURNÍ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ubor sdílených hodnot a významů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UDRŽOVÁNÍ SKRY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ZOR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11280" y="333360"/>
            <a:ext cx="8208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ystém jednán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-podmínky za nichž probíhá veškeré 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Výsledek obrázku pro cultural system social system personality behavioral organis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11280" y="333360"/>
            <a:ext cx="8208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CHÉMA „AGIL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Univerzálně platné čtyři typy systémových požadav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Výsledek obrázku pro agil scheme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Podněty  - funkční diferenciace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koncept „nukleární rodiny“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Výsledek obrázku pro functional differentiation parsons family"/>
          <p:cNvPicPr/>
          <p:nvPr/>
        </p:nvPicPr>
        <p:blipFill>
          <a:blip r:embed="rId1"/>
          <a:stretch/>
        </p:blipFill>
        <p:spPr>
          <a:xfrm>
            <a:off x="2771640" y="2349360"/>
            <a:ext cx="3716640" cy="42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Výsledek obrázku pro peasant family"/>
          <p:cNvPicPr/>
          <p:nvPr/>
        </p:nvPicPr>
        <p:blipFill>
          <a:blip r:embed="rId1"/>
          <a:stretch/>
        </p:blipFill>
        <p:spPr>
          <a:xfrm>
            <a:off x="155520" y="46080"/>
            <a:ext cx="4129200" cy="3476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Výsledek obrázku pro TRADITIONAL FAMILY"/>
          <p:cNvPicPr/>
          <p:nvPr/>
        </p:nvPicPr>
        <p:blipFill>
          <a:blip r:embed="rId2"/>
          <a:stretch/>
        </p:blipFill>
        <p:spPr>
          <a:xfrm>
            <a:off x="4788000" y="3645000"/>
            <a:ext cx="4195800" cy="2376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Výsledek obrázku pro HISTORICAL FAMILY"/>
          <p:cNvPicPr/>
          <p:nvPr/>
        </p:nvPicPr>
        <p:blipFill>
          <a:blip r:embed="rId3"/>
          <a:stretch/>
        </p:blipFill>
        <p:spPr>
          <a:xfrm>
            <a:off x="250920" y="3645000"/>
            <a:ext cx="4286160" cy="27050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4911840" y="352440"/>
            <a:ext cx="405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Nediferencovaný systé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rolínání funk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Rodina má funkce ekonomické, politické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Diferenciace funk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Moderní rodina – sociali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Nukleární rod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(primárně emoční funk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Výsledek obrázku pro functional differentiation parsons family"/>
          <p:cNvPicPr/>
          <p:nvPr/>
        </p:nvPicPr>
        <p:blipFill>
          <a:blip r:embed="rId1"/>
          <a:stretch/>
        </p:blipFill>
        <p:spPr>
          <a:xfrm>
            <a:off x="1835280" y="0"/>
            <a:ext cx="56656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1628640"/>
            <a:ext cx="864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Podněty – životní dráhy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diferenciace nových životních období</a:t>
            </a:r>
            <a:br>
              <a:rPr sz="40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arsons si všímá jak se prodlužuje naděje dožití a zlepšuje zdravotní stav starých lidí – vzniká tak nové životní období. Toto období však není spojeno s odpovídajícími rolemi a institucemi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"/>
          <p:cNvPicPr/>
          <p:nvPr/>
        </p:nvPicPr>
        <p:blipFill>
          <a:blip r:embed="rId1"/>
          <a:stretch/>
        </p:blipFill>
        <p:spPr>
          <a:xfrm>
            <a:off x="324000" y="4002120"/>
            <a:ext cx="4292280" cy="2855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Výsledek obrázku pro youth myth  seniors"/>
          <p:cNvPicPr/>
          <p:nvPr/>
        </p:nvPicPr>
        <p:blipFill>
          <a:blip r:embed="rId2"/>
          <a:stretch/>
        </p:blipFill>
        <p:spPr>
          <a:xfrm>
            <a:off x="5076720" y="4005360"/>
            <a:ext cx="34560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ROBERT 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ERT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0 -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461840" y="2997360"/>
            <a:ext cx="4524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Žák T. Parsonse na Harvardu, U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60.  -70. léta, Columbi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Reakce na kritiku strukturní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cionalis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středního dosa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Latentní a manifestní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evi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Výsledek obrázku pro R.K. MERTON"/>
          <p:cNvPicPr/>
          <p:nvPr/>
        </p:nvPicPr>
        <p:blipFill>
          <a:blip r:embed="rId1"/>
          <a:stretch/>
        </p:blipFill>
        <p:spPr>
          <a:xfrm>
            <a:off x="-2197080" y="1360440"/>
            <a:ext cx="63133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ROBERT 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ERT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0 -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10200" y="285264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Hlavní dí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Výsledek obrázku pro Social Theory and Social Structure merton"/>
          <p:cNvPicPr/>
          <p:nvPr/>
        </p:nvPicPr>
        <p:blipFill>
          <a:blip r:embed="rId1"/>
          <a:stretch/>
        </p:blipFill>
        <p:spPr>
          <a:xfrm>
            <a:off x="611280" y="3573360"/>
            <a:ext cx="1419120" cy="28576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1"/>
          <p:cNvSpPr/>
          <p:nvPr/>
        </p:nvSpPr>
        <p:spPr>
          <a:xfrm>
            <a:off x="2599920" y="2492280"/>
            <a:ext cx="6529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středního dosahu: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naha propojit funkcionální teorii 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empirickým výzkume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anifestní a latentní funkce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rov. koncept nezamýšlený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ůsledků jednání (We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deviace – reakce na obvi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cionalismu z přílišného spoléhání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onformitu aktérů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ysfunkce – funkční může být zároveň dysfunkč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Výsledek obrázku pro r k merton"/>
          <p:cNvPicPr/>
          <p:nvPr/>
        </p:nvPicPr>
        <p:blipFill>
          <a:blip r:embed="rId2"/>
          <a:stretch/>
        </p:blipFill>
        <p:spPr>
          <a:xfrm>
            <a:off x="611280" y="189000"/>
            <a:ext cx="17524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ciální struktura podle Merto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urně dané imperativ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Cíle a cesty k n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dividuální reakce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přijetí, odmítnutí, nahra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 a cest k nim mohou být dualit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Přímá spojnice se šipkou 11"/>
          <p:cNvCxnSpPr/>
          <p:nvPr/>
        </p:nvCxnSpPr>
        <p:spPr>
          <a:xfrm>
            <a:off x="1089000" y="5638320"/>
            <a:ext cx="4426560" cy="1080"/>
          </a:xfrm>
          <a:prstGeom prst="straightConnector1">
            <a:avLst/>
          </a:prstGeom>
          <a:ln w="38160">
            <a:solidFill>
              <a:srgbClr val="daede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7" name="TextovéPole 12"/>
          <p:cNvSpPr/>
          <p:nvPr/>
        </p:nvSpPr>
        <p:spPr>
          <a:xfrm>
            <a:off x="257040" y="5792760"/>
            <a:ext cx="13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 úspě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13"/>
          <p:cNvSpPr/>
          <p:nvPr/>
        </p:nvSpPr>
        <p:spPr>
          <a:xfrm>
            <a:off x="4853160" y="579276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 rituá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ovéPole 14"/>
          <p:cNvSpPr/>
          <p:nvPr/>
        </p:nvSpPr>
        <p:spPr>
          <a:xfrm>
            <a:off x="2216160" y="5226120"/>
            <a:ext cx="24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grovaná společ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Výsledek obrázku pro chicago america 20s"/>
          <p:cNvPicPr/>
          <p:nvPr/>
        </p:nvPicPr>
        <p:blipFill>
          <a:blip r:embed="rId1"/>
          <a:stretch/>
        </p:blipFill>
        <p:spPr>
          <a:xfrm>
            <a:off x="0" y="0"/>
            <a:ext cx="4067280" cy="34034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Výsledek obrázku pro chicago america 20s"/>
          <p:cNvPicPr/>
          <p:nvPr/>
        </p:nvPicPr>
        <p:blipFill>
          <a:blip r:embed="rId2"/>
          <a:stretch/>
        </p:blipFill>
        <p:spPr>
          <a:xfrm>
            <a:off x="0" y="5210280"/>
            <a:ext cx="2771640" cy="164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Výsledek obrázku pro chicago america 20s"/>
          <p:cNvPicPr/>
          <p:nvPr/>
        </p:nvPicPr>
        <p:blipFill>
          <a:blip r:embed="rId3"/>
          <a:stretch/>
        </p:blipFill>
        <p:spPr>
          <a:xfrm>
            <a:off x="5970600" y="0"/>
            <a:ext cx="3173400" cy="264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Výsledek obrázku pro chicago america 20s"/>
          <p:cNvPicPr/>
          <p:nvPr/>
        </p:nvPicPr>
        <p:blipFill>
          <a:blip r:embed="rId4"/>
          <a:stretch/>
        </p:blipFill>
        <p:spPr>
          <a:xfrm>
            <a:off x="4381560" y="4476600"/>
            <a:ext cx="4762440" cy="2381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Výsledek obrázku pro chicago america 20s"/>
          <p:cNvPicPr/>
          <p:nvPr/>
        </p:nvPicPr>
        <p:blipFill>
          <a:blip r:embed="rId5"/>
          <a:stretch/>
        </p:blipFill>
        <p:spPr>
          <a:xfrm>
            <a:off x="3348000" y="0"/>
            <a:ext cx="2879640" cy="1827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Výsledek obrázku pro corner street society"/>
          <p:cNvPicPr/>
          <p:nvPr/>
        </p:nvPicPr>
        <p:blipFill>
          <a:blip r:embed="rId6"/>
          <a:stretch/>
        </p:blipFill>
        <p:spPr>
          <a:xfrm>
            <a:off x="2771640" y="3284640"/>
            <a:ext cx="2382840" cy="3573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Výsledek obrázku pro urban gangs chicago  20s"/>
          <p:cNvPicPr/>
          <p:nvPr/>
        </p:nvPicPr>
        <p:blipFill>
          <a:blip r:embed="rId7"/>
          <a:stretch/>
        </p:blipFill>
        <p:spPr>
          <a:xfrm>
            <a:off x="6602400" y="2133720"/>
            <a:ext cx="2541600" cy="235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5" descr="Výsledek obrázku pro young urban gangs chicago  20s"/>
          <p:cNvPicPr/>
          <p:nvPr/>
        </p:nvPicPr>
        <p:blipFill>
          <a:blip r:embed="rId8"/>
          <a:stretch/>
        </p:blipFill>
        <p:spPr>
          <a:xfrm>
            <a:off x="0" y="3284640"/>
            <a:ext cx="2471760" cy="197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7" descr="Výsledek obrázku pro young urban society chicago  20s"/>
          <p:cNvPicPr/>
          <p:nvPr/>
        </p:nvPicPr>
        <p:blipFill>
          <a:blip r:embed="rId9"/>
          <a:stretch/>
        </p:blipFill>
        <p:spPr>
          <a:xfrm>
            <a:off x="2195640" y="1773360"/>
            <a:ext cx="4824360" cy="271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9" descr="Výsledek obrázku pro josephine baker"/>
          <p:cNvPicPr/>
          <p:nvPr/>
        </p:nvPicPr>
        <p:blipFill>
          <a:blip r:embed="rId10"/>
          <a:stretch/>
        </p:blipFill>
        <p:spPr>
          <a:xfrm>
            <a:off x="2050920" y="4292640"/>
            <a:ext cx="7826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ají dosazením reakcí k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ílům a cestám k n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Users\User\Desktop\Výstřižek.PNG"/>
          <p:cNvPicPr/>
          <p:nvPr/>
        </p:nvPicPr>
        <p:blipFill>
          <a:blip r:embed="rId1"/>
          <a:stretch/>
        </p:blipFill>
        <p:spPr>
          <a:xfrm>
            <a:off x="3708360" y="2133720"/>
            <a:ext cx="33847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formita a integrovaná společ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: přijat, internalizov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Přijaty, internalizov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 u nás?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rainstorming, zapsat počet obhájených příkladů)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držováním cest konformní člověk získává cíle a satisfakci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&gt; nevzniká „blbá nálada“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společnost je integrova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novace a společnost úspěch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Přijaty, internalizov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Odmítn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 u nás?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Brainstorming, zapsat počet obhájených příkladů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ůže se rozvinout velmi silný, někdy v podstatě výlučný důraz na hodnotu určitých cílů… …Ke krajnímu případu tohoto typu se dospívá tam, kde škálu alternativních postupů ovládají pouze technické, nikoli institucionalizované normy“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itualismus a společnost ritu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Odmí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Přijímá, internaliz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 u nás?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rainstorming, zapsat počet obhájených příklad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tup přichází o cíl, dočasná sociální stabilita, strach z nového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jednání přežívá svůj cíl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Odmí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Odmí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cit poraženosti -&gt; rezignace 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nikové mechanismy -&gt; vyřazení člověka z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ebel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Nahrazu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Nahrazu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Vede lidi ven ze soc. struktury, která je obklopuje, a k plánování a snaze o nastolení soc. struktury nové“ 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1WYM6jBq7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oluntary simplicity nebo minim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-materialistická mainstreamová teorie VS (Ingle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brová: Greens/colourfuls – Lifestyle-aktivismus/zvy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&gt;VS není nutně rebelstv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GRETA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jaké společnosti žijem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do je/není rebel a proč? Proč 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ranice mezi rebelii a unike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belství jako recyklace naděje (19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iné post-socialistický kontexty, které „otřásly“ americkými koncepce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2492280"/>
            <a:ext cx="864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Rozvinutí sociologické diskuse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kritika strukturního funkcionalismu: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teorie konfliktu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marxismus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feminismus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teorie racionální volby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neofunkcionalism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HARLES W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IL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6 - 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851280" y="2852640"/>
            <a:ext cx="489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Columbia University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ritika strukturního funkcionalism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e ideologický, obhajuje status q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a slouží establishmen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ení teorií, jen složitým popisem banálních skuteč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řeceňuje konsensus a nepočítá s konflik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Výsledek obrázku pro c w mills"/>
          <p:cNvPicPr/>
          <p:nvPr/>
        </p:nvPicPr>
        <p:blipFill>
          <a:blip r:embed="rId1"/>
          <a:stretch/>
        </p:blipFill>
        <p:spPr>
          <a:xfrm>
            <a:off x="395280" y="2565360"/>
            <a:ext cx="2943360" cy="376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Výsledek obrázku pro c w mills"/>
          <p:cNvPicPr/>
          <p:nvPr/>
        </p:nvPicPr>
        <p:blipFill>
          <a:blip r:embed="rId2"/>
          <a:stretch/>
        </p:blipFill>
        <p:spPr>
          <a:xfrm>
            <a:off x="395280" y="260280"/>
            <a:ext cx="190512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Výsledek obrázku pro america 50s"/>
          <p:cNvPicPr/>
          <p:nvPr/>
        </p:nvPicPr>
        <p:blipFill>
          <a:blip r:embed="rId1"/>
          <a:stretch/>
        </p:blipFill>
        <p:spPr>
          <a:xfrm>
            <a:off x="5710320" y="0"/>
            <a:ext cx="3433680" cy="3279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Výsledek obrázku pro america 50s"/>
          <p:cNvPicPr/>
          <p:nvPr/>
        </p:nvPicPr>
        <p:blipFill>
          <a:blip r:embed="rId2"/>
          <a:stretch/>
        </p:blipFill>
        <p:spPr>
          <a:xfrm>
            <a:off x="0" y="0"/>
            <a:ext cx="3780000" cy="212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Výsledek obrázku pro america 50s"/>
          <p:cNvPicPr/>
          <p:nvPr/>
        </p:nvPicPr>
        <p:blipFill>
          <a:blip r:embed="rId3"/>
          <a:stretch/>
        </p:blipFill>
        <p:spPr>
          <a:xfrm>
            <a:off x="-181080" y="3059280"/>
            <a:ext cx="2627280" cy="379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Výsledek obrázku pro america 50s"/>
          <p:cNvPicPr/>
          <p:nvPr/>
        </p:nvPicPr>
        <p:blipFill>
          <a:blip r:embed="rId4"/>
          <a:stretch/>
        </p:blipFill>
        <p:spPr>
          <a:xfrm>
            <a:off x="3492360" y="0"/>
            <a:ext cx="2448000" cy="227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Výsledek obrázku pro america 50s"/>
          <p:cNvPicPr/>
          <p:nvPr/>
        </p:nvPicPr>
        <p:blipFill>
          <a:blip r:embed="rId5"/>
          <a:stretch/>
        </p:blipFill>
        <p:spPr>
          <a:xfrm>
            <a:off x="5724360" y="3963960"/>
            <a:ext cx="3419640" cy="2894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Výsledek obrázku pro america 50s suburbs"/>
          <p:cNvPicPr/>
          <p:nvPr/>
        </p:nvPicPr>
        <p:blipFill>
          <a:blip r:embed="rId6"/>
          <a:stretch/>
        </p:blipFill>
        <p:spPr>
          <a:xfrm>
            <a:off x="2124000" y="4121280"/>
            <a:ext cx="4103640" cy="273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Výsledek obrázku pro america 50s atomic"/>
          <p:cNvPicPr/>
          <p:nvPr/>
        </p:nvPicPr>
        <p:blipFill>
          <a:blip r:embed="rId7"/>
          <a:stretch/>
        </p:blipFill>
        <p:spPr>
          <a:xfrm>
            <a:off x="1476360" y="2060640"/>
            <a:ext cx="1511280" cy="113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Výsledek obrázku pro america 50s nasa"/>
          <p:cNvPicPr/>
          <p:nvPr/>
        </p:nvPicPr>
        <p:blipFill>
          <a:blip r:embed="rId8"/>
          <a:stretch/>
        </p:blipFill>
        <p:spPr>
          <a:xfrm>
            <a:off x="7093080" y="2421000"/>
            <a:ext cx="2050920" cy="153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carfactory"/>
          <p:cNvPicPr/>
          <p:nvPr/>
        </p:nvPicPr>
        <p:blipFill>
          <a:blip r:embed="rId9"/>
          <a:stretch/>
        </p:blipFill>
        <p:spPr>
          <a:xfrm>
            <a:off x="2987640" y="213372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1950s-date"/>
          <p:cNvPicPr/>
          <p:nvPr/>
        </p:nvPicPr>
        <p:blipFill>
          <a:blip r:embed="rId10"/>
          <a:stretch/>
        </p:blipFill>
        <p:spPr>
          <a:xfrm>
            <a:off x="0" y="1916280"/>
            <a:ext cx="15476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HARLES W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IL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6 - 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Výsledek obrázku pro c w mills"/>
          <p:cNvPicPr/>
          <p:nvPr/>
        </p:nvPicPr>
        <p:blipFill>
          <a:blip r:embed="rId1"/>
          <a:stretch/>
        </p:blipFill>
        <p:spPr>
          <a:xfrm>
            <a:off x="395280" y="260280"/>
            <a:ext cx="1905120" cy="1924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Výsledek obrázku pro sociologická imaginace"/>
          <p:cNvPicPr/>
          <p:nvPr/>
        </p:nvPicPr>
        <p:blipFill>
          <a:blip r:embed="rId2"/>
          <a:stretch/>
        </p:blipFill>
        <p:spPr>
          <a:xfrm>
            <a:off x="1403280" y="2708280"/>
            <a:ext cx="2624040" cy="414972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5" descr="Výsledek obrázku pro mocenská elita mills"/>
          <p:cNvPicPr/>
          <p:nvPr/>
        </p:nvPicPr>
        <p:blipFill>
          <a:blip r:embed="rId3"/>
          <a:stretch/>
        </p:blipFill>
        <p:spPr>
          <a:xfrm>
            <a:off x="4356000" y="2690640"/>
            <a:ext cx="25671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TALCO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PARS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02 -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432320" y="2997360"/>
            <a:ext cx="463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ůsobil na Harvardu, U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30.  -70. lé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okus o sjednocení soc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Čerpá z tradice Durkheima, Pare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Comta, ale i Web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turní funkcional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uta, funkce, jedná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Výsledek obrázku pro TALCOTT PARSONS"/>
          <p:cNvPicPr/>
          <p:nvPr/>
        </p:nvPicPr>
        <p:blipFill>
          <a:blip r:embed="rId1"/>
          <a:stretch/>
        </p:blipFill>
        <p:spPr>
          <a:xfrm>
            <a:off x="0" y="1063800"/>
            <a:ext cx="404640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TALCO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PARS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02 -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8920" y="270828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Hlavní dí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Výsledek obrázku pro talcott parsons book"/>
          <p:cNvPicPr/>
          <p:nvPr/>
        </p:nvPicPr>
        <p:blipFill>
          <a:blip r:embed="rId1"/>
          <a:stretch/>
        </p:blipFill>
        <p:spPr>
          <a:xfrm>
            <a:off x="395280" y="3716280"/>
            <a:ext cx="1714680" cy="2562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Výsledek obrázku pro talcott parsons book"/>
          <p:cNvPicPr/>
          <p:nvPr/>
        </p:nvPicPr>
        <p:blipFill>
          <a:blip r:embed="rId2"/>
          <a:stretch/>
        </p:blipFill>
        <p:spPr>
          <a:xfrm>
            <a:off x="2556000" y="3716280"/>
            <a:ext cx="1731960" cy="2602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5"/>
          <p:cNvSpPr/>
          <p:nvPr/>
        </p:nvSpPr>
        <p:spPr>
          <a:xfrm>
            <a:off x="788400" y="3213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0" descr="Výsledek obrázku pro Societies: evolutionary and comparative"/>
          <p:cNvPicPr/>
          <p:nvPr/>
        </p:nvPicPr>
        <p:blipFill>
          <a:blip r:embed="rId3"/>
          <a:stretch/>
        </p:blipFill>
        <p:spPr>
          <a:xfrm>
            <a:off x="4643280" y="3716280"/>
            <a:ext cx="1743120" cy="2576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1" descr="Výsledek obrázku pro talcott parsons book"/>
          <p:cNvPicPr/>
          <p:nvPr/>
        </p:nvPicPr>
        <p:blipFill>
          <a:blip r:embed="rId4"/>
          <a:stretch/>
        </p:blipFill>
        <p:spPr>
          <a:xfrm>
            <a:off x="6804000" y="3716280"/>
            <a:ext cx="1682640" cy="2592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2"/>
          <p:cNvSpPr/>
          <p:nvPr/>
        </p:nvSpPr>
        <p:spPr>
          <a:xfrm>
            <a:off x="7270200" y="3213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3020400" y="3213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4"/>
          <p:cNvSpPr/>
          <p:nvPr/>
        </p:nvSpPr>
        <p:spPr>
          <a:xfrm>
            <a:off x="5108040" y="3141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042920" y="765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PARSONSOVSKÉ ZDROJ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76360" y="2084400"/>
            <a:ext cx="6240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DURKHE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a funk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organické pojetí -&gt; systémová teori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WE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ociální jednání jako ústřední kateg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= POKUS O SYNTÉ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dnání v rámci stru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835280" y="76500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O JE FUNKC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68080" y="2133720"/>
            <a:ext cx="8004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ŘÍČINNÉ VYSVĚT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vazby mezi jednáním a jeho zdroj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bez ohledu na vědomí aktéra sledujeme souvislosti chování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OROZUMĚNÍ JED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vědomé kategorie přikládané aktéry jednán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- účel, dů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ČNÍ VYSVĚT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objektivní dopady jednání v rámci systém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zaměření na důsledky, které jsou struktur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50920" y="476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neplést s funkcionalism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v architektu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Výsledek obrázku pro modulor corbusier"/>
          <p:cNvPicPr/>
          <p:nvPr/>
        </p:nvPicPr>
        <p:blipFill>
          <a:blip r:embed="rId1"/>
          <a:stretch/>
        </p:blipFill>
        <p:spPr>
          <a:xfrm>
            <a:off x="108000" y="1989000"/>
            <a:ext cx="4170240" cy="214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Výsledek obrázku pro habitat corbusier"/>
          <p:cNvPicPr/>
          <p:nvPr/>
        </p:nvPicPr>
        <p:blipFill>
          <a:blip r:embed="rId2"/>
          <a:stretch/>
        </p:blipFill>
        <p:spPr>
          <a:xfrm>
            <a:off x="5238720" y="2060640"/>
            <a:ext cx="3905280" cy="2971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Výsledek obrázku pro habitat corbusier"/>
          <p:cNvPicPr/>
          <p:nvPr/>
        </p:nvPicPr>
        <p:blipFill>
          <a:blip r:embed="rId3"/>
          <a:stretch/>
        </p:blipFill>
        <p:spPr>
          <a:xfrm>
            <a:off x="0" y="4246560"/>
            <a:ext cx="5275440" cy="261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Výsledek obrázku pro le corbusier"/>
          <p:cNvPicPr/>
          <p:nvPr/>
        </p:nvPicPr>
        <p:blipFill>
          <a:blip r:embed="rId4"/>
          <a:stretch/>
        </p:blipFill>
        <p:spPr>
          <a:xfrm>
            <a:off x="7740720" y="5051520"/>
            <a:ext cx="1235160" cy="1806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Výsledek obrázku pro le corbusier"/>
          <p:cNvPicPr/>
          <p:nvPr/>
        </p:nvPicPr>
        <p:blipFill>
          <a:blip r:embed="rId5"/>
          <a:stretch/>
        </p:blipFill>
        <p:spPr>
          <a:xfrm>
            <a:off x="5219640" y="5157720"/>
            <a:ext cx="22384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-100080"/>
            <a:ext cx="9144000" cy="1052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Výsledek obrázku pro talcott parsons comix"/>
          <p:cNvPicPr/>
          <p:nvPr/>
        </p:nvPicPr>
        <p:blipFill>
          <a:blip r:embed="rId1"/>
          <a:stretch/>
        </p:blipFill>
        <p:spPr>
          <a:xfrm>
            <a:off x="6732720" y="3573360"/>
            <a:ext cx="2286000" cy="3076560"/>
          </a:xfrm>
          <a:prstGeom prst="rect">
            <a:avLst/>
          </a:prstGeom>
          <a:ln w="0">
            <a:noFill/>
          </a:ln>
        </p:spPr>
      </p:pic>
      <p:sp>
        <p:nvSpPr>
          <p:cNvPr id="107" name="Oval 8"/>
          <p:cNvSpPr/>
          <p:nvPr/>
        </p:nvSpPr>
        <p:spPr>
          <a:xfrm>
            <a:off x="755640" y="836640"/>
            <a:ext cx="5688000" cy="403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de mi tedy o 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 spojit dvě tradice sociologického myš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sadit pojem sociálního jednání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ho rám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konám tak nedostatek současné sociolog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á se příliš věnuje dílčím tématů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nemá aspiraci vytvořit teorii spole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em nevyléčitelný teoreti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948360" y="3933720"/>
            <a:ext cx="266760" cy="265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6443640" y="3500280"/>
            <a:ext cx="50472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1T08:32:13Z</dcterms:created>
  <dc:creator>x</dc:creator>
  <dc:description/>
  <dc:language>en-US</dc:language>
  <cp:lastModifiedBy>Doricakova</cp:lastModifiedBy>
  <dcterms:modified xsi:type="dcterms:W3CDTF">2019-11-13T09:23:56Z</dcterms:modified>
  <cp:revision>23</cp:revision>
  <dc:subject/>
  <dc:title>Snímek 1</dc:title>
</cp:coreProperties>
</file>