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72A2-5559-486A-88E7-32ABB338C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0FDA-6FA9-4519-BCA4-A8E7781B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E74B-F6C4-48A0-B215-3C54498A3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8E2E-519D-401B-9606-B4897E3DD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4E9A-CA75-4D8C-88C9-2D8EC33B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45F1-DF37-4F7C-A5DC-331CD927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35A2-60B8-4E40-8773-C94B4AE1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DBBC-B328-410E-8B7E-5FED5126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24CE-06E3-4C31-B873-A5E83C0B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8073-461F-49F6-81AF-B9AAD891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6830-7D25-4F90-BFA6-773277AF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03B5-5F54-4638-BBC7-8BD4DCF0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0FE6-04C3-497A-B767-50556BF28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000" y="0"/>
            <a:ext cx="5654880" cy="1312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Literatura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413000"/>
            <a:ext cx="86616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vinná četba ze čtyř kni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IDDENS, Anthony. 2013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ociologie. Aktualizované a rozšířené vydání revidované Philipem W. Suttone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raha: Arg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ARRINGTON, Austin. 2006. 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Moderní sociální teorie: základní témata a myšlenkové proud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raha: Portá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ELLER, Jan. 1997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Úvod do sociologi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raha: Sociologické nakladatelstv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RTUCCELLI, Danilo. 2008. 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ociologie modernity: itinerář 20. stolet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Brno: Centrum pro studium demokracie a kultury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Výsledek obrázku pro giddens sociologie"/>
          <p:cNvPicPr/>
          <p:nvPr/>
        </p:nvPicPr>
        <p:blipFill>
          <a:blip r:embed="rId1"/>
          <a:stretch/>
        </p:blipFill>
        <p:spPr>
          <a:xfrm>
            <a:off x="611280" y="1052640"/>
            <a:ext cx="3786120" cy="5287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Výsledek obrázku pro giddens sociologie"/>
          <p:cNvPicPr/>
          <p:nvPr/>
        </p:nvPicPr>
        <p:blipFill>
          <a:blip r:embed="rId2"/>
          <a:stretch/>
        </p:blipFill>
        <p:spPr>
          <a:xfrm>
            <a:off x="5292720" y="1052640"/>
            <a:ext cx="3645000" cy="5329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79480" y="176040"/>
            <a:ext cx="27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jnovějš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37080" y="204840"/>
            <a:ext cx="142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rš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Výsledek obrázku pro harrington moderní sociální teorie"/>
          <p:cNvPicPr/>
          <p:nvPr/>
        </p:nvPicPr>
        <p:blipFill>
          <a:blip r:embed="rId1"/>
          <a:srcRect l="20157" t="6299" r="17638" b="6299"/>
          <a:stretch/>
        </p:blipFill>
        <p:spPr>
          <a:xfrm>
            <a:off x="395280" y="692280"/>
            <a:ext cx="4168800" cy="5857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Výsledek obrázku pro danilo Martuccelli – Sociologie  modernity: Itinerář 20. století"/>
          <p:cNvPicPr/>
          <p:nvPr/>
        </p:nvPicPr>
        <p:blipFill>
          <a:blip r:embed="rId2"/>
          <a:stretch/>
        </p:blipFill>
        <p:spPr>
          <a:xfrm>
            <a:off x="4932360" y="333360"/>
            <a:ext cx="3860640" cy="61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Výsledek obrázku pro keller úvod do sociologie"/>
          <p:cNvPicPr/>
          <p:nvPr/>
        </p:nvPicPr>
        <p:blipFill>
          <a:blip r:embed="rId1"/>
          <a:stretch/>
        </p:blipFill>
        <p:spPr>
          <a:xfrm>
            <a:off x="2585880" y="571680"/>
            <a:ext cx="3972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0T04:08:30Z</dcterms:created>
  <dc:creator>x</dc:creator>
  <dc:description/>
  <dc:language>en-US</dc:language>
  <cp:lastModifiedBy>x</cp:lastModifiedBy>
  <dcterms:modified xsi:type="dcterms:W3CDTF">2016-09-20T05:00:50Z</dcterms:modified>
  <cp:revision>2</cp:revision>
  <dc:subject/>
  <dc:title>Snímek 1</dc:title>
</cp:coreProperties>
</file>