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A97F-9434-4215-B567-7867F05FE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9F51-B27B-41BA-BEB5-9C3802569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FF0B-43D5-4E7B-8064-57DB4DC9F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12A5-4C5B-4868-B438-723C481FF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FD0D-5C4D-4292-BCBD-3ECE96FFF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72CC-69D2-426E-BEF6-BB059095F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49F3-8FA6-409F-AA64-92750F0D0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A608-9FB8-44A6-9E93-2FAC1F7FB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72EC-961A-4F40-BA04-B79BB8EA9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8038-4C8D-4A14-85F2-D3BF94B2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AA45-636C-4007-989C-A883400B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3AD6-E776-4D0C-B8B1-AD2D3915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AD975-0134-43FB-A99F-21527217FC2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Výsledek obrázku pro VŘSR"/>
          <p:cNvPicPr/>
          <p:nvPr/>
        </p:nvPicPr>
        <p:blipFill>
          <a:blip r:embed="rId1"/>
          <a:stretch/>
        </p:blipFill>
        <p:spPr>
          <a:xfrm>
            <a:off x="-20520" y="-14400"/>
            <a:ext cx="916452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395280" y="1197000"/>
            <a:ext cx="8207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MŮŽEME TEDY HOVOŘIT O STRUKTUŘ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VĚKO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PODLE POHLA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ETN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NÁBOŽENS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A TAKÉ TŘÍD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2010"/>
          <p:cNvPicPr/>
          <p:nvPr/>
        </p:nvPicPr>
        <p:blipFill>
          <a:blip r:embed="rId1"/>
          <a:stretch/>
        </p:blipFill>
        <p:spPr>
          <a:xfrm>
            <a:off x="3851280" y="2467080"/>
            <a:ext cx="453384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Výsledek obrázku pro social classes"/>
          <p:cNvPicPr/>
          <p:nvPr/>
        </p:nvPicPr>
        <p:blipFill>
          <a:blip r:embed="rId1"/>
          <a:stretch/>
        </p:blipFill>
        <p:spPr>
          <a:xfrm>
            <a:off x="0" y="1046160"/>
            <a:ext cx="9144000" cy="5811840"/>
          </a:xfrm>
          <a:prstGeom prst="rect">
            <a:avLst/>
          </a:prstGeom>
          <a:ln w="0">
            <a:noFill/>
          </a:ln>
        </p:spPr>
      </p:pic>
      <p:sp>
        <p:nvSpPr>
          <p:cNvPr id="79" name="Text Box 9"/>
          <p:cNvSpPr/>
          <p:nvPr/>
        </p:nvSpPr>
        <p:spPr>
          <a:xfrm>
            <a:off x="434520" y="333360"/>
            <a:ext cx="755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RŮZNORODOST POSTOJŮ, ŽIVOTNÍCH STYLŮ, ŽIVOTNÍCH ŠANCÍ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115920"/>
            <a:ext cx="9144000" cy="2665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8353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A JEDNÍM Z NEJČASTĚJI UŽÍVANÝCH ZPŮSOBŮ, JAK SPOLEČNOST ROZČLEŇOVA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468360" y="2997360"/>
            <a:ext cx="8207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JE TEORIE STRATIFIK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SYSTÉM HIERARCHICKY USPOŘÁDANÝCH SKUP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Výsledek obrázku pro CLASS STRUCTURE"/>
          <p:cNvPicPr/>
          <p:nvPr/>
        </p:nvPicPr>
        <p:blipFill>
          <a:blip r:embed="rId1"/>
          <a:stretch/>
        </p:blipFill>
        <p:spPr>
          <a:xfrm>
            <a:off x="900000" y="4221000"/>
            <a:ext cx="196560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Obdélník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Výsledek obrázku pro CLASS STRUCTURE"/>
          <p:cNvPicPr/>
          <p:nvPr/>
        </p:nvPicPr>
        <p:blipFill>
          <a:blip r:embed="rId1"/>
          <a:stretch/>
        </p:blipFill>
        <p:spPr>
          <a:xfrm>
            <a:off x="1403280" y="-82440"/>
            <a:ext cx="5184720" cy="69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115920"/>
            <a:ext cx="9144000" cy="2665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8353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ODLIŠNOST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NEROVNOST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(NE)SPRAVEDL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468360" y="2997360"/>
            <a:ext cx="82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951840" y="3448080"/>
            <a:ext cx="7585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UNKCIONÁLNÍ POHL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ROVNOST JE DŮSLEDKEM MERITOKRATICKÝCH PRINCIP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ROVNOST MOTIVUJE K VÝKO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ROVNOST ALOKUJE TY SPRÁVNÉ JEDINCE NA SPRÁVNÁ MÍ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NFLIKTUALISTICKÝ POHL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ROVNOST JE VÝSLEDKEM ÚTLA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ROVNOST OMEZUJE ŽIVOTNÍ Š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0"/>
            <a:ext cx="9144000" cy="1657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353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HISTORICKÉ TYPY SOCIÁLNÍ STRUKTURY (STRATIFIKAC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468360" y="2421000"/>
            <a:ext cx="8207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OTROKÁŘSTV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(STAROVĚKÁ SPOLEČNOST + KOLONIALISM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KAS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(NÁBOŽENSKY DEFINOVANÉ SKUPI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STAV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(FEUDÁLNÍ SPOLEČNO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0"/>
            <a:ext cx="9144000" cy="1657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353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MODERNÍ STRATIFIK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468360" y="1916280"/>
            <a:ext cx="8207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TŘÍD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SYSTÉM TŘÍD JE PROSTUPNĚJŠÍ NEŽ OSTATNÍ SYSTÉ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JE FLEXIBILNĚJŠÍ – VYHOVUJE LÉPE INDUSTRIÁLNÍ KAPITALISTICKÉ SPOLEČ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Výsledek obrázku pro ČESKÝ SELFMADEMAN"/>
          <p:cNvPicPr/>
          <p:nvPr/>
        </p:nvPicPr>
        <p:blipFill>
          <a:blip r:embed="rId1"/>
          <a:stretch/>
        </p:blipFill>
        <p:spPr>
          <a:xfrm>
            <a:off x="0" y="4795920"/>
            <a:ext cx="3780000" cy="2062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Výsledek obrázku pro AMERICAN DREAM"/>
          <p:cNvPicPr/>
          <p:nvPr/>
        </p:nvPicPr>
        <p:blipFill>
          <a:blip r:embed="rId2"/>
          <a:stretch/>
        </p:blipFill>
        <p:spPr>
          <a:xfrm>
            <a:off x="3924360" y="4797360"/>
            <a:ext cx="521964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0" y="0"/>
            <a:ext cx="9144000" cy="1657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353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MARXOVO POJETÍ TŘÍ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468360" y="2997360"/>
            <a:ext cx="8207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TŘÍDY JSOU ODVOZENÉ OD VZTAHU K VÝROBNÍM PROSTŘEDKŮ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VLASTNÍCI PROSTŘEDKŮ: BURŽOAZ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VYKONÁVAJÍCÍ NÁMEZDNÍ PRÁCI: PROLETARIÁ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0" y="0"/>
            <a:ext cx="9144000" cy="1657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353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WEBEROVO POJETÍ TŘÍ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468360" y="2997360"/>
            <a:ext cx="8207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TŘÍDA (EKONOMICKÉ ZDROJ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STATUS (PRESTIŽ, UZNÁ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STRANA (ZÁJMY, KULTU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0" y="0"/>
            <a:ext cx="9144000" cy="1657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353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TŘÍDY PODLE E.O.WRIGH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468360" y="2997360"/>
            <a:ext cx="8207280" cy="34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investicemi nebo finančním kapitá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fyzickými výrobními prostředky (půda, továrny, kancelář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3.  pracovními silami (najatým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(problém s manaže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102600" y="1916280"/>
            <a:ext cx="829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Třídy jsou rozlišovány podle toho, zda příslušníc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Disponuj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délník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Arial"/>
              </a:rPr>
              <a:t>CO JE NEROVNO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Arial"/>
              </a:rPr>
              <a:t>LZE NEROVNOST ODSTRAN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Arial"/>
              </a:rPr>
              <a:t>JAKÝ JE VZTAH JINAKOSTI A NEROVNOST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0" y="0"/>
            <a:ext cx="9144000" cy="2276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280" y="765000"/>
            <a:ext cx="8353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DISKUSE O ZÁNIKU TŘÍ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50920" y="2708280"/>
            <a:ext cx="856908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KONZUMERISMUS</a:t>
            </a:r>
            <a:br>
              <a:rPr sz="2400"/>
            </a:b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IDENTITA / KULTURA / SUBKULTURA</a:t>
            </a:r>
            <a:br>
              <a:rPr sz="2400"/>
            </a:b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INDIVIDUALIZACE</a:t>
            </a:r>
            <a:br>
              <a:rPr sz="2400"/>
            </a:b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ZNEVIDITĚLNĚNÍ JINÝCH NEROVNOSTÍ (GENDER, ETNICITA…)</a:t>
            </a:r>
            <a:br>
              <a:rPr sz="2400"/>
            </a:b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353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JAK JSOU TŘÍDY ZASTOUPEN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1908000" y="2276640"/>
            <a:ext cx="50328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1619280" y="2637000"/>
            <a:ext cx="115236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1332000" y="2997360"/>
            <a:ext cx="172728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1116000" y="3357720"/>
            <a:ext cx="2160720" cy="3585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6300720" y="2276640"/>
            <a:ext cx="50328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5724360" y="2637000"/>
            <a:ext cx="172908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2"/>
          <p:cNvSpPr/>
          <p:nvPr/>
        </p:nvSpPr>
        <p:spPr>
          <a:xfrm>
            <a:off x="5581800" y="2997360"/>
            <a:ext cx="201600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3"/>
          <p:cNvSpPr/>
          <p:nvPr/>
        </p:nvSpPr>
        <p:spPr>
          <a:xfrm>
            <a:off x="6229440" y="3718080"/>
            <a:ext cx="718920" cy="3585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4"/>
          <p:cNvSpPr/>
          <p:nvPr/>
        </p:nvSpPr>
        <p:spPr>
          <a:xfrm>
            <a:off x="826920" y="3716280"/>
            <a:ext cx="280836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5"/>
          <p:cNvSpPr/>
          <p:nvPr/>
        </p:nvSpPr>
        <p:spPr>
          <a:xfrm>
            <a:off x="5724360" y="3357720"/>
            <a:ext cx="172908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6"/>
          <p:cNvSpPr/>
          <p:nvPr/>
        </p:nvSpPr>
        <p:spPr>
          <a:xfrm>
            <a:off x="1763640" y="4292640"/>
            <a:ext cx="863640" cy="649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7"/>
          <p:cNvSpPr/>
          <p:nvPr/>
        </p:nvSpPr>
        <p:spPr>
          <a:xfrm>
            <a:off x="1116000" y="4941720"/>
            <a:ext cx="2160720" cy="792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9"/>
          <p:cNvSpPr/>
          <p:nvPr/>
        </p:nvSpPr>
        <p:spPr>
          <a:xfrm>
            <a:off x="1763640" y="5734080"/>
            <a:ext cx="863640" cy="649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0"/>
          <p:cNvSpPr/>
          <p:nvPr/>
        </p:nvSpPr>
        <p:spPr>
          <a:xfrm>
            <a:off x="5292720" y="6093000"/>
            <a:ext cx="2592360" cy="217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1"/>
          <p:cNvSpPr/>
          <p:nvPr/>
        </p:nvSpPr>
        <p:spPr>
          <a:xfrm>
            <a:off x="5796000" y="5516640"/>
            <a:ext cx="1584360" cy="576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2"/>
          <p:cNvSpPr/>
          <p:nvPr/>
        </p:nvSpPr>
        <p:spPr>
          <a:xfrm>
            <a:off x="6156360" y="5157720"/>
            <a:ext cx="86364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3"/>
          <p:cNvSpPr/>
          <p:nvPr/>
        </p:nvSpPr>
        <p:spPr>
          <a:xfrm>
            <a:off x="6372360" y="4797360"/>
            <a:ext cx="43164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4"/>
          <p:cNvSpPr/>
          <p:nvPr/>
        </p:nvSpPr>
        <p:spPr>
          <a:xfrm>
            <a:off x="5436360" y="6453360"/>
            <a:ext cx="22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POČET PŘÍSLUŠNÍKŮ TŘÍ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5"/>
          <p:cNvSpPr/>
          <p:nvPr/>
        </p:nvSpPr>
        <p:spPr>
          <a:xfrm flipH="1">
            <a:off x="5148360" y="659772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7"/>
          <p:cNvSpPr/>
          <p:nvPr/>
        </p:nvSpPr>
        <p:spPr>
          <a:xfrm>
            <a:off x="7740720" y="6597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8"/>
          <p:cNvSpPr/>
          <p:nvPr/>
        </p:nvSpPr>
        <p:spPr>
          <a:xfrm rot="16200000">
            <a:off x="7327080" y="5211720"/>
            <a:ext cx="19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HIERARCHICKÁ POZ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353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JAK MĚŘIT SOCIÁLNÍ POZIC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6"/>
          <p:cNvSpPr/>
          <p:nvPr/>
        </p:nvSpPr>
        <p:spPr>
          <a:xfrm>
            <a:off x="666720" y="1687680"/>
            <a:ext cx="697176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OBJEKTIVNĚ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- KATEGORIZOVA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PŘÍKLAD -  EGP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TYP ZAMĚSTNÁNÍ, POČET PODŘÍZENÝCH, MÍRA AUTONOM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- ŠKÁLOVĚ (KONTINUÁLNĚ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SOCIOEKONOMICKÝ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VZDĚLÁNÍ – PROFESE - PŘÍJ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SUBJEKTIVNĚ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- SEBEZAŘAZ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0" y="0"/>
            <a:ext cx="9144000" cy="2276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280" y="765000"/>
            <a:ext cx="8353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RŮZNÁ POJETÍ NEROVNOSTI A ZNEVÝHODNĚNÍ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250920" y="2708280"/>
            <a:ext cx="856908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692640" y="2708280"/>
            <a:ext cx="7749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HIERARCHIE – CHUDOBA / DEPRIV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JÁDRO/PERIFERIE - MARGINAL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PARTICIPACE – EXKLUZE/INKLU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0" y="0"/>
            <a:ext cx="9144000" cy="2276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280" y="1052280"/>
            <a:ext cx="8353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SOCIÁLNÍ MOBILI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250920" y="2708280"/>
            <a:ext cx="856908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DIMENZE MOBILITY:</a:t>
            </a: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HORIZONTÁLNÍ / VERTIKÁLNÍ</a:t>
            </a:r>
            <a:br>
              <a:rPr sz="3200"/>
            </a:b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PŘESUN UVNITŘ VRSTVY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PŘESUN MEZI VRSTVAMI</a:t>
            </a:r>
            <a:br>
              <a:rPr sz="1800"/>
            </a:b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INTERGENERAČNÍ / INTRAGENERAČNÍ</a:t>
            </a:r>
            <a:br>
              <a:rPr sz="3200"/>
            </a:b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VŮČI RODIČŮM (PŘEDKŮM)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V RÁMCI KARIÉ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0" y="0"/>
            <a:ext cx="9144000" cy="2276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9280" y="765000"/>
            <a:ext cx="8353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OPAKEM MOBILITY JE SOCIÁLNÍ REPRODUK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250920" y="2708280"/>
            <a:ext cx="856908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539640" y="2924280"/>
            <a:ext cx="8136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REPRODUKCE = PŘENOS KAPITÁLŮ Z JEDNÉ GENERACE NA DRUH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EKONOMICKÝ KAPITÁ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ULTURNÍ KAPITÁ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OCIÁLNÍ KAPITÁ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YMBOLICKÝ KAPITÁ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4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At-risk-of-poverty_rate_and_threshold%2C_2014_YB16bis"/>
          <p:cNvPicPr/>
          <p:nvPr/>
        </p:nvPicPr>
        <p:blipFill>
          <a:blip r:embed="rId1"/>
          <a:stretch/>
        </p:blipFill>
        <p:spPr>
          <a:xfrm>
            <a:off x="0" y="88920"/>
            <a:ext cx="9144000" cy="676908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7"/>
          <p:cNvSpPr/>
          <p:nvPr/>
        </p:nvSpPr>
        <p:spPr>
          <a:xfrm>
            <a:off x="598680" y="208080"/>
            <a:ext cx="582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íl osob ohrožených příjmovou chudobou – země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8"/>
          <p:cNvSpPr/>
          <p:nvPr/>
        </p:nvSpPr>
        <p:spPr>
          <a:xfrm>
            <a:off x="7236000" y="5373720"/>
            <a:ext cx="1425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333360" y="1341360"/>
            <a:ext cx="8559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íl osob ohrožených příjmovou chudobou – země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ranice příjmové chudob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kvivalizovaný disponibilní příjem (po zdanění a přepočtený na spotřební jednotk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0 % mediánu příjmového rozložení v dané ze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elativní míra porovnávající pozici vůči celkovému příjmovém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ložení v dané ze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Material_deprivation_rate_%E2%80%94_proportion_of_persons_who_cannot_afford_to_pay_for_selected_items%2C_2014_%28%25%29_YB16"/>
          <p:cNvPicPr/>
          <p:nvPr/>
        </p:nvPicPr>
        <p:blipFill>
          <a:blip r:embed="rId1"/>
          <a:stretch/>
        </p:blipFill>
        <p:spPr>
          <a:xfrm>
            <a:off x="0" y="0"/>
            <a:ext cx="9144000" cy="67690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617040" y="260280"/>
            <a:ext cx="57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íl osob ohrožených materiální deprivací – země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7"/>
          <p:cNvSpPr/>
          <p:nvPr/>
        </p:nvSpPr>
        <p:spPr>
          <a:xfrm>
            <a:off x="4859280" y="5516640"/>
            <a:ext cx="1429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6" descr="People_aged_less_than_60_living_in_households_with_very_low_work_intensity%2C_2013%E2%80%9314_%28%25%29_YB16"/>
          <p:cNvPicPr/>
          <p:nvPr/>
        </p:nvPicPr>
        <p:blipFill>
          <a:blip r:embed="rId1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2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444240" y="260280"/>
            <a:ext cx="869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íl osob mladších 60 let žijících v domácnostech s velmi nízkou pracovní aktivit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7"/>
          <p:cNvSpPr/>
          <p:nvPr/>
        </p:nvSpPr>
        <p:spPr>
          <a:xfrm>
            <a:off x="6084720" y="5589720"/>
            <a:ext cx="1429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bdélník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Související obrázek"/>
          <p:cNvPicPr/>
          <p:nvPr/>
        </p:nvPicPr>
        <p:blipFill>
          <a:blip r:embed="rId1"/>
          <a:stretch/>
        </p:blipFill>
        <p:spPr>
          <a:xfrm>
            <a:off x="1835280" y="0"/>
            <a:ext cx="5081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7" descr="Distribution_of_population_by_tenure_status%2C_2014_%28%25_of_population%29_YB16"/>
          <p:cNvPicPr/>
          <p:nvPr/>
        </p:nvPicPr>
        <p:blipFill>
          <a:blip r:embed="rId1"/>
          <a:stretch/>
        </p:blipFill>
        <p:spPr>
          <a:xfrm>
            <a:off x="0" y="0"/>
            <a:ext cx="9144000" cy="706104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3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6373080" y="4869000"/>
            <a:ext cx="15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ypy bydl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5"/>
          <p:cNvSpPr/>
          <p:nvPr/>
        </p:nvSpPr>
        <p:spPr>
          <a:xfrm>
            <a:off x="3708360" y="4869000"/>
            <a:ext cx="1429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6363000" y="5157720"/>
            <a:ext cx="2617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ájemní bydlení – regulovan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ájemní bydlení – tržní ce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lastnické bydlení – úvě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lastnické bydlení -  bez úvě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convience of flying private"/>
          <p:cNvPicPr/>
          <p:nvPr/>
        </p:nvPicPr>
        <p:blipFill>
          <a:blip r:embed="rId1"/>
          <a:stretch/>
        </p:blipFill>
        <p:spPr>
          <a:xfrm>
            <a:off x="1042920" y="2286000"/>
            <a:ext cx="6858000" cy="4572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2"/>
          <p:cNvSpPr/>
          <p:nvPr/>
        </p:nvSpPr>
        <p:spPr>
          <a:xfrm>
            <a:off x="0" y="0"/>
            <a:ext cx="9144000" cy="3095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933120"/>
            <a:ext cx="8496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SOCIÁLNÍ STRUKTURA</a:t>
            </a:r>
            <a:br>
              <a:rPr sz="5400"/>
            </a:b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A STRATIFIKA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0" y="1916280"/>
            <a:ext cx="9144000" cy="3095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CO JE VLASTNĚ STRUKTURA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8" descr="Výsledek obrázku pro social structure"/>
          <p:cNvPicPr/>
          <p:nvPr/>
        </p:nvPicPr>
        <p:blipFill>
          <a:blip r:embed="rId1"/>
          <a:stretch/>
        </p:blipFill>
        <p:spPr>
          <a:xfrm>
            <a:off x="34920" y="1341360"/>
            <a:ext cx="4394160" cy="40165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Výsledek obrázku pro prostitute"/>
          <p:cNvPicPr/>
          <p:nvPr/>
        </p:nvPicPr>
        <p:blipFill>
          <a:blip r:embed="rId2"/>
          <a:stretch/>
        </p:blipFill>
        <p:spPr>
          <a:xfrm>
            <a:off x="4560840" y="1844640"/>
            <a:ext cx="458316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8" descr="Výsledek obrázku pro social structure"/>
          <p:cNvPicPr/>
          <p:nvPr/>
        </p:nvPicPr>
        <p:blipFill>
          <a:blip r:embed="rId1"/>
          <a:stretch/>
        </p:blipFill>
        <p:spPr>
          <a:xfrm>
            <a:off x="900000" y="4684680"/>
            <a:ext cx="2376720" cy="21733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2"/>
          <p:cNvSpPr/>
          <p:nvPr/>
        </p:nvSpPr>
        <p:spPr>
          <a:xfrm>
            <a:off x="0" y="115920"/>
            <a:ext cx="9144000" cy="2665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V SOCIOLOGII SE SETKÁME S MNOHA VÝZNAMY POJMU STRUKTUR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529920" y="3068640"/>
            <a:ext cx="3282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ahoma"/>
              </a:rPr>
              <a:t>USPOŘÁDÁ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STRUKTURA VZTAH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STRUKTURA PO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STRUKTURA SKUP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5096160" y="3068640"/>
            <a:ext cx="282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ahoma"/>
              </a:rPr>
              <a:t>VZORE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VÝZNAM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JEDN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NOREM/HOD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1" descr="Výsledek obrázku pro prostitute"/>
          <p:cNvPicPr/>
          <p:nvPr/>
        </p:nvPicPr>
        <p:blipFill>
          <a:blip r:embed="rId2"/>
          <a:stretch/>
        </p:blipFill>
        <p:spPr>
          <a:xfrm>
            <a:off x="5148360" y="4710240"/>
            <a:ext cx="2879640" cy="21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Výsledek obrázku pro social structure"/>
          <p:cNvPicPr/>
          <p:nvPr/>
        </p:nvPicPr>
        <p:blipFill>
          <a:blip r:embed="rId1"/>
          <a:stretch/>
        </p:blipFill>
        <p:spPr>
          <a:xfrm>
            <a:off x="900000" y="4684680"/>
            <a:ext cx="2376720" cy="21733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3"/>
          <p:cNvSpPr/>
          <p:nvPr/>
        </p:nvSpPr>
        <p:spPr>
          <a:xfrm>
            <a:off x="0" y="115920"/>
            <a:ext cx="9144000" cy="2665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V SOCIOLOGII SE SETKÁME S MNOHA VÝZNAMY POJMU STRUKTUR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529920" y="3068640"/>
            <a:ext cx="3282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ahoma"/>
              </a:rPr>
              <a:t>USPOŘÁDÁ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STRUKTURA VZTAH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STRUKTURA PO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STRUKTURA SKUP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5096160" y="3068640"/>
            <a:ext cx="282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ahoma"/>
              </a:rPr>
              <a:t>VZORE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VÝZNAM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JEDN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NOREM/HOD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Výsledek obrázku pro prostitute"/>
          <p:cNvPicPr/>
          <p:nvPr/>
        </p:nvPicPr>
        <p:blipFill>
          <a:blip r:embed="rId2"/>
          <a:stretch/>
        </p:blipFill>
        <p:spPr>
          <a:xfrm>
            <a:off x="5148360" y="4710240"/>
            <a:ext cx="2879640" cy="2147760"/>
          </a:xfrm>
          <a:prstGeom prst="rect">
            <a:avLst/>
          </a:prstGeom>
          <a:ln w="0">
            <a:noFill/>
          </a:ln>
        </p:spPr>
      </p:pic>
      <p:sp>
        <p:nvSpPr>
          <p:cNvPr id="69" name="Oval 9"/>
          <p:cNvSpPr/>
          <p:nvPr/>
        </p:nvSpPr>
        <p:spPr>
          <a:xfrm>
            <a:off x="-108000" y="2565360"/>
            <a:ext cx="4859280" cy="4464000"/>
          </a:xfrm>
          <a:prstGeom prst="ellips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0" y="115920"/>
            <a:ext cx="9144000" cy="2665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V UŽŠÍM SLOVA SMYSLU TEDY </a:t>
            </a:r>
            <a:r>
              <a:rPr b="1" lang="cs-CZ" sz="4000" spc="-1" strike="noStrike" u="sng">
                <a:solidFill>
                  <a:srgbClr val="000000"/>
                </a:solidFill>
                <a:uFillTx/>
                <a:latin typeface="Tahoma"/>
              </a:rPr>
              <a:t>SOCIÁLNÍ STRKUTURA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ZNAMENÁ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468360" y="2997360"/>
            <a:ext cx="8207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ROZČLENĚNÍ SPOLEČNOSTI DO ČÁS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PROČ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PROTOŽE SPOLEČNOST JAKO CELEK JE PŘÍLIŠ HETEROGEN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HLEDÁME JAK URČIT SKUPINY (ČÁSTI), KTERÉ MAJÍ VÍCE SPOLEČNÝCH RYS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04T04:35:55Z</dcterms:created>
  <dc:creator>x</dc:creator>
  <dc:description/>
  <dc:language>en-US</dc:language>
  <cp:lastModifiedBy>Petr Fučík</cp:lastModifiedBy>
  <cp:lastPrinted>2017-11-21T10:14:17Z</cp:lastPrinted>
  <dcterms:modified xsi:type="dcterms:W3CDTF">2017-11-28T09:11:31Z</dcterms:modified>
  <cp:revision>47</cp:revision>
  <dc:subject/>
  <dc:title>ETIKA VE VÝZKUMU</dc:title>
</cp:coreProperties>
</file>