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E78B-0E48-43BE-B916-A490D58BD0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DB39-8D8A-49A0-834D-855091E130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DE43-8F2D-4B6D-BCE1-335F0B4FEF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245E-A78F-45A0-BD81-E788F9397C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7B8F-152D-4271-9782-920282F73D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57DE-8638-4FD7-BB6B-A63E4C4C01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525C-61CF-4DD5-BC14-3170C9B072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0FC0-B1F4-436B-AFB8-69D6C2FCBA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E53A-ED06-44A4-9D32-AFD2346531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4186-5898-4D48-B7F6-29F11BFE7D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CFCE-2B8C-457E-B845-E798200E18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C14D-F940-4AC8-A848-ADF3B4BEBD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511B-18F5-4011-A031-52CD7B83772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C7D7-EC73-4BF0-A0A5-31E828D991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B24-743B-4E68-A8D7-69A7835F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F5D-C699-4B8F-9A35-E7DEFB57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AB2-A697-4B3A-AD1C-95836951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E9F-19A1-4198-AAE2-8CCA29EB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488-9623-419C-8639-965F306B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3B3-7B11-4160-B249-C0BAE7DE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D97-FBBD-434D-B148-5E5FCDBF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004-2C51-416D-B562-5F0CA641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89C-DDE0-4BD0-97D9-BFBDD451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8FA-B303-46B7-BB14-BE29718E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141-083A-4DC0-AC09-DC90BD34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4EA-9572-4A00-8768-EBA1F6A6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E4B5-B80E-46EF-BE00-4D1BB7BDA63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Výsledek obrázku pro CONSTRUCTION OF REALITY"/>
          <p:cNvPicPr/>
          <p:nvPr/>
        </p:nvPicPr>
        <p:blipFill>
          <a:blip r:embed="rId1"/>
          <a:stretch/>
        </p:blipFill>
        <p:spPr>
          <a:xfrm>
            <a:off x="1619280" y="2276640"/>
            <a:ext cx="5565600" cy="5135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-387360"/>
            <a:ext cx="9144000" cy="273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OCIÁLNÍ KONSTRUKTIVISM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-468360" y="476280"/>
            <a:ext cx="10009080" cy="108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1640" y="836640"/>
            <a:ext cx="79545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ÝCHODISKA KONSTRUKTIVISM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ENOMEN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DŮRAZ NA INTERPRETACI, ŽITÝ SVĚ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AGMATIS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DŮSLEDNĚ HUMANISTICKÉ HLEDISK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IDEOLOGIE, POHLED NA SVĚ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24000" y="0"/>
            <a:ext cx="856908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AGMATIS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h. S. Pierce, W. James, J. Dewe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konec 19. a počátek 20. stole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obně jako pozitivismus odmítá abstraktní spekulace a hledání absolutní pravdy bez vztahu k žitému svě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náší do epistemologie kontext v němž se vědecké poznání odehráv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avda je závislá na podmínkách v nichž je získ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itériem pravdivosti není korespondence výroku s realitou, ale očekávané důsledky. -&gt; od korespondenční přes koherenční k ppragmatické teorii prav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24000" y="0"/>
            <a:ext cx="856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ARL MANNHEIM (1893  - 19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IDEOLOGIE – ZÁPAS O VEŘEJNÝ VÝKLAD SVĚ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LE INTELIGENCE JAKO SOCIÁL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LFRED SCHÜTZ (1899 – 19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NOMENOLOGICKÁ SOCIOLOGIE – PŘIPISOVÁNÍ SMYSLU KAŽDODENNÍMU ŽITÉMU SVĚ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SUBJE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JEKTIVITA / OBJEK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RUČNÍ BALÍK VĚDĚ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95280" y="33336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ZÁVĚRU 20. STOLETÍ ZÍSKÁVÁ KONSTRUKTIV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ROVSKÝ VLIV A INSPIRUJE VZNIK CELÝCH DISCIPLÍN NAP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DER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CIENCE AND TECHNOLOGY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ZNAMNĚ OVLIVŇUJE PŘÍSTUP K MNOHA ZKOUMANÝM FENOMÉN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ROD, ETNICITA, SOCIÁLNÍ TŘÍDA, VĚKOVÉ KATEGORIE, VSTUP DO DOSPĚLOSTI, LÁSKA, PARTNERSTVÍ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Ž TAKÉ ZNAMENÁ ROZŠÍ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 DEZINTERPRETACI POJ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KONSTRUK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Výsledek obrázku pro batman social construct"/>
          <p:cNvPicPr/>
          <p:nvPr/>
        </p:nvPicPr>
        <p:blipFill>
          <a:blip r:embed="rId1"/>
          <a:stretch/>
        </p:blipFill>
        <p:spPr>
          <a:xfrm>
            <a:off x="6227640" y="4282920"/>
            <a:ext cx="26067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68360" y="1916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CO JE TO SOCIÁLNÍ KONSTRUK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Výsledek obrázku pro batman social construct"/>
          <p:cNvPicPr/>
          <p:nvPr/>
        </p:nvPicPr>
        <p:blipFill>
          <a:blip r:embed="rId1"/>
          <a:stretch/>
        </p:blipFill>
        <p:spPr>
          <a:xfrm>
            <a:off x="6227640" y="4282920"/>
            <a:ext cx="26067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11280" y="333360"/>
            <a:ext cx="7561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MĚNY POHLEDU NA DVA DŮLEŽITÉ POJMY EPISTEMOLOG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AV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respondenční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koresponduje s realit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herenční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je konzistentní a logicky propojené s dosavadním vědě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gmatická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má důsledky, jež při platnosti teorie očekává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E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dmoderní pohled – realita pozorov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derní pohled – realita za intersubjektivním pozná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moderní pohled – realita neexistuje, nebo nemá smy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933-Rene-Magritte-The-Human-Condition"/>
          <p:cNvPicPr/>
          <p:nvPr/>
        </p:nvPicPr>
        <p:blipFill>
          <a:blip r:embed="rId1"/>
          <a:stretch/>
        </p:blipFill>
        <p:spPr>
          <a:xfrm>
            <a:off x="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5439960" y="6216120"/>
            <a:ext cx="24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René Magri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La condition humai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614920" y="189000"/>
            <a:ext cx="352908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NOMÉN (JEV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. fainomenon / fa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NTITA (JSOUC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t. entitas/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novení zájmu o zkušenost a proží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blém přirozeného/žitého světa (Patoč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á formulace problému reality (kategorie význ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en ze zdrojů postmoderních a konstruktivistických smě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spirace: fenome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39640" y="1197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dmund Husserl  (1859 – 1938) *Prostě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1310283-Edmund_Husserl"/>
          <p:cNvPicPr/>
          <p:nvPr/>
        </p:nvPicPr>
        <p:blipFill>
          <a:blip r:embed="rId1"/>
          <a:stretch/>
        </p:blipFill>
        <p:spPr>
          <a:xfrm>
            <a:off x="6372360" y="907920"/>
            <a:ext cx="2165040" cy="280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4248360" cy="3054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667440" y="244008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aťme se k alegorii jesky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68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3910320" y="4889520"/>
            <a:ext cx="49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ón – alegorie jes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afora, která na dlouhou dobu ovlivnila te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ní – realita „za horizontem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2"/>
          <p:cNvSpPr/>
          <p:nvPr/>
        </p:nvSpPr>
        <p:spPr>
          <a:xfrm>
            <a:off x="179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179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ipomeňme východiska interpretativních smě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755640" y="134136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še, co existuje a je mysliteln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 opředeno význ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yto významy věcem přikládají samotní sociální akté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znik, sdílení a udržování těchto významů je třeba zko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7740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179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48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pretativní pří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24000" y="1125360"/>
            <a:ext cx="82087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ymbolický interakcionismu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G. H. Mead, C. H. Coo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droje: sociální psychologie, pragmat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probíhají symbolické výmě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tnometodolog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H. Garfin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droje: fenome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je konstruován řád světa, který vnímáme jako samozřejm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kroteori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1"/>
          <p:cNvSpPr/>
          <p:nvPr/>
        </p:nvSpPr>
        <p:spPr>
          <a:xfrm>
            <a:off x="324000" y="404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VÝCHOZÍ BODY SYMBOLICKÉHO INTERAKCIONIS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24000" y="184464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Lidské bytosti jednají na základě významů, které přikládají věcem, jež je obklop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Tyto významy nejsou vlastností samotných věc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Jsou produktem sociální interakce probíhající mezi členy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Tyto významy nejsou stabilní, mohou být neustále proměňovány a redefinovány v průběhu nových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H. COL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 - 19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365360" y="3068640"/>
            <a:ext cx="4278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RCADLOVÉ JÁ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RIMÁRNÍ SKUP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OCI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ájem o roli sociálního prostřed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V utváření osob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Výsledek obrázku pro C H COOLEY"/>
          <p:cNvPicPr/>
          <p:nvPr/>
        </p:nvPicPr>
        <p:blipFill>
          <a:blip r:embed="rId1"/>
          <a:stretch/>
        </p:blipFill>
        <p:spPr>
          <a:xfrm>
            <a:off x="324000" y="1341360"/>
            <a:ext cx="2819160" cy="40100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EORG 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3 - 19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17640" y="2997360"/>
            <a:ext cx="3623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niha </a:t>
            </a:r>
            <a:r>
              <a:rPr b="1" i="1" lang="cs-CZ" sz="2000" spc="-1" strike="noStrike">
                <a:solidFill>
                  <a:srgbClr val="000000"/>
                </a:solidFill>
                <a:latin typeface="Tahoma"/>
              </a:rPr>
              <a:t>Mind, Self and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19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áze soci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LAY  / 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ELF:  I /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Výsledek obrázku pro h mead"/>
          <p:cNvPicPr/>
          <p:nvPr/>
        </p:nvPicPr>
        <p:blipFill>
          <a:blip r:embed="rId1"/>
          <a:stretch/>
        </p:blipFill>
        <p:spPr>
          <a:xfrm>
            <a:off x="395280" y="1341360"/>
            <a:ext cx="2990880" cy="381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Výsledek obrázku pro MIND SELF AND SOCIETY"/>
          <p:cNvPicPr/>
          <p:nvPr/>
        </p:nvPicPr>
        <p:blipFill>
          <a:blip r:embed="rId2"/>
          <a:stretch/>
        </p:blipFill>
        <p:spPr>
          <a:xfrm>
            <a:off x="6948360" y="3860640"/>
            <a:ext cx="18972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ERV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OFFM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22 -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427640" y="3027240"/>
            <a:ext cx="474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he Presentation of Self in Everyday Lif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9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esky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Všichni hrajeme divadl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ramaturgický příst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STUP OD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TÁLNÍ INSTIT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Výsledek obrázku pro ERVING GOFFMAN"/>
          <p:cNvPicPr/>
          <p:nvPr/>
        </p:nvPicPr>
        <p:blipFill>
          <a:blip r:embed="rId1"/>
          <a:stretch/>
        </p:blipFill>
        <p:spPr>
          <a:xfrm>
            <a:off x="0" y="1052640"/>
            <a:ext cx="384480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HARO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ARFINK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7 -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452480" y="2997360"/>
            <a:ext cx="3884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ahoma"/>
              </a:rPr>
              <a:t>Studies in Ethno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procesy konstru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ociálního řád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metody udrž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aždodenní rea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Výsledek obrázku pro HAROLD GARFINKEL"/>
          <p:cNvPicPr/>
          <p:nvPr/>
        </p:nvPicPr>
        <p:blipFill>
          <a:blip r:embed="rId1"/>
          <a:stretch/>
        </p:blipFill>
        <p:spPr>
          <a:xfrm>
            <a:off x="0" y="1413000"/>
            <a:ext cx="3924360" cy="2354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Výsledek obrázku pro HAROLD GARFINKEL"/>
          <p:cNvPicPr/>
          <p:nvPr/>
        </p:nvPicPr>
        <p:blipFill>
          <a:blip r:embed="rId2"/>
          <a:stretch/>
        </p:blipFill>
        <p:spPr>
          <a:xfrm>
            <a:off x="250920" y="3860640"/>
            <a:ext cx="1828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The Social Construction of Reality, first edition.jpg"/>
          <p:cNvPicPr/>
          <p:nvPr/>
        </p:nvPicPr>
        <p:blipFill>
          <a:blip r:embed="rId1"/>
          <a:stretch/>
        </p:blipFill>
        <p:spPr>
          <a:xfrm>
            <a:off x="0" y="476280"/>
            <a:ext cx="3848040" cy="5686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3884760" y="476280"/>
            <a:ext cx="525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EC 60. LET 20.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RGER, LUCK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KONSTRUKCE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19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Výsledek obrázku pro SOCIÁLNÍ KONSTRUKCE REALITY"/>
          <p:cNvPicPr/>
          <p:nvPr/>
        </p:nvPicPr>
        <p:blipFill>
          <a:blip r:embed="rId2"/>
          <a:stretch/>
        </p:blipFill>
        <p:spPr>
          <a:xfrm>
            <a:off x="5724360" y="2838600"/>
            <a:ext cx="25020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05:26:37Z</dcterms:created>
  <dc:creator>x</dc:creator>
  <dc:description/>
  <dc:language>en-US</dc:language>
  <cp:lastModifiedBy>Petr Fučík</cp:lastModifiedBy>
  <dcterms:modified xsi:type="dcterms:W3CDTF">2017-10-30T16:54:36Z</dcterms:modified>
  <cp:revision>16</cp:revision>
  <dc:subject/>
  <dc:title>Snímek 1</dc:title>
</cp:coreProperties>
</file>