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18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397E-7720-4388-B4D7-D4F7B2EF5C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DA0C-F446-4B68-AAB1-5CFA5D5060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523C-0A9C-4375-B685-8D3E3E176A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3692-9DFC-4505-BAE5-5EA5224FC5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E725-8C4A-4F0E-92B1-56FC79E913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026F-EB33-462B-8053-0EBC084CC2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FF7-9D1A-41AA-BA67-5D3DF8FB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B03-1016-4E76-9222-145BF550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693-9DA5-40F1-B0EA-A2FAA3C3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229-D716-46FB-B240-7F49BA9D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3BF-B727-4BB0-9DBC-58393BBD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C7E-F8B8-4BC9-8B3A-AAF34D13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D13-3944-4B08-B19E-F4AD42DF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D0E-8820-4BB7-8FA7-08A07AC7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E4D-CD2E-45A2-B388-D9B44415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9B1-5D12-4127-B3C0-DB2C4E79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631-70D1-426E-ACDA-6D6A4BD3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251-059B-4081-9615-EE4B751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68B7-93BD-4A21-B480-C53DB559F02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0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1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2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3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5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0"/>
          <p:cNvSpPr/>
          <p:nvPr/>
        </p:nvSpPr>
        <p:spPr>
          <a:xfrm>
            <a:off x="4479840" y="41400"/>
            <a:ext cx="457056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-9360" y="3695760"/>
            <a:ext cx="9144000" cy="3162240"/>
          </a:xfrm>
          <a:prstGeom prst="rect">
            <a:avLst/>
          </a:prstGeom>
          <a:solidFill>
            <a:srgbClr val="3366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4360" y="3843360"/>
            <a:ext cx="505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nerace zakladatel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Émile Durkheim v kresbě"/>
          <p:cNvPicPr/>
          <p:nvPr/>
        </p:nvPicPr>
        <p:blipFill>
          <a:blip r:embed="rId1"/>
          <a:srcRect l="0" t="0" r="25275" b="0"/>
          <a:stretch/>
        </p:blipFill>
        <p:spPr>
          <a:xfrm>
            <a:off x="3924360" y="2092320"/>
            <a:ext cx="5219640" cy="4280040"/>
          </a:xfrm>
          <a:prstGeom prst="rect">
            <a:avLst/>
          </a:prstGeom>
          <a:ln w="0">
            <a:noFill/>
          </a:ln>
        </p:spPr>
      </p:pic>
      <p:sp>
        <p:nvSpPr>
          <p:cNvPr id="110" name="Oval 13"/>
          <p:cNvSpPr/>
          <p:nvPr/>
        </p:nvSpPr>
        <p:spPr>
          <a:xfrm>
            <a:off x="-612720" y="836640"/>
            <a:ext cx="6121440" cy="6021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065480" y="233280"/>
            <a:ext cx="238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ŘÍKL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9280" y="177336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79280" y="1647720"/>
            <a:ext cx="49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O PRVNÍ JSEM UVAŽO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SEBEVRAŽDĚ V ŠIRŠÍ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ÁTRAL JSEM PO INDIVIDUÁLN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ÁCH, ALE VŠIML JSEM SI, ŽE RŮZNÁ NÁBOŽENSKÁ SPOLEČENSTVÍ MAJÍ RŮZNOU MÍRU SEBEVRAŽED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 PŘECE NEMŮŽE BÝT NÁHO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BEVRAŽEDNOST JSEM DAL DO SOUVISLOSTI SE SOLIDARITOU V RÁMCI DANÝCH KOM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MŮJ PŘÍSTUP INSPIROVAL CELOU ŘADU TZV. STRUKTURÁL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ÝZ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15636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651640" y="206064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076720" y="1844640"/>
            <a:ext cx="43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Výsledek obrázku pro Durkheim le suicide"/>
          <p:cNvPicPr/>
          <p:nvPr/>
        </p:nvPicPr>
        <p:blipFill>
          <a:blip r:embed="rId2"/>
          <a:stretch/>
        </p:blipFill>
        <p:spPr>
          <a:xfrm>
            <a:off x="7151760" y="87480"/>
            <a:ext cx="12920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222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DURKHEIMŮV VLIV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755640" y="2060640"/>
            <a:ext cx="783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ZDĚJŠÍ INSPIR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IFERENC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 – TALCOTT PA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Výsledek obrázku pro PARSONS"/>
          <p:cNvPicPr/>
          <p:nvPr/>
        </p:nvPicPr>
        <p:blipFill>
          <a:blip r:embed="rId1"/>
          <a:stretch/>
        </p:blipFill>
        <p:spPr>
          <a:xfrm>
            <a:off x="5508720" y="2349360"/>
            <a:ext cx="2286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Výsledek obrázku pro max weber"/>
          <p:cNvPicPr/>
          <p:nvPr/>
        </p:nvPicPr>
        <p:blipFill>
          <a:blip r:embed="rId1"/>
          <a:stretch/>
        </p:blipFill>
        <p:spPr>
          <a:xfrm>
            <a:off x="395280" y="249228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350160" y="2205000"/>
            <a:ext cx="3435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konomie, historie, prá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znik kapit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acionalita a byrokra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076040" y="2039760"/>
            <a:ext cx="464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ZÁKLADNÍ KONCEP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RACIO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EKULAR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BYR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bdélník 1"/>
          <p:cNvSpPr/>
          <p:nvPr/>
        </p:nvSpPr>
        <p:spPr>
          <a:xfrm>
            <a:off x="650880" y="1494000"/>
            <a:ext cx="694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testantská etika a duch kapitalismu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e a společnost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+ ČESKY (SLOVENSKY) VYŠ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2"/>
          <p:cNvSpPr/>
          <p:nvPr/>
        </p:nvSpPr>
        <p:spPr>
          <a:xfrm>
            <a:off x="744480" y="5047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WEBER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Výsledek obrázku pro KNIHY MAX WEBER"/>
          <p:cNvPicPr/>
          <p:nvPr/>
        </p:nvPicPr>
        <p:blipFill>
          <a:blip r:embed="rId1"/>
          <a:stretch/>
        </p:blipFill>
        <p:spPr>
          <a:xfrm>
            <a:off x="7020000" y="422100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Výsledek obrázku pro KNIHY MAX WEBER"/>
          <p:cNvPicPr/>
          <p:nvPr/>
        </p:nvPicPr>
        <p:blipFill>
          <a:blip r:embed="rId2"/>
          <a:stretch/>
        </p:blipFill>
        <p:spPr>
          <a:xfrm>
            <a:off x="4859280" y="4094280"/>
            <a:ext cx="158436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Výsledek obrázku pro KNIHY MAX WEBER"/>
          <p:cNvPicPr/>
          <p:nvPr/>
        </p:nvPicPr>
        <p:blipFill>
          <a:blip r:embed="rId3"/>
          <a:stretch/>
        </p:blipFill>
        <p:spPr>
          <a:xfrm>
            <a:off x="2771640" y="4206960"/>
            <a:ext cx="1513080" cy="2300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Výsledek obrázku pro KNIHY MAX WEBER"/>
          <p:cNvPicPr/>
          <p:nvPr/>
        </p:nvPicPr>
        <p:blipFill>
          <a:blip r:embed="rId4"/>
          <a:stretch/>
        </p:blipFill>
        <p:spPr>
          <a:xfrm>
            <a:off x="650880" y="4203720"/>
            <a:ext cx="1473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9640" y="333360"/>
            <a:ext cx="842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ÁLNÍ JEDNÁNÍ A JEHO INTERPRE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23400" y="2133720"/>
            <a:ext cx="728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 jako inspirace pro intepretativní smě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Člověk jako „interpretativní tvo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nomi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ůsledky interpretativní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971640" y="1341360"/>
            <a:ext cx="756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1125360"/>
            <a:ext cx="820908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é dů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měření na sociální jednání v různých rovi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naha pochopit, jak aktéři interpretují realitu – hermeneutika, pojem „definice situace“ (W, Thomas, F. Znaniec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standardizované metody odvozené z humanitních věd – rozhovor, zúčastněné pozorování, nestandardizovaná 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Výsledek obrázku pro evangelický chrám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4786200" y="620640"/>
            <a:ext cx="4033800" cy="5399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Výsledek obrázku pro Kostel Jména Panny Marie interiér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620640"/>
            <a:ext cx="4332240" cy="5399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182880" y="61657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tel Jména Panny Marie, Kř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767120" y="6113520"/>
            <a:ext cx="41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obratrský evangelický chrám Jana Amose Komenského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1"/>
          <p:cNvSpPr/>
          <p:nvPr/>
        </p:nvSpPr>
        <p:spPr>
          <a:xfrm>
            <a:off x="3409200" y="189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omic"/>
              </a:rPr>
              <a:t>NAJDI 5 ROZDÍLŮ </a:t>
            </a:r>
            <a:r>
              <a:rPr b="1" lang="cs-CZ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-38736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Výsledek obrázku pro DIE PROTESTANTISCHE ETHIK"/>
          <p:cNvPicPr/>
          <p:nvPr/>
        </p:nvPicPr>
        <p:blipFill>
          <a:blip r:embed="rId1"/>
          <a:stretch/>
        </p:blipFill>
        <p:spPr>
          <a:xfrm>
            <a:off x="250920" y="1484280"/>
            <a:ext cx="3228840" cy="4762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710640" y="333360"/>
            <a:ext cx="73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WEBER O VZNIKU KAPITAL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708360" y="1413000"/>
            <a:ext cx="48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lvinismus –vnitrosvětská ask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srov. baro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estinace – osvědčení p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umulace kapitálu a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konec stigmatu hromad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Železná klec racionalit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ÉMILE DURKHE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314600" y="19890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58, Épinal – 1917, Paří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437720" y="2997360"/>
            <a:ext cx="3562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ilos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ělba práce ve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Výsledek obrázku pro emile durkheim young"/>
          <p:cNvPicPr/>
          <p:nvPr/>
        </p:nvPicPr>
        <p:blipFill>
          <a:blip r:embed="rId1"/>
          <a:stretch/>
        </p:blipFill>
        <p:spPr>
          <a:xfrm>
            <a:off x="395280" y="2421000"/>
            <a:ext cx="3295800" cy="460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Výsledek obrázku"/>
          <p:cNvPicPr/>
          <p:nvPr/>
        </p:nvPicPr>
        <p:blipFill>
          <a:blip r:embed="rId2"/>
          <a:stretch/>
        </p:blipFill>
        <p:spPr>
          <a:xfrm>
            <a:off x="395280" y="0"/>
            <a:ext cx="17589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Výsledek obrázku pro max weber hipster"/>
          <p:cNvPicPr/>
          <p:nvPr/>
        </p:nvPicPr>
        <p:blipFill>
          <a:blip r:embed="rId1"/>
          <a:stretch/>
        </p:blipFill>
        <p:spPr>
          <a:xfrm>
            <a:off x="539640" y="2421000"/>
            <a:ext cx="2247840" cy="2533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IDEÁLNÍ TYPY JAKO ANALYTICKÉ NÁSTROJE POROZUM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348000" y="2205000"/>
            <a:ext cx="54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Ideální typ = abstra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apříklad typologie sociálního jednání ve vztahu k racionalit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) Účel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očekávání určitého chování- výsled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) Hodnot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v závislosti na hodnotách – zdrojí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) Afektivní (emo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) Tradiční (zvy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Výsledek obrázku pro WEBER BUREAUCRACY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324000" y="692280"/>
            <a:ext cx="2286000" cy="327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3348000" y="836640"/>
            <a:ext cx="5329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alismus je pokus nahradit „anarchii trhu a dosáhnout větší rovnosti pomocí společenského plánování. Toto by však vedlo k nesmírnému nárůstu byrokracie moci, jehož následkem by byla nesvoboda a ekonomická stagnace.“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max-weber/?q=101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Výsledek obrázku pro FRONTY NA OVOCE"/>
          <p:cNvPicPr/>
          <p:nvPr/>
        </p:nvPicPr>
        <p:blipFill>
          <a:blip r:embed="rId2"/>
          <a:stretch/>
        </p:blipFill>
        <p:spPr>
          <a:xfrm>
            <a:off x="324000" y="4384800"/>
            <a:ext cx="3671640" cy="24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Výsledek obrázku pro FEDERÁLNÍ SHROMÁŽDĚNÍ KOMUNISMUS"/>
          <p:cNvPicPr/>
          <p:nvPr/>
        </p:nvPicPr>
        <p:blipFill>
          <a:blip r:embed="rId3"/>
          <a:stretch/>
        </p:blipFill>
        <p:spPr>
          <a:xfrm>
            <a:off x="4284720" y="4384800"/>
            <a:ext cx="407016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ovéPole 1"/>
          <p:cNvSpPr/>
          <p:nvPr/>
        </p:nvSpPr>
        <p:spPr>
          <a:xfrm>
            <a:off x="1131840" y="2320920"/>
            <a:ext cx="252108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6"/>
          <p:cNvSpPr/>
          <p:nvPr/>
        </p:nvSpPr>
        <p:spPr>
          <a:xfrm>
            <a:off x="5380200" y="2320920"/>
            <a:ext cx="252072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Šipka: dolů 2"/>
          <p:cNvSpPr/>
          <p:nvPr/>
        </p:nvSpPr>
        <p:spPr>
          <a:xfrm>
            <a:off x="126684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Šipka: dolů 8"/>
          <p:cNvSpPr/>
          <p:nvPr/>
        </p:nvSpPr>
        <p:spPr>
          <a:xfrm>
            <a:off x="2058840" y="3402000"/>
            <a:ext cx="505080" cy="100800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Šipka: dolů 9"/>
          <p:cNvSpPr/>
          <p:nvPr/>
        </p:nvSpPr>
        <p:spPr>
          <a:xfrm>
            <a:off x="285120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Šipka: dolů 10"/>
          <p:cNvSpPr/>
          <p:nvPr/>
        </p:nvSpPr>
        <p:spPr>
          <a:xfrm rot="10800000">
            <a:off x="551664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Šipka: dolů 11"/>
          <p:cNvSpPr/>
          <p:nvPr/>
        </p:nvSpPr>
        <p:spPr>
          <a:xfrm rot="10800000">
            <a:off x="6308640" y="340200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Šipka: dolů 12"/>
          <p:cNvSpPr/>
          <p:nvPr/>
        </p:nvSpPr>
        <p:spPr>
          <a:xfrm rot="10800000">
            <a:off x="710100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ovéPole 13"/>
          <p:cNvSpPr/>
          <p:nvPr/>
        </p:nvSpPr>
        <p:spPr>
          <a:xfrm>
            <a:off x="11350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14"/>
          <p:cNvSpPr/>
          <p:nvPr/>
        </p:nvSpPr>
        <p:spPr>
          <a:xfrm>
            <a:off x="53722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47628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528480"/>
            <a:ext cx="1320840" cy="17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ovéPole 1"/>
          <p:cNvSpPr/>
          <p:nvPr/>
        </p:nvSpPr>
        <p:spPr>
          <a:xfrm>
            <a:off x="1131840" y="1989000"/>
            <a:ext cx="25210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ovéPole 6"/>
          <p:cNvSpPr/>
          <p:nvPr/>
        </p:nvSpPr>
        <p:spPr>
          <a:xfrm>
            <a:off x="5380200" y="1989000"/>
            <a:ext cx="252072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ČEL, DŮ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13"/>
          <p:cNvSpPr/>
          <p:nvPr/>
        </p:nvSpPr>
        <p:spPr>
          <a:xfrm>
            <a:off x="1104840" y="3313080"/>
            <a:ext cx="2521080" cy="139536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ŮSLEDKY JEDNÁNÍ PRO 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14"/>
          <p:cNvSpPr/>
          <p:nvPr/>
        </p:nvSpPr>
        <p:spPr>
          <a:xfrm>
            <a:off x="5380200" y="3313080"/>
            <a:ext cx="2520720" cy="146700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JEKTIVNÍ VÝZNAMY PŘIKLÁDÁNÉ JED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14436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196920"/>
            <a:ext cx="1320840" cy="1719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Výsledek obrázku pro NAGANO HOKEJ"/>
          <p:cNvPicPr/>
          <p:nvPr/>
        </p:nvPicPr>
        <p:blipFill>
          <a:blip r:embed="rId3"/>
          <a:stretch/>
        </p:blipFill>
        <p:spPr>
          <a:xfrm>
            <a:off x="3701880" y="53737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Výsledek obrázku pro NAGANO HOKEJ"/>
          <p:cNvPicPr/>
          <p:nvPr/>
        </p:nvPicPr>
        <p:blipFill>
          <a:blip r:embed="rId4"/>
          <a:stretch/>
        </p:blipFill>
        <p:spPr>
          <a:xfrm>
            <a:off x="65160" y="5489640"/>
            <a:ext cx="2020680" cy="1338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Výsledek obrázku pro MICHAL DAVID NAGANO"/>
          <p:cNvPicPr/>
          <p:nvPr/>
        </p:nvPicPr>
        <p:blipFill>
          <a:blip r:embed="rId5"/>
          <a:srcRect l="7604" t="0" r="27351" b="0"/>
          <a:stretch/>
        </p:blipFill>
        <p:spPr>
          <a:xfrm>
            <a:off x="2117880" y="5489640"/>
            <a:ext cx="1546200" cy="1338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Výsledek obrázku pro COUCH POTATO"/>
          <p:cNvPicPr/>
          <p:nvPr/>
        </p:nvPicPr>
        <p:blipFill>
          <a:blip r:embed="rId6"/>
          <a:srcRect l="0" t="0" r="0" b="28321"/>
          <a:stretch/>
        </p:blipFill>
        <p:spPr>
          <a:xfrm>
            <a:off x="5380200" y="5438880"/>
            <a:ext cx="2398680" cy="1419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Výsledek obrázku pro NÁROD"/>
          <p:cNvPicPr/>
          <p:nvPr/>
        </p:nvPicPr>
        <p:blipFill>
          <a:blip r:embed="rId7"/>
          <a:stretch/>
        </p:blipFill>
        <p:spPr>
          <a:xfrm>
            <a:off x="7900920" y="5462640"/>
            <a:ext cx="11527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délník 1"/>
          <p:cNvSpPr/>
          <p:nvPr/>
        </p:nvSpPr>
        <p:spPr>
          <a:xfrm>
            <a:off x="650880" y="1494000"/>
            <a:ext cx="6945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lečenská dělba práce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avidla sociologické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bevraž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lementární formy náboženského života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2"/>
          <p:cNvSpPr/>
          <p:nvPr/>
        </p:nvSpPr>
        <p:spPr>
          <a:xfrm>
            <a:off x="407880" y="463680"/>
            <a:ext cx="83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Výsledek obrázku pro Společenská dělba práce DURKHEIM"/>
          <p:cNvPicPr/>
          <p:nvPr/>
        </p:nvPicPr>
        <p:blipFill>
          <a:blip r:embed="rId1"/>
          <a:stretch/>
        </p:blipFill>
        <p:spPr>
          <a:xfrm>
            <a:off x="250920" y="3973680"/>
            <a:ext cx="1679400" cy="27334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75" name="Picture 7" descr="Výsledek obrázku pro ELEMENTÁRNÍ FORMY NÁBOŽENSKÉHO ŽIVOTA DURKHEIM KNIHA"/>
          <p:cNvPicPr/>
          <p:nvPr/>
        </p:nvPicPr>
        <p:blipFill>
          <a:blip r:embed="rId2"/>
          <a:stretch/>
        </p:blipFill>
        <p:spPr>
          <a:xfrm>
            <a:off x="6837480" y="3979800"/>
            <a:ext cx="1857240" cy="2733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Výsledek obrázku pro Les Règles de la Méthode Sociologique 1895"/>
          <p:cNvPicPr/>
          <p:nvPr/>
        </p:nvPicPr>
        <p:blipFill>
          <a:blip r:embed="rId3"/>
          <a:stretch/>
        </p:blipFill>
        <p:spPr>
          <a:xfrm>
            <a:off x="4665600" y="3967200"/>
            <a:ext cx="1859040" cy="276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Výsledek obrázku pro Durkheim le suicide"/>
          <p:cNvPicPr/>
          <p:nvPr/>
        </p:nvPicPr>
        <p:blipFill>
          <a:blip r:embed="rId4"/>
          <a:stretch/>
        </p:blipFill>
        <p:spPr>
          <a:xfrm>
            <a:off x="2413080" y="3967200"/>
            <a:ext cx="17971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AVIDLA SOCIOLOGICKÉ MET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780000" y="1628640"/>
            <a:ext cx="6337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polečnost jako jev „sui generis“ -  svého dru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realismu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Výsledek obrázku pro EMILE DURKHEIM"/>
          <p:cNvPicPr/>
          <p:nvPr/>
        </p:nvPicPr>
        <p:blipFill>
          <a:blip r:embed="rId1"/>
          <a:stretch/>
        </p:blipFill>
        <p:spPr>
          <a:xfrm>
            <a:off x="0" y="1484280"/>
            <a:ext cx="3235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Výsledek obrázku pro auguste comte"/>
          <p:cNvPicPr/>
          <p:nvPr/>
        </p:nvPicPr>
        <p:blipFill>
          <a:blip r:embed="rId1"/>
          <a:srcRect l="18557" t="0" r="18150" b="0"/>
          <a:stretch/>
        </p:blipFill>
        <p:spPr>
          <a:xfrm>
            <a:off x="7020000" y="333360"/>
            <a:ext cx="1449360" cy="190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796000" y="351000"/>
            <a:ext cx="1224000" cy="18684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85" name="Rectangle 2"/>
          <p:cNvSpPr/>
          <p:nvPr/>
        </p:nvSpPr>
        <p:spPr>
          <a:xfrm>
            <a:off x="544680" y="2781360"/>
            <a:ext cx="7200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- A. Comt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1798 – 185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Omezení metafyziky, věda je popisem fa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pro všechny vědy jsou přírodovědecké metody (EMPIR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AKTA X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délník 6"/>
          <p:cNvSpPr/>
          <p:nvPr/>
        </p:nvSpPr>
        <p:spPr>
          <a:xfrm>
            <a:off x="520560" y="138240"/>
            <a:ext cx="379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ETODOLOG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ÝCHO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-792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3"/>
          <p:cNvSpPr/>
          <p:nvPr/>
        </p:nvSpPr>
        <p:spPr>
          <a:xfrm>
            <a:off x="650160" y="247680"/>
            <a:ext cx="78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ŮSLEDKY POZITIVISTICKÉ INSPI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55640" y="1413000"/>
            <a:ext cx="75614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ědu je třeba očistit od všeho nejasného, spekulativního, metafyz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826920" y="324648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exaktního přístupu jsou přírodní vědy používající empirické a experimentální po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042920" y="5157720"/>
            <a:ext cx="643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 třeba hledat souvislosti mezi sociálními jevy, které platí podobně jako přírodní zákon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04720" y="1413000"/>
            <a:ext cx="8134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urkheimův základní metodologický p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fakty se liší od přírodních, ale nejsou o nic méně skuteč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čkoliv nejsou přímo pozorovatelné, stojí mimo jedince a působí na ně přesvědčivou si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NORMY - JÍD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6"/>
          <p:cNvSpPr/>
          <p:nvPr/>
        </p:nvSpPr>
        <p:spPr>
          <a:xfrm>
            <a:off x="560520" y="13824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Výsledek obrázku pro la division travail social"/>
          <p:cNvPicPr/>
          <p:nvPr/>
        </p:nvPicPr>
        <p:blipFill>
          <a:blip r:embed="rId1"/>
          <a:srcRect l="18898" t="0" r="18898" b="0"/>
          <a:stretch/>
        </p:blipFill>
        <p:spPr>
          <a:xfrm>
            <a:off x="414360" y="0"/>
            <a:ext cx="1365120" cy="219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Výsledek obrázku pro the division of labour in society"/>
          <p:cNvPicPr/>
          <p:nvPr/>
        </p:nvPicPr>
        <p:blipFill>
          <a:blip r:embed="rId2"/>
          <a:stretch/>
        </p:blipFill>
        <p:spPr>
          <a:xfrm>
            <a:off x="395280" y="2133720"/>
            <a:ext cx="1413000" cy="215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Výsledek obrázku pro dělba společenské práce"/>
          <p:cNvPicPr/>
          <p:nvPr/>
        </p:nvPicPr>
        <p:blipFill>
          <a:blip r:embed="rId3"/>
          <a:stretch/>
        </p:blipFill>
        <p:spPr>
          <a:xfrm>
            <a:off x="395280" y="4365720"/>
            <a:ext cx="1414440" cy="2303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106" name="Text Box 11"/>
          <p:cNvSpPr/>
          <p:nvPr/>
        </p:nvSpPr>
        <p:spPr>
          <a:xfrm>
            <a:off x="2124000" y="549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POLEČENSKÁ DĚLBA 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549520" y="1557360"/>
            <a:ext cx="63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oderní komplexnost vede k specializaci  - dělbě práce – ta mění povahu solid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srov. Marx – dělba práce -&gt; konfli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ch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předmoderní společnosti – solidarita založená na společném věd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rg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moderní, komplexní společnosti – solidarita založená na vzájemné potře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diferenciac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Výsledek obrázku pro mechanical solidarity organic solidarity durkheim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cp:lastPrinted>2017-10-24T07:10:28Z</cp:lastPrinted>
  <dcterms:modified xsi:type="dcterms:W3CDTF">2017-10-24T07:11:23Z</dcterms:modified>
  <cp:revision>25</cp:revision>
  <dc:subject/>
  <dc:title>Snímek 1</dc:title>
</cp:coreProperties>
</file>