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9.png" ContentType="image/png"/>
  <Override PartName="/ppt/media/image11.png" ContentType="image/png"/>
  <Override PartName="/ppt/media/image12.jpeg" ContentType="image/jpeg"/>
  <Override PartName="/ppt/media/image29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66F8-4F03-4D8C-9BAC-3C02D9612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E2A6-05BD-42F2-8407-B30DCBA61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291A-9D18-45F6-9FB7-BED72153F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2235-EC73-449D-857C-2A62CB8AF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8116-CDA4-44E6-B4AA-C71F54F43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101D-8401-4CA0-8890-6AEC8ABBE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B2B1-576B-413E-9562-C93B8F221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0454-A938-4300-8E7C-606C9ABAD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29A0-4C59-4187-9AF2-013E24148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6F03-B2A3-43E8-9E6A-1C7766FD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FB4C-EBB8-4F46-A2F3-E0FA00B8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09AF-EAB6-4D88-8E5C-9EC9A527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F2875-C674-4FF6-BB6F-1A73BAF1707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Výsledek obrázku pro auguste comte"/>
          <p:cNvPicPr/>
          <p:nvPr/>
        </p:nvPicPr>
        <p:blipFill>
          <a:blip r:embed="rId1"/>
          <a:stretch/>
        </p:blipFill>
        <p:spPr>
          <a:xfrm>
            <a:off x="108000" y="115920"/>
            <a:ext cx="1990800" cy="28796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42" name="Picture 3" descr="Výsledek obrázku pro emile durkheim"/>
          <p:cNvPicPr/>
          <p:nvPr/>
        </p:nvPicPr>
        <p:blipFill>
          <a:blip r:embed="rId2"/>
          <a:stretch/>
        </p:blipFill>
        <p:spPr>
          <a:xfrm>
            <a:off x="4500720" y="115920"/>
            <a:ext cx="2216160" cy="28782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43" name="Picture 4" descr="Výsledek obrázku pro karl marx"/>
          <p:cNvPicPr/>
          <p:nvPr/>
        </p:nvPicPr>
        <p:blipFill>
          <a:blip r:embed="rId3"/>
          <a:stretch/>
        </p:blipFill>
        <p:spPr>
          <a:xfrm>
            <a:off x="2268360" y="115920"/>
            <a:ext cx="2051280" cy="28782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44" name="Picture 5" descr="Výsledek obrázku pro max weber"/>
          <p:cNvPicPr/>
          <p:nvPr/>
        </p:nvPicPr>
        <p:blipFill>
          <a:blip r:embed="rId4"/>
          <a:stretch/>
        </p:blipFill>
        <p:spPr>
          <a:xfrm>
            <a:off x="6877080" y="115920"/>
            <a:ext cx="2104920" cy="28796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45" name="Picture 6" descr="Výsledek obrázku pro g h mead"/>
          <p:cNvPicPr/>
          <p:nvPr/>
        </p:nvPicPr>
        <p:blipFill>
          <a:blip r:embed="rId5"/>
          <a:stretch/>
        </p:blipFill>
        <p:spPr>
          <a:xfrm>
            <a:off x="68400" y="3716280"/>
            <a:ext cx="1695240" cy="21589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46" name="Picture 7" descr="Výsledek obrázku pro talcott parsons"/>
          <p:cNvPicPr/>
          <p:nvPr/>
        </p:nvPicPr>
        <p:blipFill>
          <a:blip r:embed="rId6"/>
          <a:srcRect l="11116" t="0" r="5558" b="0"/>
          <a:stretch/>
        </p:blipFill>
        <p:spPr>
          <a:xfrm>
            <a:off x="1854360" y="3716280"/>
            <a:ext cx="1925640" cy="21607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47" name="Picture 8" descr="Výsledek obrázku pro bourdieu"/>
          <p:cNvPicPr/>
          <p:nvPr/>
        </p:nvPicPr>
        <p:blipFill>
          <a:blip r:embed="rId7"/>
          <a:stretch/>
        </p:blipFill>
        <p:spPr>
          <a:xfrm>
            <a:off x="5457960" y="3716280"/>
            <a:ext cx="2138400" cy="21589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48" name="Picture 9" descr="Výsledek obrázku pro r k merton"/>
          <p:cNvPicPr/>
          <p:nvPr/>
        </p:nvPicPr>
        <p:blipFill>
          <a:blip r:embed="rId8"/>
          <a:stretch/>
        </p:blipFill>
        <p:spPr>
          <a:xfrm>
            <a:off x="3851280" y="3716280"/>
            <a:ext cx="1536840" cy="21589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49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3" descr=""/>
          <p:cNvPicPr/>
          <p:nvPr/>
        </p:nvPicPr>
        <p:blipFill>
          <a:blip r:embed="rId9"/>
          <a:srcRect l="17501" t="0" r="17501" b="0"/>
          <a:stretch/>
        </p:blipFill>
        <p:spPr>
          <a:xfrm>
            <a:off x="7667640" y="3716280"/>
            <a:ext cx="1382760" cy="21272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3" name="Text Box 14"/>
          <p:cNvSpPr/>
          <p:nvPr/>
        </p:nvSpPr>
        <p:spPr>
          <a:xfrm>
            <a:off x="277200" y="2997360"/>
            <a:ext cx="81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Auguste Comte      Karl Marx                          Émile Durkheim                Max Webe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-2520" y="6021360"/>
            <a:ext cx="907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George H. Mead         Talcott Parsons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 Robert K. Merton        Peierre Bourdieu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  Anthony Gidd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-720" y="6381720"/>
            <a:ext cx="806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1863-1931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1902-1979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1910-2003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1930-2002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 *193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254520" y="3308400"/>
            <a:ext cx="783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798-1857 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818-1883                          1858-1917           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1864-19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bdélník 1"/>
          <p:cNvSpPr/>
          <p:nvPr/>
        </p:nvSpPr>
        <p:spPr>
          <a:xfrm>
            <a:off x="68400" y="0"/>
            <a:ext cx="4351320" cy="35812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"/>
          <p:cNvSpPr/>
          <p:nvPr/>
        </p:nvSpPr>
        <p:spPr>
          <a:xfrm>
            <a:off x="687960" y="1700280"/>
            <a:ext cx="709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OCIÁLNÍ STAT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držování (reprodukce) řá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avidla, nor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ŘI OPORY SOCIÁLNÍHO ŘÁ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ODIN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láska, nápodoba  (morfostatická institu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TÁ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energické jednání (donuce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ÁBOŽENSTV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intelekt, duchov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752400" y="547560"/>
            <a:ext cx="584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o vzoru přírodních věd rozlišil Com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Sociální statiku a dynamik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683640" y="1844640"/>
            <a:ext cx="5207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JAZY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dílení významů, historická pamě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LASTNIC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držování 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248400" y="836640"/>
            <a:ext cx="85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 rámci těchto systémů umožňují řád udržovat zejména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684360" y="476280"/>
            <a:ext cx="7920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OCIÁLNÍ STATIKA JAKO ZDROJ POZDĚJŠÍCH SOCIOLOGICKÝCH PŘÍSTUP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lad tradice tzv. KONSENSUÁLNÍCH SMĚR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koumají faktory, které udržují soudržnost společ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šímají si zejména prvků kooperace, udržování stability, důvě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droj inspirace pr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RGANICISMUS, FUNKCIONALIS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ečnost jako struktura propojených systémů, které navzájem plní funkce nezbytné pro přeži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3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611280" y="620640"/>
            <a:ext cx="8064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OCIÁLNÍ DYNAM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ecně  vzato, Comte předznamenal trvalý zájem sociologů o rovnováhu mezi řádem a změnou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adiční otázka filozofie (zejména německého idealismu)  zně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am směřují dějiny?  Jaký je smysl histori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 sociologii je klíčová otázka formulována méně obecně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Jak je možná sociální změna?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tedy jak je možné, že přes všechny mechanismy udržování stability se ve společnosti něco změ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611280" y="620640"/>
            <a:ext cx="8064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OCIÁLNÍ DYNAM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mte formuloval velmi obecně tzv. zákon tří stád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EOLOGICKÉ:  fetišistické, polyteistické, monoteist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ETAFYZICKÉ: (1300 – 1800) spekul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OZITIVNÍ:  vědecky, empiricky zakotvené ří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OZITIVISMUS A HIERARCHIE VĚ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9" descr="Výsledek obrázku pro HIERARCHIE VĚD COMTE"/>
          <p:cNvPicPr/>
          <p:nvPr/>
        </p:nvPicPr>
        <p:blipFill>
          <a:blip r:embed="rId1"/>
          <a:stretch/>
        </p:blipFill>
        <p:spPr>
          <a:xfrm>
            <a:off x="826920" y="1628640"/>
            <a:ext cx="759636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396000" y="404640"/>
            <a:ext cx="273024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Karl Mar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818-188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Výsledek obrázku pro karl marx"/>
          <p:cNvPicPr/>
          <p:nvPr/>
        </p:nvPicPr>
        <p:blipFill>
          <a:blip r:embed="rId1"/>
          <a:stretch/>
        </p:blipFill>
        <p:spPr>
          <a:xfrm>
            <a:off x="395280" y="1916280"/>
            <a:ext cx="3409920" cy="4286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Výsledek obrázku pro karl marx kapital"/>
          <p:cNvPicPr/>
          <p:nvPr/>
        </p:nvPicPr>
        <p:blipFill>
          <a:blip r:embed="rId2"/>
          <a:stretch/>
        </p:blipFill>
        <p:spPr>
          <a:xfrm>
            <a:off x="3995640" y="2997360"/>
            <a:ext cx="1905120" cy="3209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Výsledek obrázku pro karl marx communist manifesto original"/>
          <p:cNvPicPr/>
          <p:nvPr/>
        </p:nvPicPr>
        <p:blipFill>
          <a:blip r:embed="rId3"/>
          <a:stretch/>
        </p:blipFill>
        <p:spPr>
          <a:xfrm>
            <a:off x="6084720" y="2997360"/>
            <a:ext cx="2141640" cy="3213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6"/>
          <p:cNvSpPr/>
          <p:nvPr/>
        </p:nvSpPr>
        <p:spPr>
          <a:xfrm>
            <a:off x="4070880" y="852480"/>
            <a:ext cx="389772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konomicko-filosofické rukopi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munistický manifest (S Engels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apitá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96000" y="404640"/>
            <a:ext cx="273024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Arial"/>
              </a:rPr>
              <a:t>Karl Mar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1818-188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3" descr="Výsledek obrázku pro marx young"/>
          <p:cNvPicPr/>
          <p:nvPr/>
        </p:nvPicPr>
        <p:blipFill>
          <a:blip r:embed="rId1"/>
          <a:stretch/>
        </p:blipFill>
        <p:spPr>
          <a:xfrm>
            <a:off x="2484360" y="2022480"/>
            <a:ext cx="5446800" cy="48355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6" descr="Výsledek obrázku pro marx young"/>
          <p:cNvPicPr/>
          <p:nvPr/>
        </p:nvPicPr>
        <p:blipFill>
          <a:blip r:embed="rId2"/>
          <a:stretch/>
        </p:blipFill>
        <p:spPr>
          <a:xfrm>
            <a:off x="179280" y="2492280"/>
            <a:ext cx="235908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9" descr="Výsledek obrázku pro utopic socialism"/>
          <p:cNvPicPr/>
          <p:nvPr/>
        </p:nvPicPr>
        <p:blipFill>
          <a:blip r:embed="rId1"/>
          <a:stretch/>
        </p:blipFill>
        <p:spPr>
          <a:xfrm>
            <a:off x="5364000" y="1916280"/>
            <a:ext cx="4108680" cy="226044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7"/>
          <p:cNvSpPr/>
          <p:nvPr/>
        </p:nvSpPr>
        <p:spPr>
          <a:xfrm>
            <a:off x="0" y="0"/>
            <a:ext cx="9144000" cy="1628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568440" y="808200"/>
            <a:ext cx="59796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Na koho Marx navazov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(Utopický) socialis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enri de Saint Si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harles Four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obert O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Německý klasický idealism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egel, Feuerb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lasická Ekonomie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Ricar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Výsledek obrázku pro hegel duch dějin"/>
          <p:cNvPicPr/>
          <p:nvPr/>
        </p:nvPicPr>
        <p:blipFill>
          <a:blip r:embed="rId2"/>
          <a:stretch/>
        </p:blipFill>
        <p:spPr>
          <a:xfrm>
            <a:off x="7020000" y="4454640"/>
            <a:ext cx="1803240" cy="22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539640" y="1484280"/>
            <a:ext cx="7417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tvářejí-li člověka okolnosti, je třeba dát okolnostem lidskou podobu.“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yšlenky, koncepce a vědomí, se na první pohled přímo prolínají s materiální činností a materiálními styky, jsou jazykem reálného života.“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boženství je opium lidstva.“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istorie všech dosud existujících společností je historií třídních bojů.“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ilozofové doposud svět vysvětlovali, jde však o to - změnit ho.“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droj: http://citaty.net/autori/karl-marx/?q=27108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ARL MARX - ci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8" descr="Výsledek obrázku pro french revolution"/>
          <p:cNvPicPr/>
          <p:nvPr/>
        </p:nvPicPr>
        <p:blipFill>
          <a:blip r:embed="rId1"/>
          <a:stretch/>
        </p:blipFill>
        <p:spPr>
          <a:xfrm>
            <a:off x="0" y="1727280"/>
            <a:ext cx="9144000" cy="51465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73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POČÁTKY MODERNÍHO SOCIOLOGICKÉHO MYŠL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461480" y="6553080"/>
            <a:ext cx="469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Eugène Delacroix – Svoboda vede lid na barikády (183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971640" y="1341360"/>
            <a:ext cx="741672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Tahoma"/>
              </a:rPr>
              <a:t>SOCIÁLNÍ TŘÍ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ahoma"/>
              </a:rPr>
              <a:t>BURŽOAZ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VLASTNICTVÍ VÝROBNÍCH PROSTŘED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ahoma"/>
              </a:rPr>
              <a:t>PROLETARIÁ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NUTNOST PRODÁVAT SVOJI PRÁ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ARL MARX – zákadní myšle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Image of bourgeoisie and proletariat"/>
          <p:cNvPicPr/>
          <p:nvPr/>
        </p:nvPicPr>
        <p:blipFill>
          <a:blip r:embed="rId1"/>
          <a:stretch/>
        </p:blipFill>
        <p:spPr>
          <a:xfrm>
            <a:off x="1547640" y="0"/>
            <a:ext cx="6000840" cy="9372600"/>
          </a:xfrm>
          <a:prstGeom prst="rect">
            <a:avLst/>
          </a:prstGeom>
          <a:ln w="0">
            <a:noFill/>
          </a:ln>
        </p:spPr>
      </p:pic>
      <p:sp>
        <p:nvSpPr>
          <p:cNvPr id="127" name="Line 6"/>
          <p:cNvSpPr/>
          <p:nvPr/>
        </p:nvSpPr>
        <p:spPr>
          <a:xfrm>
            <a:off x="1979640" y="2349360"/>
            <a:ext cx="504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1979640" y="5589720"/>
            <a:ext cx="504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8"/>
          <p:cNvSpPr/>
          <p:nvPr/>
        </p:nvSpPr>
        <p:spPr>
          <a:xfrm>
            <a:off x="1979640" y="5792760"/>
            <a:ext cx="504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9"/>
          <p:cNvSpPr/>
          <p:nvPr/>
        </p:nvSpPr>
        <p:spPr>
          <a:xfrm>
            <a:off x="6659640" y="5397480"/>
            <a:ext cx="36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0"/>
          <p:cNvSpPr/>
          <p:nvPr/>
        </p:nvSpPr>
        <p:spPr>
          <a:xfrm>
            <a:off x="1908000" y="2565360"/>
            <a:ext cx="432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1"/>
          <p:cNvSpPr/>
          <p:nvPr/>
        </p:nvSpPr>
        <p:spPr>
          <a:xfrm>
            <a:off x="2050920" y="6541920"/>
            <a:ext cx="504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2050920" y="6742080"/>
            <a:ext cx="2521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3"/>
          <p:cNvSpPr/>
          <p:nvPr/>
        </p:nvSpPr>
        <p:spPr>
          <a:xfrm>
            <a:off x="5940360" y="6351480"/>
            <a:ext cx="1150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468360" y="836640"/>
            <a:ext cx="8209080" cy="71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Tahoma"/>
              </a:rPr>
              <a:t>SOCIÁLNÍ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Tahoma"/>
              </a:rPr>
              <a:t>TŘÍ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zdroj inspirace pro stratifikační sociolog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ÍDA se stala jedním z nejčastěji používaných koncept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iskuse o zániku tříd 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o určuje v současnosti pozici ve společnost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dukce, nebo spotřeb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Výsledek obrázku pro social classes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539640" y="1341360"/>
            <a:ext cx="8209080" cy="67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Tahoma"/>
              </a:rPr>
              <a:t>SOCIÁLNÍ TŘÍ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zdroj inspirace pro tzv. KONFLIKTUALISTICKÉ SMĚ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rov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Comt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spolupráce, solidari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hra s nenulovým součtem = každý může získ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arx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souboj, konfli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hra s nulovým součtem = zisk je ztráta druhéh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ARL MARX – zákadní myšle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900000" y="1916280"/>
            <a:ext cx="7417080" cy="39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Tahoma"/>
              </a:rPr>
              <a:t>BYTÍ              VĚDOM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ZICE VE SPOLEČNOSTI OVLIVŇUJE ZPŮSOB NÁHLEDU NA SVĚ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pozice vůči klasickému idealis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„duch dějin“ - Heg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ARL MARX – zákadní myšle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4"/>
          <p:cNvSpPr/>
          <p:nvPr/>
        </p:nvSpPr>
        <p:spPr>
          <a:xfrm>
            <a:off x="2987640" y="1916280"/>
            <a:ext cx="1728720" cy="792000"/>
          </a:xfrm>
          <a:prstGeom prst="rightArrow">
            <a:avLst>
              <a:gd name="adj1" fmla="val 50000"/>
              <a:gd name="adj2" fmla="val 54568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757080" y="1557360"/>
            <a:ext cx="79185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Tahoma"/>
              </a:rPr>
              <a:t>BYTÍ              VĚDOM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ulgarizované pojetí: základna – nadstavba – materialis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spirace: sociologie vědění (ideologie), postmoderna (nemožnost objektivity, mocenské zdroje diskurzu) a feminismus (poziční teori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ARL MARX – zákadní myšle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2762280" y="1574640"/>
            <a:ext cx="1728720" cy="792360"/>
          </a:xfrm>
          <a:prstGeom prst="rightArrow">
            <a:avLst>
              <a:gd name="adj1" fmla="val 50000"/>
              <a:gd name="adj2" fmla="val 54543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971640" y="1341360"/>
            <a:ext cx="7416720" cy="60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Tahoma"/>
              </a:rPr>
              <a:t>KAPITÁ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INSPIRA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SOCIÁLNÍ KAPITÁL (PUTNA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KULTURNÍ KAPITÁL (BOURDIE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ARL MARX – zákadní myšle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3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ulturní kapitá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Úvod do studia hipstrů"/>
          <p:cNvPicPr/>
          <p:nvPr/>
        </p:nvPicPr>
        <p:blipFill>
          <a:blip r:embed="rId1"/>
          <a:stretch/>
        </p:blipFill>
        <p:spPr>
          <a:xfrm>
            <a:off x="0" y="1052640"/>
            <a:ext cx="5867280" cy="39528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Výsledek obrázku pro hipster kulturní kapitál"/>
          <p:cNvPicPr/>
          <p:nvPr/>
        </p:nvPicPr>
        <p:blipFill>
          <a:blip r:embed="rId2"/>
          <a:stretch/>
        </p:blipFill>
        <p:spPr>
          <a:xfrm>
            <a:off x="5986440" y="1055520"/>
            <a:ext cx="3157560" cy="19242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Výsledek obrázku pro stolování"/>
          <p:cNvPicPr/>
          <p:nvPr/>
        </p:nvPicPr>
        <p:blipFill>
          <a:blip r:embed="rId3"/>
          <a:stretch/>
        </p:blipFill>
        <p:spPr>
          <a:xfrm>
            <a:off x="5986440" y="2998800"/>
            <a:ext cx="3241800" cy="2432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Výsledek obrázku pro víno"/>
          <p:cNvPicPr/>
          <p:nvPr/>
        </p:nvPicPr>
        <p:blipFill>
          <a:blip r:embed="rId4"/>
          <a:stretch/>
        </p:blipFill>
        <p:spPr>
          <a:xfrm>
            <a:off x="0" y="5084640"/>
            <a:ext cx="3017880" cy="21542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Výsledek obrázku pro pivo"/>
          <p:cNvPicPr/>
          <p:nvPr/>
        </p:nvPicPr>
        <p:blipFill>
          <a:blip r:embed="rId5"/>
          <a:stretch/>
        </p:blipFill>
        <p:spPr>
          <a:xfrm>
            <a:off x="3049560" y="5611680"/>
            <a:ext cx="293688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3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ulturní kapitá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Související obrázek"/>
          <p:cNvPicPr/>
          <p:nvPr/>
        </p:nvPicPr>
        <p:blipFill>
          <a:blip r:embed="rId1"/>
          <a:stretch/>
        </p:blipFill>
        <p:spPr>
          <a:xfrm>
            <a:off x="338040" y="1125360"/>
            <a:ext cx="8248680" cy="5153040"/>
          </a:xfrm>
          <a:prstGeom prst="rect">
            <a:avLst/>
          </a:prstGeom>
          <a:ln w="0">
            <a:noFill/>
          </a:ln>
        </p:spPr>
      </p:pic>
      <p:sp>
        <p:nvSpPr>
          <p:cNvPr id="155" name="Obdélník 1"/>
          <p:cNvSpPr/>
          <p:nvPr/>
        </p:nvSpPr>
        <p:spPr>
          <a:xfrm>
            <a:off x="338040" y="62784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88888"/>
                </a:solidFill>
                <a:latin typeface="Telesans Text Regular"/>
              </a:rPr>
              <a:t>Roy Lichtenstein’s Whaam! 1963, acrylic and oil canvas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bdélník 2"/>
          <p:cNvSpPr/>
          <p:nvPr/>
        </p:nvSpPr>
        <p:spPr>
          <a:xfrm>
            <a:off x="4716360" y="6278400"/>
            <a:ext cx="4572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595959"/>
                </a:solidFill>
                <a:latin typeface="Arial"/>
              </a:rPr>
              <a:t>http://www.telegraph.co.uk/art/what-to-see/the-new-tate-modern-is-infuriating-and-exhilarating-in-equal-mea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395280" y="1341360"/>
            <a:ext cx="8424720" cy="69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Tahoma"/>
              </a:rPr>
              <a:t>Odcizení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Tahoma"/>
              </a:rPr>
              <a:t>zbožní fetišismu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Tahoma"/>
              </a:rPr>
              <a:t>ZBOŽÍ REPREZENTUJE SOCIÁLNÍ VZTAH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ARL MARX – zákadní myšle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7" descr="Výsledek obrázku pro time axis french revolution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3230280"/>
          </a:xfrm>
          <a:prstGeom prst="rect">
            <a:avLst/>
          </a:prstGeom>
          <a:ln w="0">
            <a:noFill/>
          </a:ln>
        </p:spPr>
      </p:pic>
      <p:sp>
        <p:nvSpPr>
          <p:cNvPr id="62" name="Line 8"/>
          <p:cNvSpPr/>
          <p:nvPr/>
        </p:nvSpPr>
        <p:spPr>
          <a:xfrm>
            <a:off x="3780000" y="4508640"/>
            <a:ext cx="4392360" cy="0"/>
          </a:xfrm>
          <a:prstGeom prst="line">
            <a:avLst/>
          </a:prstGeom>
          <a:ln w="76320">
            <a:solidFill>
              <a:srgbClr val="8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9"/>
          <p:cNvSpPr/>
          <p:nvPr/>
        </p:nvSpPr>
        <p:spPr>
          <a:xfrm>
            <a:off x="3419640" y="4941720"/>
            <a:ext cx="4681440" cy="0"/>
          </a:xfrm>
          <a:prstGeom prst="line">
            <a:avLst/>
          </a:prstGeom>
          <a:ln w="76320">
            <a:solidFill>
              <a:srgbClr val="8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0"/>
          <p:cNvSpPr/>
          <p:nvPr/>
        </p:nvSpPr>
        <p:spPr>
          <a:xfrm>
            <a:off x="5435640" y="5516640"/>
            <a:ext cx="4681440" cy="0"/>
          </a:xfrm>
          <a:prstGeom prst="line">
            <a:avLst/>
          </a:prstGeom>
          <a:ln w="76320">
            <a:solidFill>
              <a:srgbClr val="8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2271960" y="429264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ocquev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2484360" y="4724280"/>
            <a:ext cx="13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m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4716360" y="5300640"/>
            <a:ext cx="13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r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720" y="6093000"/>
            <a:ext cx="902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VNÍ GENERACE SOCIOLOGICKÝCH MYSLITELŮ V KONTEXTU DĚJIN FRAN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Výsledek obrázku pro kolik opravdu stojí tričko"/>
          <p:cNvPicPr/>
          <p:nvPr/>
        </p:nvPicPr>
        <p:blipFill>
          <a:blip r:embed="rId1"/>
          <a:stretch/>
        </p:blipFill>
        <p:spPr>
          <a:xfrm>
            <a:off x="395280" y="0"/>
            <a:ext cx="4854600" cy="6858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Výsledek obrázku pro i phone"/>
          <p:cNvPicPr/>
          <p:nvPr/>
        </p:nvPicPr>
        <p:blipFill>
          <a:blip r:embed="rId2"/>
          <a:srcRect l="46620" t="0" r="-391" b="0"/>
          <a:stretch/>
        </p:blipFill>
        <p:spPr>
          <a:xfrm>
            <a:off x="6012000" y="1197000"/>
            <a:ext cx="307332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468360" y="1413000"/>
            <a:ext cx="842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ahoma"/>
              </a:rPr>
              <a:t>SOCIOLOGIE VĚDĚ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ahoma"/>
              </a:rPr>
              <a:t>Jak jiné jsou světy v nichž žijem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ahoma"/>
              </a:rPr>
              <a:t>KONFLIKTUALISTICKÉ SMĚ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ahoma"/>
              </a:rPr>
              <a:t>Je možná rovnováha konflikt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ahoma"/>
              </a:rPr>
              <a:t>KRITICKÁ SOCIOLOG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ahoma"/>
              </a:rPr>
              <a:t>Je možná lepší společnos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ARL MARX – VLIVY A INSPIRACE  -  SHRN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Výsledek obrázku pro alexis de tocqueville"/>
          <p:cNvPicPr/>
          <p:nvPr/>
        </p:nvPicPr>
        <p:blipFill>
          <a:blip r:embed="rId1"/>
          <a:stretch/>
        </p:blipFill>
        <p:spPr>
          <a:xfrm>
            <a:off x="250920" y="3068640"/>
            <a:ext cx="3108240" cy="36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0" name="Text Box 5"/>
          <p:cNvSpPr/>
          <p:nvPr/>
        </p:nvSpPr>
        <p:spPr>
          <a:xfrm>
            <a:off x="478080" y="333360"/>
            <a:ext cx="602208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lexis de Tocquevil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805-18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tarý režim a revolu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emokracie v Ame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Výsledek obrázku pro alexis de tocqueville ancien regime"/>
          <p:cNvPicPr/>
          <p:nvPr/>
        </p:nvPicPr>
        <p:blipFill>
          <a:blip r:embed="rId2"/>
          <a:stretch/>
        </p:blipFill>
        <p:spPr>
          <a:xfrm>
            <a:off x="3995640" y="3068640"/>
            <a:ext cx="2000520" cy="3602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2" name="Picture 13" descr="Výsledek obrázku pro De la démocratie en Amérique"/>
          <p:cNvPicPr/>
          <p:nvPr/>
        </p:nvPicPr>
        <p:blipFill>
          <a:blip r:embed="rId3"/>
          <a:srcRect l="6810" t="8883" r="10215" b="8883"/>
          <a:stretch/>
        </p:blipFill>
        <p:spPr>
          <a:xfrm>
            <a:off x="6588000" y="3068640"/>
            <a:ext cx="2368800" cy="359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539640" y="1268280"/>
            <a:ext cx="7993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dnoznačně směřujeme k demokracii, netvrdím však, že je to dobře. To, co vidím v této zemi (Americe), mě naopak přesvědčuje, že tento politický systém se pro Francii nehodí. Této síle však nejsme s to se ubránit. Nic ji nedokáže zastavit, a pokud ano, jen nakrátko.“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espotismus, ze své vlastní povahy velmi podezíravý, považuje izolaci lidí za nejlepší záruku svého vlastního trvání… Despota snadno promine svým poddaným, že ho nemají rádi – ovšem za předpokladu, že ani poddaní navzájem se nebudou mít rádi.“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án již neříká: ‘Buď budeš myslet stejně jako já, nebo zemřeš.’ Říká však: ‘Máš svobodu nemyslet stejně jako já – můžeš si ponechat svůj život, majetek a vše co máš. Ale od dnešního dne jsi mezi námi cizincem… Když se přiblížíš ke svým bližním, budou se ti vyhýbat jako nečisté bytosti… Jdi v pokoji. Ponechal jsem ti tvůj život, ale je to život horší než smrt’.“</a:t>
            </a:r>
            <a:br>
              <a:rPr sz="1800"/>
            </a:b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droj: http://citaty.net/autori/alexis-de-tocqueville/?q=26662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lexis de Tocqueville - ci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Výsledek obrázku pro starý režim a revoluce"/>
          <p:cNvPicPr/>
          <p:nvPr/>
        </p:nvPicPr>
        <p:blipFill>
          <a:blip r:embed="rId1"/>
          <a:stretch/>
        </p:blipFill>
        <p:spPr>
          <a:xfrm>
            <a:off x="1017720" y="2487600"/>
            <a:ext cx="2114280" cy="33717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Výsledek obrázku pro starý režim a revoluce"/>
          <p:cNvPicPr/>
          <p:nvPr/>
        </p:nvPicPr>
        <p:blipFill>
          <a:blip r:embed="rId2"/>
          <a:stretch/>
        </p:blipFill>
        <p:spPr>
          <a:xfrm>
            <a:off x="0" y="620640"/>
            <a:ext cx="3132000" cy="1762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Výsledek obrázku pro ivo možný"/>
          <p:cNvPicPr/>
          <p:nvPr/>
        </p:nvPicPr>
        <p:blipFill>
          <a:blip r:embed="rId3"/>
          <a:stretch/>
        </p:blipFill>
        <p:spPr>
          <a:xfrm>
            <a:off x="5981760" y="620640"/>
            <a:ext cx="3127320" cy="1762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Výsledek obrázku pro ivo možný proč tak snadno"/>
          <p:cNvPicPr/>
          <p:nvPr/>
        </p:nvPicPr>
        <p:blipFill>
          <a:blip r:embed="rId4"/>
          <a:stretch/>
        </p:blipFill>
        <p:spPr>
          <a:xfrm>
            <a:off x="5981760" y="2513160"/>
            <a:ext cx="2352600" cy="3371760"/>
          </a:xfrm>
          <a:prstGeom prst="rect">
            <a:avLst/>
          </a:prstGeom>
          <a:ln w="0">
            <a:noFill/>
          </a:ln>
        </p:spPr>
      </p:pic>
      <p:sp>
        <p:nvSpPr>
          <p:cNvPr id="79" name="TextovéPole 3"/>
          <p:cNvSpPr/>
          <p:nvPr/>
        </p:nvSpPr>
        <p:spPr>
          <a:xfrm>
            <a:off x="3368520" y="333360"/>
            <a:ext cx="2376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ARALE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. DE TOCQUEVILLE (*18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ŽNÝ (*193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EVOLU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JAKO VÝSLED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BECNĚJŠÍ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POLEČENSKÝ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REND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EVOLUCE JAKO ODHALENÍ ZÁKLADNÍCH SOLEČENSKÝCH MECHANISM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9" descr="Výsledek obrázku pro SOCIAL CAPITAL"/>
          <p:cNvPicPr/>
          <p:nvPr/>
        </p:nvPicPr>
        <p:blipFill>
          <a:blip r:embed="rId1"/>
          <a:stretch/>
        </p:blipFill>
        <p:spPr>
          <a:xfrm>
            <a:off x="3708360" y="4518000"/>
            <a:ext cx="3828960" cy="237168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3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ALŠÍ SOUČASNÉ INSPI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Výsledek obrázku pro PUTNAM BOWLING ALONE"/>
          <p:cNvPicPr/>
          <p:nvPr/>
        </p:nvPicPr>
        <p:blipFill>
          <a:blip r:embed="rId2"/>
          <a:stretch/>
        </p:blipFill>
        <p:spPr>
          <a:xfrm>
            <a:off x="395280" y="1052640"/>
            <a:ext cx="2800440" cy="39718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6"/>
          <p:cNvSpPr/>
          <p:nvPr/>
        </p:nvSpPr>
        <p:spPr>
          <a:xfrm>
            <a:off x="3443040" y="1123920"/>
            <a:ext cx="42249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Sociální kapitá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ruktura sociálních sí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íť vzájemné důvě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ůvěry v institu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NDING  pojí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RIDGING  přemosťují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666000" y="481644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DÁNO R.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4089240" y="333360"/>
            <a:ext cx="4310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uguste Com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798-18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3" descr="Výsledek obrázku pro auguste comte stamp"/>
          <p:cNvPicPr/>
          <p:nvPr/>
        </p:nvPicPr>
        <p:blipFill>
          <a:blip r:embed="rId1"/>
          <a:stretch/>
        </p:blipFill>
        <p:spPr>
          <a:xfrm>
            <a:off x="250920" y="1557360"/>
            <a:ext cx="3333600" cy="5067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5" descr="Výsledek obrázku pro auguste comte books"/>
          <p:cNvPicPr/>
          <p:nvPr/>
        </p:nvPicPr>
        <p:blipFill>
          <a:blip r:embed="rId2"/>
          <a:stretch/>
        </p:blipFill>
        <p:spPr>
          <a:xfrm>
            <a:off x="3780000" y="3429000"/>
            <a:ext cx="1714320" cy="292428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1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1" descr="Výsledek obrázku pro auguste comte systeme positive politics"/>
          <p:cNvPicPr/>
          <p:nvPr/>
        </p:nvPicPr>
        <p:blipFill>
          <a:blip r:embed="rId3"/>
          <a:stretch/>
        </p:blipFill>
        <p:spPr>
          <a:xfrm>
            <a:off x="5580000" y="3429000"/>
            <a:ext cx="1849680" cy="29494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22"/>
          <p:cNvSpPr/>
          <p:nvPr/>
        </p:nvSpPr>
        <p:spPr>
          <a:xfrm>
            <a:off x="4066920" y="1844640"/>
            <a:ext cx="263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urs pozitivní filosof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urs pozitivní politi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539640" y="1268280"/>
            <a:ext cx="7417080" cy="51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absolutním smyslu není nic dobré a nic špatné; všechno je relativní, tohle je jediné absolutní tvrzení.“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„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jenže duchovní zmatek umožňuje rozvoj korupce, on si ho přímo vynucuje jako jediný prostředek, jak dosáhnout určité shody, bez níž se sociální řád neobejde.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UGUSTE COMTE  - citá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09T16:38:27Z</dcterms:created>
  <dc:creator>x</dc:creator>
  <dc:description/>
  <dc:language>en-US</dc:language>
  <cp:lastModifiedBy>Doricakova</cp:lastModifiedBy>
  <cp:lastPrinted>2017-10-17T07:08:37Z</cp:lastPrinted>
  <dcterms:modified xsi:type="dcterms:W3CDTF">2019-11-25T15:04:34Z</dcterms:modified>
  <cp:revision>33</cp:revision>
  <dc:subject/>
  <dc:title>Snímek 1</dc:title>
</cp:coreProperties>
</file>