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FB58-F450-4399-80AF-0E64F241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43C4-85E1-49EF-9A77-D01B2A51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323-4F34-40D4-A6AB-6F27B280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80EC-04A3-45BE-AD17-F1DDA9BB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231-63BD-4801-A3F3-CC456603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9BEE-1732-49A9-995C-3527DD59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004-A467-4061-AA28-35EB8442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2B3-A81C-493B-90E6-590DA5EB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CA3-E1DD-4DF6-8EF8-6BC14A77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77BA-08B4-4B24-9EBD-A1EED030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7C8-5835-4AF7-B90D-68376301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0B68-C7CD-4F53-A9D5-A2D346B1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59CB-8CEA-4F88-A04E-7484DF98C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000" y="0"/>
            <a:ext cx="5654880" cy="1312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Literatura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413000"/>
            <a:ext cx="86616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vinná četba ze čtyř kni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IDDENS, Anthony. 2013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ociologie. Aktualizované a rozšířené vydání revidované Philipem W. Suttone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Ar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RRINGTON, Austin. 2006. 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oderní sociální teorie: základní témata a myšlenkové proud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Portá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ELLER, Jan. 1997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Úvod do sociolog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Sociologické nakladatelstv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RTUCCELLI, Danilo. 2008. 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ociologie modernity: itinerář 20. stolet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Brno: Centrum pro studium demokracie a kultury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Výsledek obrázku pro giddens sociologie"/>
          <p:cNvPicPr/>
          <p:nvPr/>
        </p:nvPicPr>
        <p:blipFill>
          <a:blip r:embed="rId1"/>
          <a:stretch/>
        </p:blipFill>
        <p:spPr>
          <a:xfrm>
            <a:off x="611280" y="1052640"/>
            <a:ext cx="3786120" cy="5287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Výsledek obrázku pro giddens sociologie"/>
          <p:cNvPicPr/>
          <p:nvPr/>
        </p:nvPicPr>
        <p:blipFill>
          <a:blip r:embed="rId2"/>
          <a:stretch/>
        </p:blipFill>
        <p:spPr>
          <a:xfrm>
            <a:off x="5292720" y="1052640"/>
            <a:ext cx="3645000" cy="532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79480" y="176040"/>
            <a:ext cx="27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jnovějš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37080" y="20484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š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Výsledek obrázku pro harrington moderní sociální teorie"/>
          <p:cNvPicPr/>
          <p:nvPr/>
        </p:nvPicPr>
        <p:blipFill>
          <a:blip r:embed="rId1"/>
          <a:srcRect l="20157" t="6299" r="17638" b="6299"/>
          <a:stretch/>
        </p:blipFill>
        <p:spPr>
          <a:xfrm>
            <a:off x="395280" y="692280"/>
            <a:ext cx="4168800" cy="5857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Výsledek obrázku pro danilo Martuccelli – Sociologie  modernity: Itinerář 20. století"/>
          <p:cNvPicPr/>
          <p:nvPr/>
        </p:nvPicPr>
        <p:blipFill>
          <a:blip r:embed="rId2"/>
          <a:stretch/>
        </p:blipFill>
        <p:spPr>
          <a:xfrm>
            <a:off x="4932360" y="333360"/>
            <a:ext cx="386064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Výsledek obrázku pro keller úvod do sociologie"/>
          <p:cNvPicPr/>
          <p:nvPr/>
        </p:nvPicPr>
        <p:blipFill>
          <a:blip r:embed="rId1"/>
          <a:stretch/>
        </p:blipFill>
        <p:spPr>
          <a:xfrm>
            <a:off x="2585880" y="571680"/>
            <a:ext cx="3972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0T04:08:30Z</dcterms:created>
  <dc:creator>x</dc:creator>
  <dc:description/>
  <dc:language>en-US</dc:language>
  <cp:lastModifiedBy>x</cp:lastModifiedBy>
  <dcterms:modified xsi:type="dcterms:W3CDTF">2016-09-20T05:00:50Z</dcterms:modified>
  <cp:revision>2</cp:revision>
  <dc:subject/>
  <dc:title>Snímek 1</dc:title>
</cp:coreProperties>
</file>