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31.jpeg" ContentType="image/jpeg"/>
  <Override PartName="/ppt/media/image41.png" ContentType="image/pn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BD52-9578-4C5A-BC9A-4B9D685EBC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B19F-1944-4E39-AC5C-1C7F778B29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9BB-C99E-4D91-AE63-5251956D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62F-870A-4E68-A0B7-903AB3EE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955-C261-4878-9BEE-7DDB9310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CC7-28EC-47F8-93B3-F0CD4B03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C43-416B-43ED-9EC0-0EB3098A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E06-ED2E-4041-98D8-59429E3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2F6-9F6E-41F0-B121-699A2345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511-AB3B-44C2-A4CE-D90267D9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D23-64F2-484A-9652-4BEE7A17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3B7-1222-410F-9080-6F0D3B1B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5E4-FB25-45D4-BD53-3E0CB12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39C-64C0-4146-8B95-B395436F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4AB5-993B-40BB-9B97-EAA51E8B10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WYM6jBq7n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Výsledek obrázku pro chicago school sociology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93372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ociologie v USA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v první půli 20.  století dominují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Chicagská škola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později…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trukturní funkcionalismu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ýsledek obrázku pro chicago school sociology"/>
          <p:cNvPicPr/>
          <p:nvPr/>
        </p:nvPicPr>
        <p:blipFill>
          <a:blip r:embed="rId2"/>
          <a:stretch/>
        </p:blipFill>
        <p:spPr>
          <a:xfrm>
            <a:off x="0" y="0"/>
            <a:ext cx="20318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333360"/>
            <a:ext cx="424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ystém 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4284720" y="189000"/>
            <a:ext cx="4859280" cy="267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56680" y="314172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EHAVIORÁLNÍ ORGAN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iologické faktory jednání (člověk je tvor…)      - ADAP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O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otřeby, motivy, postoj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NAPLŇOVÁ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rolí a rolových očekávání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INTE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KULTUR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sdílených hodnot a významů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UDRŽOVÁNÍ SKRY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ystém jedn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CHÉMA „AGIL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Univerzálně platné čtyři typy systémových požada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Výsledek obrázku pro agil scheme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 - funkční diferenciace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oncept „nukleární rodiny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2771640" y="2349360"/>
            <a:ext cx="371664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Výsledek obrázku pro peasant family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34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Výsledek obrázku pro TRADITIONAL FAMILY"/>
          <p:cNvPicPr/>
          <p:nvPr/>
        </p:nvPicPr>
        <p:blipFill>
          <a:blip r:embed="rId2"/>
          <a:stretch/>
        </p:blipFill>
        <p:spPr>
          <a:xfrm>
            <a:off x="4788000" y="3645000"/>
            <a:ext cx="419580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Výsledek obrázku pro HISTORICAL FAMILY"/>
          <p:cNvPicPr/>
          <p:nvPr/>
        </p:nvPicPr>
        <p:blipFill>
          <a:blip r:embed="rId3"/>
          <a:stretch/>
        </p:blipFill>
        <p:spPr>
          <a:xfrm>
            <a:off x="250920" y="3645000"/>
            <a:ext cx="428616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4911840" y="35244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ediferencovaný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rolínání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odina má funkce ekonomické, politick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Diferenciace funk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Moderní rodina – soci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ukleární ro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primárně emoční funk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1835280" y="0"/>
            <a:ext cx="56656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– životní dráh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ferenciace nových životních období</a:t>
            </a:r>
            <a:br>
              <a:rPr sz="40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arsons si všímá jak se prodlužuje naděje dožití a zlepšuje zdravotní stav starých lidí – vzniká tak nové životní období. Toto období však není spojeno s odpovídajícími rolemi a institucem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324000" y="4002120"/>
            <a:ext cx="4292280" cy="2855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Výsledek obrázku pro youth myth  seniors"/>
          <p:cNvPicPr/>
          <p:nvPr/>
        </p:nvPicPr>
        <p:blipFill>
          <a:blip r:embed="rId2"/>
          <a:stretch/>
        </p:blipFill>
        <p:spPr>
          <a:xfrm>
            <a:off x="5076720" y="4005360"/>
            <a:ext cx="345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61840" y="2997360"/>
            <a:ext cx="452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Žák T. Parsonse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60.  -70. léta, 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eakce na kritiku strukturn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Latentní a manifestn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ev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Výsledek obrázku pro R.K. MERTON"/>
          <p:cNvPicPr/>
          <p:nvPr/>
        </p:nvPicPr>
        <p:blipFill>
          <a:blip r:embed="rId1"/>
          <a:stretch/>
        </p:blipFill>
        <p:spPr>
          <a:xfrm>
            <a:off x="-2197080" y="1360440"/>
            <a:ext cx="63133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0200" y="285264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Výsledek obrázku pro Social Theory and Social Structure merton"/>
          <p:cNvPicPr/>
          <p:nvPr/>
        </p:nvPicPr>
        <p:blipFill>
          <a:blip r:embed="rId1"/>
          <a:stretch/>
        </p:blipFill>
        <p:spPr>
          <a:xfrm>
            <a:off x="611280" y="3573360"/>
            <a:ext cx="141912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599920" y="2492280"/>
            <a:ext cx="652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: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naha propojit funkcionální teorii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mpirickým výzkum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anifestní a latentní funkce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rov. koncept nezamýšl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ůsledků jednání (W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deviace – reakce na obvi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 z přílišného spoléhání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nformitu aktérů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ysfunkce – funkční může být zároveň dysfunk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ýsledek obrázku pro r k merton"/>
          <p:cNvPicPr/>
          <p:nvPr/>
        </p:nvPicPr>
        <p:blipFill>
          <a:blip r:embed="rId2"/>
          <a:stretch/>
        </p:blipFill>
        <p:spPr>
          <a:xfrm>
            <a:off x="611280" y="189000"/>
            <a:ext cx="1752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struktura podle Mert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ě dané imperativ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íle a cesty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viduální reakc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přijetí, odmítnutí, nahra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a cest k nim mohou být dual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nice se šipkou 11"/>
          <p:cNvCxnSpPr/>
          <p:nvPr/>
        </p:nvCxnSpPr>
        <p:spPr>
          <a:xfrm>
            <a:off x="1089000" y="5638320"/>
            <a:ext cx="4426560" cy="1080"/>
          </a:xfrm>
          <a:prstGeom prst="straightConnector1">
            <a:avLst/>
          </a:prstGeom>
          <a:ln w="38160">
            <a:solidFill>
              <a:srgbClr val="daede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ovéPole 12"/>
          <p:cNvSpPr/>
          <p:nvPr/>
        </p:nvSpPr>
        <p:spPr>
          <a:xfrm>
            <a:off x="257040" y="5792760"/>
            <a:ext cx="13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úsp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4853160" y="5792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ritu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2216160" y="522612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grovaná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ýsledek obrázku pro chicago america 20s"/>
          <p:cNvPicPr/>
          <p:nvPr/>
        </p:nvPicPr>
        <p:blipFill>
          <a:blip r:embed="rId1"/>
          <a:stretch/>
        </p:blipFill>
        <p:spPr>
          <a:xfrm>
            <a:off x="0" y="0"/>
            <a:ext cx="4067280" cy="3403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chicago america 20s"/>
          <p:cNvPicPr/>
          <p:nvPr/>
        </p:nvPicPr>
        <p:blipFill>
          <a:blip r:embed="rId2"/>
          <a:stretch/>
        </p:blipFill>
        <p:spPr>
          <a:xfrm>
            <a:off x="0" y="521028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Výsledek obrázku pro chicago america 20s"/>
          <p:cNvPicPr/>
          <p:nvPr/>
        </p:nvPicPr>
        <p:blipFill>
          <a:blip r:embed="rId3"/>
          <a:stretch/>
        </p:blipFill>
        <p:spPr>
          <a:xfrm>
            <a:off x="5970600" y="0"/>
            <a:ext cx="317340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Výsledek obrázku pro chicago america 20s"/>
          <p:cNvPicPr/>
          <p:nvPr/>
        </p:nvPicPr>
        <p:blipFill>
          <a:blip r:embed="rId4"/>
          <a:stretch/>
        </p:blipFill>
        <p:spPr>
          <a:xfrm>
            <a:off x="4381560" y="4476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Výsledek obrázku pro chicago america 20s"/>
          <p:cNvPicPr/>
          <p:nvPr/>
        </p:nvPicPr>
        <p:blipFill>
          <a:blip r:embed="rId5"/>
          <a:stretch/>
        </p:blipFill>
        <p:spPr>
          <a:xfrm>
            <a:off x="3348000" y="0"/>
            <a:ext cx="2879640" cy="18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Výsledek obrázku pro corner street society"/>
          <p:cNvPicPr/>
          <p:nvPr/>
        </p:nvPicPr>
        <p:blipFill>
          <a:blip r:embed="rId6"/>
          <a:stretch/>
        </p:blipFill>
        <p:spPr>
          <a:xfrm>
            <a:off x="2771640" y="3284640"/>
            <a:ext cx="238284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Výsledek obrázku pro urban gangs chicago  20s"/>
          <p:cNvPicPr/>
          <p:nvPr/>
        </p:nvPicPr>
        <p:blipFill>
          <a:blip r:embed="rId7"/>
          <a:stretch/>
        </p:blipFill>
        <p:spPr>
          <a:xfrm>
            <a:off x="6602400" y="2133720"/>
            <a:ext cx="2541600" cy="23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Výsledek obrázku pro young urban gangs chicago  20s"/>
          <p:cNvPicPr/>
          <p:nvPr/>
        </p:nvPicPr>
        <p:blipFill>
          <a:blip r:embed="rId8"/>
          <a:stretch/>
        </p:blipFill>
        <p:spPr>
          <a:xfrm>
            <a:off x="0" y="3284640"/>
            <a:ext cx="2471760" cy="197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Výsledek obrázku pro young urban society chicago  20s"/>
          <p:cNvPicPr/>
          <p:nvPr/>
        </p:nvPicPr>
        <p:blipFill>
          <a:blip r:embed="rId9"/>
          <a:stretch/>
        </p:blipFill>
        <p:spPr>
          <a:xfrm>
            <a:off x="2195640" y="1773360"/>
            <a:ext cx="4824360" cy="27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Výsledek obrázku pro josephine baker"/>
          <p:cNvPicPr/>
          <p:nvPr/>
        </p:nvPicPr>
        <p:blipFill>
          <a:blip r:embed="rId10"/>
          <a:stretch/>
        </p:blipFill>
        <p:spPr>
          <a:xfrm>
            <a:off x="2050920" y="4292640"/>
            <a:ext cx="782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dosazením reakcí 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ílům a cestám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ser\Desktop\Výstřižek.PNG"/>
          <p:cNvPicPr/>
          <p:nvPr/>
        </p:nvPicPr>
        <p:blipFill>
          <a:blip r:embed="rId1"/>
          <a:stretch/>
        </p:blipFill>
        <p:spPr>
          <a:xfrm>
            <a:off x="3708360" y="2133720"/>
            <a:ext cx="3384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ormita a integrovaná spole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přijat, internalizov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držováním cest konformní člověk získává cíle a satisfakci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nevzniká „blbá nálada“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olečnost je integr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a společnost úspě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n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ůže se rozvinout velmi silný, někdy v podstatě výlučný důraz na hodnotu určitých cílů… …Ke krajnímu případu tohoto typu se dospívá tam, kde škálu alternativních postupů ovládají pouze technické, nikoli institucionalizované normy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tualismus a společnost ritu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ímá, internaliz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 přichází o cíl, dočasná sociální stabilita, strach z novéh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jednání přežívá svůj cí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cit poraženosti -&gt; rezignace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nikové mechanismy -&gt; vyřazení člověka z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be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ede lidi ven ze soc. struktury, která je obklopuje, a k plánování a snaze o nastolení soc. struktury nové“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1WYM6jBq7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luntary simplicity nebo minim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-materialistická mainstreamová teorie VS (Ingle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ová: Greens/colourfuls – Lifestyle-aktivismus/zv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&gt;VS není nutně rebel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T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 společnosti žije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o je/není rebel a proč? Proč 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mezi rebelii a unik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belství jako recyklace naděje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é post-socialistický kontexty, které „otřásly“ americkými koncepc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ozvinutí sociologické diskuse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konflikt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femin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racionální volb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ofunkcional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1280" y="285264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lumbia University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e ideologický, obhajuj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 slouží establish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ní teorií, jen složitým popisem banálních skut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eceňuje konsensus a nepočítá s konfli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565360"/>
            <a:ext cx="2943360" cy="37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Výsledek obrázku pro c w mills"/>
          <p:cNvPicPr/>
          <p:nvPr/>
        </p:nvPicPr>
        <p:blipFill>
          <a:blip r:embed="rId2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Výsledek obrázku pro america 50s"/>
          <p:cNvPicPr/>
          <p:nvPr/>
        </p:nvPicPr>
        <p:blipFill>
          <a:blip r:embed="rId1"/>
          <a:stretch/>
        </p:blipFill>
        <p:spPr>
          <a:xfrm>
            <a:off x="5710320" y="0"/>
            <a:ext cx="3433680" cy="32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Výsledek obrázku pro america 50s"/>
          <p:cNvPicPr/>
          <p:nvPr/>
        </p:nvPicPr>
        <p:blipFill>
          <a:blip r:embed="rId2"/>
          <a:stretch/>
        </p:blipFill>
        <p:spPr>
          <a:xfrm>
            <a:off x="0" y="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ýsledek obrázku pro america 50s"/>
          <p:cNvPicPr/>
          <p:nvPr/>
        </p:nvPicPr>
        <p:blipFill>
          <a:blip r:embed="rId3"/>
          <a:stretch/>
        </p:blipFill>
        <p:spPr>
          <a:xfrm>
            <a:off x="-181080" y="3059280"/>
            <a:ext cx="2627280" cy="37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Výsledek obrázku pro america 50s"/>
          <p:cNvPicPr/>
          <p:nvPr/>
        </p:nvPicPr>
        <p:blipFill>
          <a:blip r:embed="rId4"/>
          <a:stretch/>
        </p:blipFill>
        <p:spPr>
          <a:xfrm>
            <a:off x="3492360" y="0"/>
            <a:ext cx="244800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Výsledek obrázku pro america 50s"/>
          <p:cNvPicPr/>
          <p:nvPr/>
        </p:nvPicPr>
        <p:blipFill>
          <a:blip r:embed="rId5"/>
          <a:stretch/>
        </p:blipFill>
        <p:spPr>
          <a:xfrm>
            <a:off x="5724360" y="3963960"/>
            <a:ext cx="341964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Výsledek obrázku pro america 50s suburbs"/>
          <p:cNvPicPr/>
          <p:nvPr/>
        </p:nvPicPr>
        <p:blipFill>
          <a:blip r:embed="rId6"/>
          <a:stretch/>
        </p:blipFill>
        <p:spPr>
          <a:xfrm>
            <a:off x="2124000" y="412128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Výsledek obrázku pro america 50s atomic"/>
          <p:cNvPicPr/>
          <p:nvPr/>
        </p:nvPicPr>
        <p:blipFill>
          <a:blip r:embed="rId7"/>
          <a:stretch/>
        </p:blipFill>
        <p:spPr>
          <a:xfrm>
            <a:off x="1476360" y="2060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Výsledek obrázku pro america 50s nasa"/>
          <p:cNvPicPr/>
          <p:nvPr/>
        </p:nvPicPr>
        <p:blipFill>
          <a:blip r:embed="rId8"/>
          <a:stretch/>
        </p:blipFill>
        <p:spPr>
          <a:xfrm>
            <a:off x="7093080" y="2421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carfactory"/>
          <p:cNvPicPr/>
          <p:nvPr/>
        </p:nvPicPr>
        <p:blipFill>
          <a:blip r:embed="rId9"/>
          <a:stretch/>
        </p:blipFill>
        <p:spPr>
          <a:xfrm>
            <a:off x="2987640" y="213372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950s-date"/>
          <p:cNvPicPr/>
          <p:nvPr/>
        </p:nvPicPr>
        <p:blipFill>
          <a:blip r:embed="rId10"/>
          <a:stretch/>
        </p:blipFill>
        <p:spPr>
          <a:xfrm>
            <a:off x="0" y="1916280"/>
            <a:ext cx="1547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Výsledek obrázku pro sociologická imaginace"/>
          <p:cNvPicPr/>
          <p:nvPr/>
        </p:nvPicPr>
        <p:blipFill>
          <a:blip r:embed="rId2"/>
          <a:stretch/>
        </p:blipFill>
        <p:spPr>
          <a:xfrm>
            <a:off x="1403280" y="2708280"/>
            <a:ext cx="2624040" cy="4149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Výsledek obrázku pro mocenská elita mills"/>
          <p:cNvPicPr/>
          <p:nvPr/>
        </p:nvPicPr>
        <p:blipFill>
          <a:blip r:embed="rId3"/>
          <a:stretch/>
        </p:blipFill>
        <p:spPr>
          <a:xfrm>
            <a:off x="4356000" y="2690640"/>
            <a:ext cx="2567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32320" y="2997360"/>
            <a:ext cx="463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ůsobil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0.  -7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kus o sjednocení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erpá z tradice Durkheima, Pare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mta, ale i We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uta, funkce, jedn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Výsledek obrázku pro TALCOTT PARSONS"/>
          <p:cNvPicPr/>
          <p:nvPr/>
        </p:nvPicPr>
        <p:blipFill>
          <a:blip r:embed="rId1"/>
          <a:stretch/>
        </p:blipFill>
        <p:spPr>
          <a:xfrm>
            <a:off x="0" y="1063800"/>
            <a:ext cx="40464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8920" y="27082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Výsledek obrázku pro talcott parsons book"/>
          <p:cNvPicPr/>
          <p:nvPr/>
        </p:nvPicPr>
        <p:blipFill>
          <a:blip r:embed="rId1"/>
          <a:stretch/>
        </p:blipFill>
        <p:spPr>
          <a:xfrm>
            <a:off x="395280" y="3716280"/>
            <a:ext cx="17146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Výsledek obrázku pro talcott parsons book"/>
          <p:cNvPicPr/>
          <p:nvPr/>
        </p:nvPicPr>
        <p:blipFill>
          <a:blip r:embed="rId2"/>
          <a:stretch/>
        </p:blipFill>
        <p:spPr>
          <a:xfrm>
            <a:off x="2556000" y="3716280"/>
            <a:ext cx="1731960" cy="2602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788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Výsledek obrázku pro Societies: evolutionary and comparative"/>
          <p:cNvPicPr/>
          <p:nvPr/>
        </p:nvPicPr>
        <p:blipFill>
          <a:blip r:embed="rId3"/>
          <a:stretch/>
        </p:blipFill>
        <p:spPr>
          <a:xfrm>
            <a:off x="4643280" y="3716280"/>
            <a:ext cx="174312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Výsledek obrázku pro talcott parsons book"/>
          <p:cNvPicPr/>
          <p:nvPr/>
        </p:nvPicPr>
        <p:blipFill>
          <a:blip r:embed="rId4"/>
          <a:stretch/>
        </p:blipFill>
        <p:spPr>
          <a:xfrm>
            <a:off x="6804000" y="3716280"/>
            <a:ext cx="168264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72702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20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5108040" y="3141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42920" y="765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ARSONSOVSKÉ ZDROJ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76360" y="2084400"/>
            <a:ext cx="624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U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a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organické pojetí -&gt; systémová teori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jednání jako ústřední kate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= POKUS O SYNTÉ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 v rámci 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35280" y="76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FUNK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68080" y="2133720"/>
            <a:ext cx="800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ÍČINNÉ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azby mezi jednáním a jeho zdroj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 ohledu na vědomí aktéra sledujeme souvislosti chován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ROZUMĚ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ědomé kategorie přikládané aktéry jedn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- účel, dů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objektivní dopady jednání v rámci systém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měření na důsledky, které jsou struktur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476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neplést s funkcionalis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 architektu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Výsledek obrázku pro modulor corbusier"/>
          <p:cNvPicPr/>
          <p:nvPr/>
        </p:nvPicPr>
        <p:blipFill>
          <a:blip r:embed="rId1"/>
          <a:stretch/>
        </p:blipFill>
        <p:spPr>
          <a:xfrm>
            <a:off x="108000" y="1989000"/>
            <a:ext cx="4170240" cy="21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ýsledek obrázku pro habitat corbusier"/>
          <p:cNvPicPr/>
          <p:nvPr/>
        </p:nvPicPr>
        <p:blipFill>
          <a:blip r:embed="rId2"/>
          <a:stretch/>
        </p:blipFill>
        <p:spPr>
          <a:xfrm>
            <a:off x="5238720" y="2060640"/>
            <a:ext cx="39052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Výsledek obrázku pro habitat corbusier"/>
          <p:cNvPicPr/>
          <p:nvPr/>
        </p:nvPicPr>
        <p:blipFill>
          <a:blip r:embed="rId3"/>
          <a:stretch/>
        </p:blipFill>
        <p:spPr>
          <a:xfrm>
            <a:off x="0" y="4246560"/>
            <a:ext cx="5275440" cy="261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Výsledek obrázku pro le corbusier"/>
          <p:cNvPicPr/>
          <p:nvPr/>
        </p:nvPicPr>
        <p:blipFill>
          <a:blip r:embed="rId4"/>
          <a:stretch/>
        </p:blipFill>
        <p:spPr>
          <a:xfrm>
            <a:off x="7740720" y="5051520"/>
            <a:ext cx="12351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Výsledek obrázku pro le corbusier"/>
          <p:cNvPicPr/>
          <p:nvPr/>
        </p:nvPicPr>
        <p:blipFill>
          <a:blip r:embed="rId5"/>
          <a:stretch/>
        </p:blipFill>
        <p:spPr>
          <a:xfrm>
            <a:off x="5219640" y="5157720"/>
            <a:ext cx="22384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-100080"/>
            <a:ext cx="9144000" cy="1052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Výsledek obrázku pro talcott parsons comix"/>
          <p:cNvPicPr/>
          <p:nvPr/>
        </p:nvPicPr>
        <p:blipFill>
          <a:blip r:embed="rId1"/>
          <a:stretch/>
        </p:blipFill>
        <p:spPr>
          <a:xfrm>
            <a:off x="6732720" y="3573360"/>
            <a:ext cx="228600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Oval 8"/>
          <p:cNvSpPr/>
          <p:nvPr/>
        </p:nvSpPr>
        <p:spPr>
          <a:xfrm>
            <a:off x="755640" y="836640"/>
            <a:ext cx="5688000" cy="403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mi tedy o 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spojit dvě tradice sociologického myš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dit pojem sociálního jednání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ho rá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onám tak nedostatek současné sociolog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 se příliš věnuje dílčím témat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má aspiraci vytvořit teorii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em nevyléčitelný teoret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948360" y="3933720"/>
            <a:ext cx="266760" cy="26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6443640" y="3500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8:32:13Z</dcterms:created>
  <dc:creator>x</dc:creator>
  <dc:description/>
  <dc:language>en-US</dc:language>
  <cp:lastModifiedBy>Doricakova</cp:lastModifiedBy>
  <dcterms:modified xsi:type="dcterms:W3CDTF">2019-11-13T09:23:56Z</dcterms:modified>
  <cp:revision>23</cp:revision>
  <dc:subject/>
  <dc:title>Snímek 1</dc:title>
</cp:coreProperties>
</file>