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2C8A-80E0-4ACA-A78F-C74977EB2B4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C140-095C-45B6-BF3C-875DD9C5D45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B333-0139-440C-91F7-3989A28FE63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8E3C-E118-48B6-8685-AFC228DE67A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EBF5-11BF-4468-B7CF-89BEA26389A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747F-A172-4702-8247-056D4620793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A380-8B3A-4F46-983F-8CF83E35AA7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FF01-014B-4922-BC15-D106199667D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AFA4-96C9-4697-853C-2599487028B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0A58-2D9C-4B02-B588-B85FC3CC78B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F0B9-9738-4929-B0CA-A599D79902A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06D4-F434-4780-967E-30544EDF65B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5353-DB80-414C-8DA6-CA99153085A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9EF7-DA36-47FD-A095-16FA82A2DAA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C635-AF46-4019-ACA1-672B92D88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64AD-69C8-40AC-8DE0-C52485CC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2D10-A988-4A7C-8529-757174396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F368-9BB1-4FAC-A33E-626FC0396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FAF1-057A-44D9-A6E7-D5412CD1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A47E-C784-43FA-8059-C25C7BE4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5CE7-BB8F-4E39-BA2D-03FCE706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52F9-5C52-4C96-A6B0-25C94900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B76B-AA85-43E7-8676-4792354A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A21A-DB03-4800-92F6-6F9AE6AE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81CE-D542-4506-B89A-BBF48BC7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8020-6AFF-4E3F-ACA1-96AA6242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A6EC-7462-48AD-BD2D-32A74576D32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5" descr="Výsledek obrázku pro CONSTRUCTION OF REALITY"/>
          <p:cNvPicPr/>
          <p:nvPr/>
        </p:nvPicPr>
        <p:blipFill>
          <a:blip r:embed="rId1"/>
          <a:stretch/>
        </p:blipFill>
        <p:spPr>
          <a:xfrm>
            <a:off x="1619280" y="2276640"/>
            <a:ext cx="5565600" cy="51354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0" y="-387360"/>
            <a:ext cx="9144000" cy="2735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SOCIÁLNÍ KONSTRUKTIVISM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-468360" y="476280"/>
            <a:ext cx="10009080" cy="1081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51640" y="836640"/>
            <a:ext cx="795456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VÝCHODISKA KONSTRUKTIVISMU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ENOMENOLOG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(DŮRAZ NA INTERPRETACI, ŽITÝ SVĚ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AGMATISM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(DŮSLEDNĚ HUMANISTICKÉ HLEDISK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SOCIOLOGIE VĚDĚ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(IDEOLOGIE, POHLED NA SVĚ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24000" y="0"/>
            <a:ext cx="8569080" cy="75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AGMATISM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h. S. Pierce, W. James, J. Dewey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(konec 19. a počátek 20. stolet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dobně jako pozitivismus odmítá abstraktní spekulace a hledání absolutní pravdy bez vztahu k žitému svě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náší do epistemologie kontext v němž se vědecké poznání odehráv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ravda je závislá na podmínkách v nichž je získá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itériem pravdivosti není korespondence výroku s realitou, ale očekávané důsledky. -&gt; od korespondenční přes koherenční k ppragmatické teorii prav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324000" y="0"/>
            <a:ext cx="8569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SOCIOLOGIE VĚDĚ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KARL MANNHEIM (1893  - 194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IDEOLOGIE – ZÁPAS O VEŘEJNÝ VÝKLAD SVĚ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OLE INTELIGENCE JAKO SOCIÁLNÍ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ALFRED SCHÜTZ (1899 – 195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ENOMENOLOGICKÁ SOCIOLOGIE – PŘIPISOVÁNÍ SMYSLU KAŽDODENNÍMU ŽITÉMU SVĚ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TERSUBJEKTIV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BJEKTIVITA / OBJEKTIV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ÍRUČNÍ BALÍK VĚDĚT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95280" y="33336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 ZÁVĚRU 20. STOLETÍ ZÍSKÁVÁ KONSTRUKTIV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BROVSKÝ VLIV A INSPIRUJE VZNIK CELÝCH DISCIPLÍN NAP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NDER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CIENCE AND TECHNOLOGY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ZNAMNĚ OVLIVŇUJE PŘÍSTUP K MNOHA ZKOUMANÝM FENOMÉNŮ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ÁROD, ETNICITA, SOCIÁLNÍ TŘÍDA, VĚKOVÉ KATEGORIE, VSTUP DO DOSPĚLOSTI, LÁSKA, PARTNERSTVÍ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Ž TAKÉ ZNAMENÁ ROZŠÍ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 DEZINTERPRETACI POJ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CIÁLNÍ KONSTRUKT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Výsledek obrázku pro batman social construct"/>
          <p:cNvPicPr/>
          <p:nvPr/>
        </p:nvPicPr>
        <p:blipFill>
          <a:blip r:embed="rId1"/>
          <a:stretch/>
        </p:blipFill>
        <p:spPr>
          <a:xfrm>
            <a:off x="6227640" y="4282920"/>
            <a:ext cx="260676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468360" y="191628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Arial"/>
              </a:rPr>
              <a:t>CO JE TO SOCIÁLNÍ KONSTRUK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Výsledek obrázku pro batman social construct"/>
          <p:cNvPicPr/>
          <p:nvPr/>
        </p:nvPicPr>
        <p:blipFill>
          <a:blip r:embed="rId1"/>
          <a:stretch/>
        </p:blipFill>
        <p:spPr>
          <a:xfrm>
            <a:off x="6227640" y="4282920"/>
            <a:ext cx="260676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611280" y="333360"/>
            <a:ext cx="75610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OMĚNY POHLEDU NA DVA DŮLEŽITÉ POJMY EPISTEMOLOG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RAV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respondenční teorie prav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pravda je to, co koresponduje s realit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herenční teorie prav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pravda je to, co je konzistentní a logicky propojené s dosavadním vědě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gmatická teorie prav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pravda je to, co má důsledky, jež při platnosti teorie očekává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REAL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edmoderní pohled – realita pozorova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derní pohled – realita za intersubjektivním pozná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moderní pohled – realita neexistuje, nebo nemá smy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1933-Rene-Magritte-The-Human-Condition"/>
          <p:cNvPicPr/>
          <p:nvPr/>
        </p:nvPicPr>
        <p:blipFill>
          <a:blip r:embed="rId1"/>
          <a:stretch/>
        </p:blipFill>
        <p:spPr>
          <a:xfrm>
            <a:off x="0" y="0"/>
            <a:ext cx="54324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5439960" y="6216120"/>
            <a:ext cx="24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René Magri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La condition humain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5614920" y="189000"/>
            <a:ext cx="352908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ENOMÉN (JEV)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. fainomenon / fai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NTITA (JSOUC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at. entitas/e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novení zájmu o zkušenost a proží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blém přirozeného/žitého světa (Patoč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vá formulace problému reality (kategorie význam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den ze zdrojů postmoderních a konstruktivistických smě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spirace: fenomen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539640" y="119700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dmund Husserl  (1859 – 1938) *Prostě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1310283-Edmund_Husserl"/>
          <p:cNvPicPr/>
          <p:nvPr/>
        </p:nvPicPr>
        <p:blipFill>
          <a:blip r:embed="rId1"/>
          <a:stretch/>
        </p:blipFill>
        <p:spPr>
          <a:xfrm>
            <a:off x="6372360" y="907920"/>
            <a:ext cx="2165040" cy="2808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1187280" y="2997360"/>
            <a:ext cx="4248360" cy="30542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8"/>
          <p:cNvSpPr/>
          <p:nvPr/>
        </p:nvSpPr>
        <p:spPr>
          <a:xfrm>
            <a:off x="667440" y="2440080"/>
            <a:ext cx="31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raťme se k alegorii jeskyn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768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3910320" y="4889520"/>
            <a:ext cx="490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atón – alegorie jes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tafora, která na dlouhou dobu ovlivnila teo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nání – realita „za horizontem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Oval 2"/>
          <p:cNvSpPr/>
          <p:nvPr/>
        </p:nvSpPr>
        <p:spPr>
          <a:xfrm>
            <a:off x="179280" y="4941720"/>
            <a:ext cx="788508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3"/>
          <p:cNvSpPr/>
          <p:nvPr/>
        </p:nvSpPr>
        <p:spPr>
          <a:xfrm>
            <a:off x="179280" y="2924280"/>
            <a:ext cx="788508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4"/>
          <p:cNvSpPr/>
          <p:nvPr/>
        </p:nvSpPr>
        <p:spPr>
          <a:xfrm>
            <a:off x="0" y="1125360"/>
            <a:ext cx="788508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ipomeňme východiska interpretativních smě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755640" y="1341360"/>
            <a:ext cx="7561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še, co existuje a je myslitelné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e opředeno význa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yto významy věcem přikládají samotní sociální aktéř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znik, sdílení a udržování těchto významů je třeba zkou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9"/>
          <p:cNvSpPr/>
          <p:nvPr/>
        </p:nvSpPr>
        <p:spPr>
          <a:xfrm>
            <a:off x="7740720" y="2349360"/>
            <a:ext cx="718920" cy="1150920"/>
          </a:xfrm>
          <a:custGeom>
            <a:avLst/>
            <a:gdLst>
              <a:gd name="textAreaLeft" fmla="*/ 96120 w 718920"/>
              <a:gd name="textAreaRight" fmla="*/ 622800 w 718920"/>
              <a:gd name="textAreaTop" fmla="*/ 201240 h 1150920"/>
              <a:gd name="textAreaBottom" fmla="*/ 8344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0"/>
          <p:cNvSpPr/>
          <p:nvPr/>
        </p:nvSpPr>
        <p:spPr>
          <a:xfrm>
            <a:off x="179280" y="4292640"/>
            <a:ext cx="576360" cy="1152360"/>
          </a:xfrm>
          <a:custGeom>
            <a:avLst/>
            <a:gdLst>
              <a:gd name="textAreaLeft" fmla="*/ 77040 w 576360"/>
              <a:gd name="textAreaRight" fmla="*/ 499320 w 576360"/>
              <a:gd name="textAreaTop" fmla="*/ 201600 h 1152360"/>
              <a:gd name="textAreaBottom" fmla="*/ 83556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486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terpretativní přístu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24000" y="1125360"/>
            <a:ext cx="820872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přík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ymbolický interakcionismu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G. H. Mead, C. H. Coo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zdroje: sociální psychologie, pragmat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 probíhají symbolické výmě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tnometodologi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H. Garfink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zdroje: fenomen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 je konstruován řád světa, který vnímáme jako samozřejmý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kroteorie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1"/>
          <p:cNvSpPr/>
          <p:nvPr/>
        </p:nvSpPr>
        <p:spPr>
          <a:xfrm>
            <a:off x="324000" y="404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VÝCHOZÍ BODY SYMBOLICKÉHO INTERAKCIONIS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324000" y="1844640"/>
            <a:ext cx="864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Lidské bytosti jednají na základě významů, které přikládají věcem, jež je obklopuj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Tyto významy nejsou vlastností samotných věcí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Jsou produktem sociální interakce probíhající mezi členy spole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Tyto významy nejsou stabilní, mohou být neustále proměňovány a redefinovány v průběhu nových interak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CHARLES H. COLE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864 - 19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4365360" y="3068640"/>
            <a:ext cx="4278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ZRCADLOVÉ JÁ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RIMÁRNÍ SKUP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OCIAL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Zájem o roli sociálního prostřed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V utváření osob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Výsledek obrázku pro C H COOLEY"/>
          <p:cNvPicPr/>
          <p:nvPr/>
        </p:nvPicPr>
        <p:blipFill>
          <a:blip r:embed="rId1"/>
          <a:stretch/>
        </p:blipFill>
        <p:spPr>
          <a:xfrm>
            <a:off x="324000" y="1341360"/>
            <a:ext cx="2819160" cy="401004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GEORG H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ME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863 - 19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517640" y="2997360"/>
            <a:ext cx="3623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Kniha </a:t>
            </a:r>
            <a:r>
              <a:rPr b="1" i="1" lang="cs-CZ" sz="2000" spc="-1" strike="noStrike">
                <a:solidFill>
                  <a:srgbClr val="000000"/>
                </a:solidFill>
                <a:latin typeface="Tahoma"/>
              </a:rPr>
              <a:t>Mind, Self and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(193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Fáze social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LAY  /  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ELF:  I / 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Výsledek obrázku pro h mead"/>
          <p:cNvPicPr/>
          <p:nvPr/>
        </p:nvPicPr>
        <p:blipFill>
          <a:blip r:embed="rId1"/>
          <a:stretch/>
        </p:blipFill>
        <p:spPr>
          <a:xfrm>
            <a:off x="395280" y="1341360"/>
            <a:ext cx="2990880" cy="3810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Výsledek obrázku pro MIND SELF AND SOCIETY"/>
          <p:cNvPicPr/>
          <p:nvPr/>
        </p:nvPicPr>
        <p:blipFill>
          <a:blip r:embed="rId2"/>
          <a:stretch/>
        </p:blipFill>
        <p:spPr>
          <a:xfrm>
            <a:off x="6948360" y="3860640"/>
            <a:ext cx="18972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ERV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GOFFM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922 - 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4427640" y="3027240"/>
            <a:ext cx="4743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The Presentation of Self in Everyday Life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195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Česky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Všichni hrajeme divadlo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(19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ramaturgický přístu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DSTUP OD 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IG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OTÁLNÍ INSTIT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Výsledek obrázku pro ERVING GOFFMAN"/>
          <p:cNvPicPr/>
          <p:nvPr/>
        </p:nvPicPr>
        <p:blipFill>
          <a:blip r:embed="rId1"/>
          <a:stretch/>
        </p:blipFill>
        <p:spPr>
          <a:xfrm>
            <a:off x="0" y="1052640"/>
            <a:ext cx="384480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HAROL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GARFINK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917 -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4452480" y="2997360"/>
            <a:ext cx="3884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ahoma"/>
              </a:rPr>
              <a:t>Studies in Ethno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19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Jaké jsou procesy konstru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ociálního řád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Jaké jsou metody udrž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Každodenní real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Výsledek obrázku pro HAROLD GARFINKEL"/>
          <p:cNvPicPr/>
          <p:nvPr/>
        </p:nvPicPr>
        <p:blipFill>
          <a:blip r:embed="rId1"/>
          <a:stretch/>
        </p:blipFill>
        <p:spPr>
          <a:xfrm>
            <a:off x="0" y="1413000"/>
            <a:ext cx="3924360" cy="2354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Výsledek obrázku pro HAROLD GARFINKEL"/>
          <p:cNvPicPr/>
          <p:nvPr/>
        </p:nvPicPr>
        <p:blipFill>
          <a:blip r:embed="rId2"/>
          <a:stretch/>
        </p:blipFill>
        <p:spPr>
          <a:xfrm>
            <a:off x="250920" y="3860640"/>
            <a:ext cx="18288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The Social Construction of Reality, first edition.jpg"/>
          <p:cNvPicPr/>
          <p:nvPr/>
        </p:nvPicPr>
        <p:blipFill>
          <a:blip r:embed="rId1"/>
          <a:stretch/>
        </p:blipFill>
        <p:spPr>
          <a:xfrm>
            <a:off x="0" y="476280"/>
            <a:ext cx="3848040" cy="56865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1"/>
          <p:cNvSpPr/>
          <p:nvPr/>
        </p:nvSpPr>
        <p:spPr>
          <a:xfrm>
            <a:off x="3884760" y="476280"/>
            <a:ext cx="5254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EC 60. LET 20.STOLE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ERGER, LUCKMA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CIÁLNÍ KONSTRUKCE RE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(196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3" descr="Výsledek obrázku pro SOCIÁLNÍ KONSTRUKCE REALITY"/>
          <p:cNvPicPr/>
          <p:nvPr/>
        </p:nvPicPr>
        <p:blipFill>
          <a:blip r:embed="rId2"/>
          <a:stretch/>
        </p:blipFill>
        <p:spPr>
          <a:xfrm>
            <a:off x="5724360" y="2838600"/>
            <a:ext cx="250200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8T05:26:37Z</dcterms:created>
  <dc:creator>x</dc:creator>
  <dc:description/>
  <dc:language>en-US</dc:language>
  <cp:lastModifiedBy>Petr Fučík</cp:lastModifiedBy>
  <dcterms:modified xsi:type="dcterms:W3CDTF">2017-10-30T16:54:36Z</dcterms:modified>
  <cp:revision>16</cp:revision>
  <dc:subject/>
  <dc:title>Snímek 1</dc:title>
</cp:coreProperties>
</file>