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280D7-0E69-48C8-A161-8B30FAC8A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589A2-A8BD-44D5-8DB1-7D5B3564B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63661-AF94-423B-9154-0E78EC121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B4924-53DA-4DF2-98DB-199D25793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13248-FDE8-4060-B8F3-FE2269152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55DD6-96C2-4EE3-8A15-173A5228C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68EC3-25D3-49CB-AB09-DAF4EE6B9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B2F34-6086-4889-974A-7F21091D5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9B603-608C-43C6-8601-7C677F285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B1EEF-F9CC-4976-8280-CBC81365C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AA336-ADA8-4B84-B388-F84243860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8A8B4-696D-4310-8D0F-E22B3616E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3EB3-3295-4A22-B2FC-4DB9CA7DFE9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61560" y="1373400"/>
            <a:ext cx="9265320" cy="411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ŘÍKLADY OTÁZEK KE ZKOUŠ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Vysvětlete hlavní myšlenky Marxova pojetí sociální stratifika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Uveďte příklad sociologického přístupu k rodině a vysvětle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Uveďte příklad metody sociologického výzkumu a vysvětl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179280" y="642240"/>
            <a:ext cx="8569440" cy="624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ŘÍKLADY OTÁZEK KE ZKOUŠ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9999"/>
                </a:solidFill>
                <a:latin typeface="Arial"/>
              </a:rPr>
              <a:t>Vysvětlete hlavní myšlenky Marxova pojetí sociální stratifikac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Marx pracuje s pojmem </a:t>
            </a:r>
            <a:r>
              <a:rPr b="1" lang="cs-CZ" sz="2800" spc="-1" strike="noStrike" u="sng">
                <a:solidFill>
                  <a:srgbClr val="000000"/>
                </a:solidFill>
                <a:uFillTx/>
                <a:latin typeface="Arial"/>
              </a:rPr>
              <a:t>třída</a:t>
            </a:r>
            <a:r>
              <a:rPr b="1" lang="cs-CZ" sz="2800" spc="-1" strike="noStrike">
                <a:solidFill>
                  <a:srgbClr val="000000"/>
                </a:solidFill>
                <a:latin typeface="Arial"/>
              </a:rPr>
              <a:t>. Třídní příslušnost jedince je definována jeho vztahem k výrobním prostředkům. Marx hovoří o dvou hlavních třídách – buržoazii – tedy vlastnících výrobních prostředků a proletariátu – tedy lidech poskytujících námezdní práci. Marxova teorie stratifikace je velmi kritická a spojuje třídní strukturu s nerovností a vykořisťováním. Marx ovlivnil sociologii stratifikace až do dnešní dob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179280" y="855360"/>
            <a:ext cx="8569440" cy="5823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ŘÍKLADY OTÁZEK KE ZKOUŠ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9999"/>
                </a:solidFill>
                <a:latin typeface="Arial"/>
              </a:rPr>
              <a:t>Uveďte příklad sociologického přístupu k rodině a vysvětle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Funkcionální přístup k rodině zkoumá funkce, které rodina plní ve vztahu k sociálnímu systému. Tento přístup je odvozen od myšlenek A. Comta či T. Parsonse. Základní funkcí rodiny je socializace nových členů společnosti, obecněji vzato udržování vzorců sociálního řádu. Mnoho dalších funci, které rodina jako instituce plnila v minulosti během modernizace ztrácí (péče o zdraví, ekonomická funkce, zajištění ve stář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179280" y="702360"/>
            <a:ext cx="8569440" cy="6127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ŘÍKLADY OTÁZEK KE ZKOUŠ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99"/>
                </a:solidFill>
                <a:latin typeface="Arial"/>
              </a:rPr>
              <a:t>Uveďte příklad metody sociologického výzkumu a vysvětle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Hloubkový rozhovor je součástí kvalitativních technik výzkumu. Je to metoda protikladná k strukturovanému dotazování formou dotazníku. Rozhovory jsou vedeny poměrně volně, dotazovaní sami formulují svoje odpovědi a cílem je dobrat se porozumění danému témat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Kvalitativní výzkum vychází z interpretativní tradice sociologie, proto je citlivý k tomu, jak samotní aktéři vysvětlují své jedná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6T06:43:38Z</dcterms:created>
  <dc:creator>x</dc:creator>
  <dc:description/>
  <dc:language>en-US</dc:language>
  <cp:lastModifiedBy>Petr Fučík</cp:lastModifiedBy>
  <dcterms:modified xsi:type="dcterms:W3CDTF">2017-12-05T08:36:03Z</dcterms:modified>
  <cp:revision>4</cp:revision>
  <dc:subject/>
  <dc:title>Snímek 1</dc:title>
</cp:coreProperties>
</file>