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6194-1B6D-4B75-96C3-6ADAAF38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8F9-360C-4548-BFA3-A120B07D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02B-4128-4968-A05D-87E9DCC9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6AC-1708-4A19-A22A-3091D692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254-94B1-403B-A650-292931CC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8D2-908F-4B6C-999E-2CBD51BE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290-E441-41AD-80BF-D6C77DFD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C36-F667-4D18-A3C3-0F8BA4CF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3C7-3EDD-47E1-BC2E-AC88E5FF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0169-773F-45C5-8509-4CDCA7B3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C2A-2678-48C5-BFB5-7208643C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14B-66FF-4D7D-A7D2-3FD32185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A991-2EB4-4EBE-985F-AF5B6F3DED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Výsledek obrázku pro VŘSR"/>
          <p:cNvPicPr/>
          <p:nvPr/>
        </p:nvPicPr>
        <p:blipFill>
          <a:blip r:embed="rId1"/>
          <a:stretch/>
        </p:blipFill>
        <p:spPr>
          <a:xfrm>
            <a:off x="-20520" y="-14400"/>
            <a:ext cx="91645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95280" y="119700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ŮŽEME TEDY HOVOŘIT O STRUKTUŘ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Ě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DLE POHL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ET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ÁBOŽENS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 TAKÉ TŘÍ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2010"/>
          <p:cNvPicPr/>
          <p:nvPr/>
        </p:nvPicPr>
        <p:blipFill>
          <a:blip r:embed="rId1"/>
          <a:stretch/>
        </p:blipFill>
        <p:spPr>
          <a:xfrm>
            <a:off x="3851280" y="2467080"/>
            <a:ext cx="45338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Výsledek obrázku pro social classes"/>
          <p:cNvPicPr/>
          <p:nvPr/>
        </p:nvPicPr>
        <p:blipFill>
          <a:blip r:embed="rId1"/>
          <a:stretch/>
        </p:blipFill>
        <p:spPr>
          <a:xfrm>
            <a:off x="0" y="1046160"/>
            <a:ext cx="9144000" cy="58118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434520" y="333360"/>
            <a:ext cx="75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RŮZNORODOST POSTOJŮ, ŽIVOTNÍCH STYLŮ, ŽIVOTNÍCH ŠANCÍ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A JEDNÍM Z NEJČASTĚJI UŽÍVANÝCH ZPŮSOBŮ, JAK SPOLEČNOST ROZČLEŇOVA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8360" y="299736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 TEORIE STRAT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YSTÉM HIERARCHICKY USPOŘÁDANÝCH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Výsledek obrázku pro CLASS STRUCTURE"/>
          <p:cNvPicPr/>
          <p:nvPr/>
        </p:nvPicPr>
        <p:blipFill>
          <a:blip r:embed="rId1"/>
          <a:stretch/>
        </p:blipFill>
        <p:spPr>
          <a:xfrm>
            <a:off x="900000" y="4221000"/>
            <a:ext cx="19656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délník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Výsledek obrázku pro CLASS STRUCTURE"/>
          <p:cNvPicPr/>
          <p:nvPr/>
        </p:nvPicPr>
        <p:blipFill>
          <a:blip r:embed="rId1"/>
          <a:stretch/>
        </p:blipFill>
        <p:spPr>
          <a:xfrm>
            <a:off x="1403280" y="-82440"/>
            <a:ext cx="51847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ODLIŠNOST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NEROVNOST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(NE)SPRAVEDL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2997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51840" y="3448080"/>
            <a:ext cx="758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IONÁLNÍ POHL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JE DŮSLEDKEM MERITOKRATICKÝCH PRINCI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MOTIVUJE K VÝK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ALOKUJE TY SPRÁVNÉ JEDINCE NA SPRÁVNÁ MÍ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FLIKTUALISTICKÝ POHL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JE VÝSLEDKEM ÚT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OMEZUJE ŽIVOTNÍ Š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HISTORICKÉ TYPY SOCIÁLNÍ STRUKTURY (STRAT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68360" y="242100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OTROKÁŘS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STAROVĚKÁ SPOLEČNOST + KOLONIAL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AS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NÁBOŽENSKY DEFINOVANÉ SKUPI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V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FEUDÁLNÍ SPOLEČ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ODERNÍ STRATIFIK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8360" y="1916280"/>
            <a:ext cx="820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YSTÉM TŘÍD JE PROSTUPNĚJŠÍ NEŽ OSTATNÍ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 FLEXIBILNĚJŠÍ – VYHOVUJE LÉPE INDUSTRIÁLNÍ KAPITALISTICKÉ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Výsledek obrázku pro ČESKÝ SELFMADEMAN"/>
          <p:cNvPicPr/>
          <p:nvPr/>
        </p:nvPicPr>
        <p:blipFill>
          <a:blip r:embed="rId1"/>
          <a:stretch/>
        </p:blipFill>
        <p:spPr>
          <a:xfrm>
            <a:off x="0" y="4795920"/>
            <a:ext cx="3780000" cy="206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Výsledek obrázku pro AMERICAN DREAM"/>
          <p:cNvPicPr/>
          <p:nvPr/>
        </p:nvPicPr>
        <p:blipFill>
          <a:blip r:embed="rId2"/>
          <a:stretch/>
        </p:blipFill>
        <p:spPr>
          <a:xfrm>
            <a:off x="3924360" y="4797360"/>
            <a:ext cx="521964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ARXOVO POJETÍ TŘÍ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68360" y="299736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 JSOU ODVOZENÉ OD VZTAHU K VÝROBNÍM PROSTŘEDK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LASTNÍCI PROSTŘEDKŮ: BURŽOA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YKONÁVAJÍCÍ NÁMEZDNÍ PRÁCI: PROLETARI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WEBEROVO POJETÍ TŘÍ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68360" y="299736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A (EKONOMIC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TUS (PRESTIŽ, UZN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ANA (ZÁJMY, KUL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ŘÍDY PODLE E.O.WRIGH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68360" y="2997360"/>
            <a:ext cx="820728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nvesticemi nebo finančním kapitá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fyzickými výrobními prostředky (půda, továrny, kancelář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3.  pracovními silami (najatý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problém s manaž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02600" y="1916280"/>
            <a:ext cx="82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 jsou rozlišovány podle toho, zda příslušní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isponuj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CO JE NEROVN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LZE NEROVNOST ODSTRAN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JAKÝ JE VZTAH JINAKOSTI A NEROVNOS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DISKUSE O ZÁNIKU TŘÍ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ONZUMERISMUS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DENTITA / KULTURA / SUBKULTURA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NDIVIDUALIZACE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ZNEVIDITĚLNĚNÍ JINÝCH NEROVNOSTÍ (GENDER, ETNICITA…)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JAK JSOU TŘÍDY ZASTOUPE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908000" y="2276640"/>
            <a:ext cx="503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619280" y="263700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332000" y="2997360"/>
            <a:ext cx="1727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116000" y="3357720"/>
            <a:ext cx="2160720" cy="358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6300720" y="2276640"/>
            <a:ext cx="503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5724360" y="2637000"/>
            <a:ext cx="17290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5581800" y="2997360"/>
            <a:ext cx="201600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6229440" y="3718080"/>
            <a:ext cx="718920" cy="358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826920" y="3716280"/>
            <a:ext cx="2808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724360" y="3357720"/>
            <a:ext cx="17290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1763640" y="4292640"/>
            <a:ext cx="863640" cy="64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1116000" y="4941720"/>
            <a:ext cx="2160720" cy="792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1763640" y="5734080"/>
            <a:ext cx="863640" cy="64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5292720" y="6093000"/>
            <a:ext cx="2592360" cy="217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5796000" y="5516640"/>
            <a:ext cx="158436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6156360" y="5157720"/>
            <a:ext cx="86364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372360" y="4797360"/>
            <a:ext cx="43164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5436360" y="6453360"/>
            <a:ext cx="22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ČET PŘÍSLUŠNÍKŮ TŘÍ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 flipH="1">
            <a:off x="5148360" y="659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>
            <a:off x="7740720" y="659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"/>
          <p:cNvSpPr/>
          <p:nvPr/>
        </p:nvSpPr>
        <p:spPr>
          <a:xfrm rot="16200000">
            <a:off x="7327080" y="5211720"/>
            <a:ext cx="19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HIERARCHICKÁ POZ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JAK MĚŘIT SOCIÁLNÍ POZI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666720" y="1687680"/>
            <a:ext cx="69717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OBJEKTI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KATEGORIZOVA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ÍKLAD -  E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TYP ZAMĚSTNÁNÍ, POČET PODŘÍZENÝCH, MÍRA AUT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ŠKÁLOVĚ (KONTINUÁLN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CIOEKONOMICKÝ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ZDĚLÁNÍ – PROFESE - PŘÍ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UBJEKTI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SEBEZAŘ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RŮZNÁ POJETÍ NEROVNOSTI A ZNEVÝHODNĚNÍ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92640" y="2708280"/>
            <a:ext cx="774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HIERARCHIE – CHUDOBA / DEPRI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JÁDRO/PERIFERIE - MARGIN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PARTICIPACE – EXKLUZE/INKLU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SOCIÁLNÍ MOBI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IMENZE MOBILITY: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HORIZONTÁLNÍ / VERTIKÁLNÍ</a:t>
            </a:r>
            <a:br>
              <a:rPr sz="3200"/>
            </a:b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ESUN UVNITŘ VRSTVY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ESUN MEZI VRSTVAMI</a:t>
            </a:r>
            <a:br>
              <a:rPr sz="18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INTERGENERAČNÍ / INTRAGENERAČNÍ</a:t>
            </a:r>
            <a:br>
              <a:rPr sz="3200"/>
            </a:b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ŮČI RODIČŮM (PŘEDKŮM)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 RÁMCI KARIÉ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OPAKEM MOBILITY JE SOCIÁLNÍ REPRODUK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39640" y="292428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PRODUKCE = PŘENOS KAPITÁLŮ Z JEDNÉ GENERACE NA DRU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KONOMICKÝ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YMBOLICKÝ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At-risk-of-poverty_rate_and_threshold%2C_2014_YB16bis"/>
          <p:cNvPicPr/>
          <p:nvPr/>
        </p:nvPicPr>
        <p:blipFill>
          <a:blip r:embed="rId1"/>
          <a:stretch/>
        </p:blipFill>
        <p:spPr>
          <a:xfrm>
            <a:off x="0" y="8892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598680" y="208080"/>
            <a:ext cx="58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příjmovou chudobou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7236000" y="5373720"/>
            <a:ext cx="1425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33360" y="1341360"/>
            <a:ext cx="8559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příjmovou chudobou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nice příjmové chudo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vivalizovaný disponibilní příjem (po zdanění a přepočtený na spotřební jednot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 % mediánu příjmového rozložení v dané z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í míra porovnávající pozici vůči celkovému příjmovém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žení v dané z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Material_deprivation_rate_%E2%80%94_proportion_of_persons_who_cannot_afford_to_pay_for_selected_items%2C_2014_%28%25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617040" y="260280"/>
            <a:ext cx="57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materiální deprivací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4859280" y="5516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People_aged_less_than_60_living_in_households_with_very_low_work_intensity%2C_2013%E2%80%9314_%28%25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44240" y="260280"/>
            <a:ext cx="86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mladších 60 let žijících v domácnostech s velmi nízkou pracovní aktivit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6084720" y="558972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délní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ouvisející obrázek"/>
          <p:cNvPicPr/>
          <p:nvPr/>
        </p:nvPicPr>
        <p:blipFill>
          <a:blip r:embed="rId1"/>
          <a:stretch/>
        </p:blipFill>
        <p:spPr>
          <a:xfrm>
            <a:off x="1835280" y="0"/>
            <a:ext cx="508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Distribution_of_population_by_tenure_status%2C_2014_%28%25_of_population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7061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373080" y="48690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ypy byd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"/>
          <p:cNvSpPr/>
          <p:nvPr/>
        </p:nvSpPr>
        <p:spPr>
          <a:xfrm>
            <a:off x="3708360" y="486900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363000" y="5157720"/>
            <a:ext cx="261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ájemní bydlení – regulova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ájemní bydlení – tržní c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astnické bydlení – úvě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astnické bydlení -  bez úv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convience of flying private"/>
          <p:cNvPicPr/>
          <p:nvPr/>
        </p:nvPicPr>
        <p:blipFill>
          <a:blip r:embed="rId1"/>
          <a:stretch/>
        </p:blipFill>
        <p:spPr>
          <a:xfrm>
            <a:off x="1042920" y="22860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0"/>
            <a:ext cx="9144000" cy="3095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93312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OCIÁLNÍ STRUKTURA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A STRATIFIKA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1916280"/>
            <a:ext cx="9144000" cy="3095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O JE VLASTNĚ STRUKTUR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Výsledek obrázku pro social structure"/>
          <p:cNvPicPr/>
          <p:nvPr/>
        </p:nvPicPr>
        <p:blipFill>
          <a:blip r:embed="rId1"/>
          <a:stretch/>
        </p:blipFill>
        <p:spPr>
          <a:xfrm>
            <a:off x="34920" y="1341360"/>
            <a:ext cx="4394160" cy="4016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Výsledek obrázku pro prostitute"/>
          <p:cNvPicPr/>
          <p:nvPr/>
        </p:nvPicPr>
        <p:blipFill>
          <a:blip r:embed="rId2"/>
          <a:stretch/>
        </p:blipFill>
        <p:spPr>
          <a:xfrm>
            <a:off x="4560840" y="1844640"/>
            <a:ext cx="458316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Výsledek obrázku pro social structure"/>
          <p:cNvPicPr/>
          <p:nvPr/>
        </p:nvPicPr>
        <p:blipFill>
          <a:blip r:embed="rId1"/>
          <a:stretch/>
        </p:blipFill>
        <p:spPr>
          <a:xfrm>
            <a:off x="900000" y="4684680"/>
            <a:ext cx="2376720" cy="2173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SOCIOLOGII SE SETKÁME S MNOHA VÝZNAMY POJMU STRUKTU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29920" y="3068640"/>
            <a:ext cx="328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SPOŘÁD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VZT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096160" y="3068640"/>
            <a:ext cx="282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ZOR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OREM/HOD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Výsledek obrázku pro prostitute"/>
          <p:cNvPicPr/>
          <p:nvPr/>
        </p:nvPicPr>
        <p:blipFill>
          <a:blip r:embed="rId2"/>
          <a:stretch/>
        </p:blipFill>
        <p:spPr>
          <a:xfrm>
            <a:off x="5148360" y="4710240"/>
            <a:ext cx="28796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Výsledek obrázku pro social structure"/>
          <p:cNvPicPr/>
          <p:nvPr/>
        </p:nvPicPr>
        <p:blipFill>
          <a:blip r:embed="rId1"/>
          <a:stretch/>
        </p:blipFill>
        <p:spPr>
          <a:xfrm>
            <a:off x="900000" y="4684680"/>
            <a:ext cx="2376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SOCIOLOGII SE SETKÁME S MNOHA VÝZNAMY POJMU STRUKTU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29920" y="3068640"/>
            <a:ext cx="328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SPOŘÁD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VZT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096160" y="3068640"/>
            <a:ext cx="282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ZOR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OREM/HOD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Výsledek obrázku pro prostitute"/>
          <p:cNvPicPr/>
          <p:nvPr/>
        </p:nvPicPr>
        <p:blipFill>
          <a:blip r:embed="rId2"/>
          <a:stretch/>
        </p:blipFill>
        <p:spPr>
          <a:xfrm>
            <a:off x="5148360" y="4710240"/>
            <a:ext cx="2879640" cy="2147760"/>
          </a:xfrm>
          <a:prstGeom prst="rect">
            <a:avLst/>
          </a:prstGeom>
          <a:ln w="0">
            <a:noFill/>
          </a:ln>
        </p:spPr>
      </p:pic>
      <p:sp>
        <p:nvSpPr>
          <p:cNvPr id="69" name="Oval 9"/>
          <p:cNvSpPr/>
          <p:nvPr/>
        </p:nvSpPr>
        <p:spPr>
          <a:xfrm>
            <a:off x="-108000" y="2565360"/>
            <a:ext cx="4859280" cy="44640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UŽŠÍM SLOVA SMYSLU TEDY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Tahoma"/>
              </a:rPr>
              <a:t>SOCIÁLNÍ STRKUTUR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ZNAMENÁ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68360" y="299736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ROZČLENĚNÍ SPOLEČNOSTI DO ČÁ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OTOŽE SPOLEČNOST JAKO CELEK JE PŘÍLIŠ HETEROGEN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HLEDÁME JAK URČIT SKUPINY (ČÁSTI), KTERÉ MAJÍ VÍCE SPOLEČNÝCH RYS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4T04:35:55Z</dcterms:created>
  <dc:creator>x</dc:creator>
  <dc:description/>
  <dc:language>en-US</dc:language>
  <cp:lastModifiedBy>Petr Fučík</cp:lastModifiedBy>
  <cp:lastPrinted>2017-11-21T10:14:17Z</cp:lastPrinted>
  <dcterms:modified xsi:type="dcterms:W3CDTF">2017-11-28T09:11:31Z</dcterms:modified>
  <cp:revision>47</cp:revision>
  <dc:subject/>
  <dc:title>ETIKA VE VÝZKUMU</dc:title>
</cp:coreProperties>
</file>