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327-95EB-4886-ADA0-BB3F9DDE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FED-371A-4D77-9B71-AA7369D5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906-2ECE-43D2-9C82-B0B63A39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285-5AE2-4E8B-ADA8-7FD4814A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733-3940-484D-B9C5-C47F83C7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7C8-6D9D-4998-AC52-8885E4DD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F11-11C8-4685-B71F-38FA6B98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4B2-18A0-4E65-AF8E-14A91DD1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EE6-2E24-4EEE-B5B8-C3BF966A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A7E-1192-4D9A-ADD9-184AC7DC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AE8-ADEF-4AAF-93F6-A9C4560C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793-E93C-44B1-B22A-C1AABED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E9AE-938A-4A69-9F85-EA2E0C3DA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0"/>
            <a:ext cx="5654880" cy="1312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Literatura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13000"/>
            <a:ext cx="8661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á četba ze čtyř kni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IDDENS, Anthony. 2013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. Aktualizované a rozšířené vydání revidované Philipem W. Suttone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Ar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RRINGTON, Austin. 2006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oderní sociální teorie: základní témata a myšlenkové prou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Port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LLER, Jan. 1997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vod do soci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Sociologické nakladatel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UCCELLI, Danilo. 2008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 modernity: itinerář 20. stole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Brno: Centrum pro studium demokracie a kultury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Výsledek obrázku pro giddens sociologie"/>
          <p:cNvPicPr/>
          <p:nvPr/>
        </p:nvPicPr>
        <p:blipFill>
          <a:blip r:embed="rId1"/>
          <a:stretch/>
        </p:blipFill>
        <p:spPr>
          <a:xfrm>
            <a:off x="611280" y="1052640"/>
            <a:ext cx="3786120" cy="528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ýsledek obrázku pro giddens sociologie"/>
          <p:cNvPicPr/>
          <p:nvPr/>
        </p:nvPicPr>
        <p:blipFill>
          <a:blip r:embed="rId2"/>
          <a:stretch/>
        </p:blipFill>
        <p:spPr>
          <a:xfrm>
            <a:off x="5292720" y="1052640"/>
            <a:ext cx="3645000" cy="532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79480" y="176040"/>
            <a:ext cx="27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jnovějš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7080" y="20484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š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ýsledek obrázku pro harrington moderní sociální teorie"/>
          <p:cNvPicPr/>
          <p:nvPr/>
        </p:nvPicPr>
        <p:blipFill>
          <a:blip r:embed="rId1"/>
          <a:srcRect l="20157" t="6299" r="17638" b="6299"/>
          <a:stretch/>
        </p:blipFill>
        <p:spPr>
          <a:xfrm>
            <a:off x="395280" y="692280"/>
            <a:ext cx="4168800" cy="585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Výsledek obrázku pro danilo Martuccelli – Sociologie  modernity: Itinerář 20. století"/>
          <p:cNvPicPr/>
          <p:nvPr/>
        </p:nvPicPr>
        <p:blipFill>
          <a:blip r:embed="rId2"/>
          <a:stretch/>
        </p:blipFill>
        <p:spPr>
          <a:xfrm>
            <a:off x="4932360" y="333360"/>
            <a:ext cx="3860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Výsledek obrázku pro keller úvod do sociologie"/>
          <p:cNvPicPr/>
          <p:nvPr/>
        </p:nvPicPr>
        <p:blipFill>
          <a:blip r:embed="rId1"/>
          <a:stretch/>
        </p:blipFill>
        <p:spPr>
          <a:xfrm>
            <a:off x="2585880" y="571680"/>
            <a:ext cx="39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4:08:30Z</dcterms:created>
  <dc:creator>x</dc:creator>
  <dc:description/>
  <dc:language>en-US</dc:language>
  <cp:lastModifiedBy>x</cp:lastModifiedBy>
  <dcterms:modified xsi:type="dcterms:W3CDTF">2016-09-20T05:00:50Z</dcterms:modified>
  <cp:revision>2</cp:revision>
  <dc:subject/>
  <dc:title>Snímek 1</dc:title>
</cp:coreProperties>
</file>