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3555-CB29-4104-AA5E-FA17BD57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BDE5-1E57-4D5C-9366-DBD5092F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683D-C54E-4136-9F27-3194FE21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93B4-EBE3-4EEC-9E2B-43C7EE03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5EE5-D4C1-4E53-94EE-8FC0F5C8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FC9-8782-4940-8C9F-A25903B9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A50-75D3-4D32-9A6C-E5AF743F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1D34-11BA-4A98-95A6-2C615FEA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F360-6765-4811-AA64-9E0FC1FD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381C-2ADD-4177-BDBF-93B0CCF5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902-85E8-49BE-8B9C-38B946B3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4EF8-5D7D-4F6A-BFA3-F31F4F67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B180-6B1D-4EDF-AAEA-9F51DC27B9C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Výsledek obrázku pro VŘSR"/>
          <p:cNvPicPr/>
          <p:nvPr/>
        </p:nvPicPr>
        <p:blipFill>
          <a:blip r:embed="rId1"/>
          <a:stretch/>
        </p:blipFill>
        <p:spPr>
          <a:xfrm>
            <a:off x="-20520" y="-14400"/>
            <a:ext cx="91645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95280" y="119700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ŮŽEME TEDY HOVOŘIT O STRUKTUŘ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ĚK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ODLE POHL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ET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ÁBOŽENS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 TAKÉ TŘÍ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2010"/>
          <p:cNvPicPr/>
          <p:nvPr/>
        </p:nvPicPr>
        <p:blipFill>
          <a:blip r:embed="rId1"/>
          <a:stretch/>
        </p:blipFill>
        <p:spPr>
          <a:xfrm>
            <a:off x="3851280" y="2467080"/>
            <a:ext cx="45338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Výsledek obrázku pro social classes"/>
          <p:cNvPicPr/>
          <p:nvPr/>
        </p:nvPicPr>
        <p:blipFill>
          <a:blip r:embed="rId1"/>
          <a:stretch/>
        </p:blipFill>
        <p:spPr>
          <a:xfrm>
            <a:off x="0" y="1046160"/>
            <a:ext cx="9144000" cy="58118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434520" y="333360"/>
            <a:ext cx="75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RŮZNORODOST POSTOJŮ, ŽIVOTNÍCH STYLŮ, ŽIVOTNÍCH ŠANCÍ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A JEDNÍM Z NEJČASTĚJI UŽÍVANÝCH ZPŮSOBŮ, JAK SPOLEČNOST ROZČLEŇOVA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68360" y="299736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 TEORIE STRAT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YSTÉM HIERARCHICKY USPOŘÁDANÝCH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Výsledek obrázku pro CLASS STRUCTURE"/>
          <p:cNvPicPr/>
          <p:nvPr/>
        </p:nvPicPr>
        <p:blipFill>
          <a:blip r:embed="rId1"/>
          <a:stretch/>
        </p:blipFill>
        <p:spPr>
          <a:xfrm>
            <a:off x="900000" y="4221000"/>
            <a:ext cx="19656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bdélník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Výsledek obrázku pro CLASS STRUCTURE"/>
          <p:cNvPicPr/>
          <p:nvPr/>
        </p:nvPicPr>
        <p:blipFill>
          <a:blip r:embed="rId1"/>
          <a:stretch/>
        </p:blipFill>
        <p:spPr>
          <a:xfrm>
            <a:off x="1403280" y="-82440"/>
            <a:ext cx="518472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ODLIŠNOST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NEROVNOST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(NE)SPRAVEDL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68360" y="299736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51840" y="3448080"/>
            <a:ext cx="758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IONÁLNÍ POHL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JE DŮSLEDKEM MERITOKRATICKÝCH PRINCI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MOTIVUJE K VÝK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ALOKUJE TY SPRÁVNÉ JEDINCE NA SPRÁVNÁ MÍ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FLIKTUALISTICKÝ POHL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JE VÝSLEDKEM ÚTLA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OMEZUJE ŽIVOTNÍ Š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HISTORICKÉ TYPY SOCIÁLNÍ STRUKTURY (STRAT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68360" y="242100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OTROKÁŘS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STAROVĚKÁ SPOLEČNOST + KOLONIAL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AS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NÁBOŽENSKY DEFINOVANÉ SKUPI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AV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FEUDÁLNÍ SPOLEČ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MODERNÍ STRATIFIK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68360" y="1916280"/>
            <a:ext cx="820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YSTÉM TŘÍD JE PROSTUPNĚJŠÍ NEŽ OSTATNÍ SYS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 FLEXIBILNĚJŠÍ – VYHOVUJE LÉPE INDUSTRIÁLNÍ KAPITALISTICKÉ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Výsledek obrázku pro ČESKÝ SELFMADEMAN"/>
          <p:cNvPicPr/>
          <p:nvPr/>
        </p:nvPicPr>
        <p:blipFill>
          <a:blip r:embed="rId1"/>
          <a:stretch/>
        </p:blipFill>
        <p:spPr>
          <a:xfrm>
            <a:off x="0" y="4795920"/>
            <a:ext cx="3780000" cy="206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Výsledek obrázku pro AMERICAN DREAM"/>
          <p:cNvPicPr/>
          <p:nvPr/>
        </p:nvPicPr>
        <p:blipFill>
          <a:blip r:embed="rId2"/>
          <a:stretch/>
        </p:blipFill>
        <p:spPr>
          <a:xfrm>
            <a:off x="3924360" y="4797360"/>
            <a:ext cx="521964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MARXOVO POJETÍ TŘÍ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68360" y="299736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Y JSOU ODVOZENÉ OD VZTAHU K VÝROBNÍM PROSTŘEDKŮ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LASTNÍCI PROSTŘEDKŮ: BURŽOAZ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YKONÁVAJÍCÍ NÁMEZDNÍ PRÁCI: PROLETARI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WEBEROVO POJETÍ TŘÍ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68360" y="299736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A (EKONOMICKÉ ZDRO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ATUS (PRESTIŽ, UZN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ANA (ZÁJMY, KUL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TŘÍDY PODLE E.O.WRIGH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68360" y="2997360"/>
            <a:ext cx="820728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investicemi nebo finančním kapitá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fyzickými výrobními prostředky (půda, továrny, kancelář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3.  pracovními silami (najatý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problém s manaž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02600" y="1916280"/>
            <a:ext cx="82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y jsou rozlišovány podle toho, zda příslušní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Disponuj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CO JE NEROVNO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LZE NEROVNOST ODSTRAN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JAKÝ JE VZTAH JINAKOSTI A NEROVNOS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DISKUSE O ZÁNIKU TŘÍ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ONZUMERISMUS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IDENTITA / KULTURA / SUBKULTURA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INDIVIDUALIZACE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ZNEVIDITĚLNĚNÍ JINÝCH NEROVNOSTÍ (GENDER, ETNICITA…)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JAK JSOU TŘÍDY ZASTOUPE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908000" y="2276640"/>
            <a:ext cx="5032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619280" y="263700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332000" y="2997360"/>
            <a:ext cx="17272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116000" y="3357720"/>
            <a:ext cx="2160720" cy="358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6300720" y="2276640"/>
            <a:ext cx="5032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5724360" y="2637000"/>
            <a:ext cx="17290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5581800" y="2997360"/>
            <a:ext cx="201600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6229440" y="3718080"/>
            <a:ext cx="718920" cy="358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826920" y="3716280"/>
            <a:ext cx="2808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5724360" y="3357720"/>
            <a:ext cx="17290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1763640" y="4292640"/>
            <a:ext cx="863640" cy="649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1116000" y="4941720"/>
            <a:ext cx="2160720" cy="792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1763640" y="5734080"/>
            <a:ext cx="863640" cy="649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5292720" y="6093000"/>
            <a:ext cx="2592360" cy="217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5796000" y="5516640"/>
            <a:ext cx="158436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6156360" y="5157720"/>
            <a:ext cx="86364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6372360" y="4797360"/>
            <a:ext cx="43164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5436360" y="6453360"/>
            <a:ext cx="22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OČET PŘÍSLUŠNÍKŮ TŘÍ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 flipH="1">
            <a:off x="5148360" y="6597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7"/>
          <p:cNvSpPr/>
          <p:nvPr/>
        </p:nvSpPr>
        <p:spPr>
          <a:xfrm>
            <a:off x="7740720" y="659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8"/>
          <p:cNvSpPr/>
          <p:nvPr/>
        </p:nvSpPr>
        <p:spPr>
          <a:xfrm rot="16200000">
            <a:off x="7327080" y="5211720"/>
            <a:ext cx="19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HIERARCHICKÁ POZ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JAK MĚŘIT SOCIÁLNÍ POZI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666720" y="1687680"/>
            <a:ext cx="69717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OBJEKTIV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KATEGORIZOVA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ŘÍKLAD -  E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TYP ZAMĚSTNÁNÍ, POČET PODŘÍZENÝCH, MÍRA AUTONO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ŠKÁLOVĚ (KONTINUÁLN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CIOEKONOMICKÝ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ZDĚLÁNÍ – PROFESE - PŘÍ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UBJEKTIV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SEBEZAŘA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RŮZNÁ POJETÍ NEROVNOSTI A ZNEVÝHODNĚNÍ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92640" y="2708280"/>
            <a:ext cx="7749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HIERARCHIE – CHUDOBA / DEPRIV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JÁDRO/PERIFERIE - MARGIN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PARTICIPACE – EXKLUZE/INKLU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SOCIÁLNÍ MOBIL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IMENZE MOBILITY: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HORIZONTÁLNÍ / VERTIKÁLNÍ</a:t>
            </a:r>
            <a:br>
              <a:rPr sz="3200"/>
            </a:b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ŘESUN UVNITŘ VRSTVY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ŘESUN MEZI VRSTVAMI</a:t>
            </a:r>
            <a:br>
              <a:rPr sz="18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INTERGENERAČNÍ / INTRAGENERAČNÍ</a:t>
            </a:r>
            <a:br>
              <a:rPr sz="3200"/>
            </a:b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ŮČI RODIČŮM (PŘEDKŮM)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 RÁMCI KARIÉ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OPAKEM MOBILITY JE SOCIÁLNÍ REPRODUK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39640" y="292428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PRODUKCE = PŘENOS KAPITÁLŮ Z JEDNÉ GENERACE NA DRU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KONOMICKÝ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ULTURNÍ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CIÁLNÍ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YMBOLICKÝ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At-risk-of-poverty_rate_and_threshold%2C_2014_YB16bis"/>
          <p:cNvPicPr/>
          <p:nvPr/>
        </p:nvPicPr>
        <p:blipFill>
          <a:blip r:embed="rId1"/>
          <a:stretch/>
        </p:blipFill>
        <p:spPr>
          <a:xfrm>
            <a:off x="0" y="8892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598680" y="208080"/>
            <a:ext cx="58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ohrožených příjmovou chudobou – země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7236000" y="5373720"/>
            <a:ext cx="1425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33360" y="1341360"/>
            <a:ext cx="8559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ohrožených příjmovou chudobou – země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anice příjmové chudo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vivalizovaný disponibilní příjem (po zdanění a přepočtený na spotřební jednotk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 % mediánu příjmového rozložení v dané z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tivní míra porovnávající pozici vůči celkovému příjmovém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žení v dané z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Material_deprivation_rate_%E2%80%94_proportion_of_persons_who_cannot_afford_to_pay_for_selected_items%2C_2014_%28%25%29_YB16"/>
          <p:cNvPicPr/>
          <p:nvPr/>
        </p:nvPicPr>
        <p:blipFill>
          <a:blip r:embed="rId1"/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617040" y="260280"/>
            <a:ext cx="57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ohrožených materiální deprivací – země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4859280" y="55166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People_aged_less_than_60_living_in_households_with_very_low_work_intensity%2C_2013%E2%80%9314_%28%25%29_YB16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44240" y="260280"/>
            <a:ext cx="86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mladších 60 let žijících v domácnostech s velmi nízkou pracovní aktivit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6084720" y="558972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délník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ouvisející obrázek"/>
          <p:cNvPicPr/>
          <p:nvPr/>
        </p:nvPicPr>
        <p:blipFill>
          <a:blip r:embed="rId1"/>
          <a:stretch/>
        </p:blipFill>
        <p:spPr>
          <a:xfrm>
            <a:off x="1835280" y="0"/>
            <a:ext cx="508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Distribution_of_population_by_tenure_status%2C_2014_%28%25_of_population%29_YB16"/>
          <p:cNvPicPr/>
          <p:nvPr/>
        </p:nvPicPr>
        <p:blipFill>
          <a:blip r:embed="rId1"/>
          <a:stretch/>
        </p:blipFill>
        <p:spPr>
          <a:xfrm>
            <a:off x="0" y="0"/>
            <a:ext cx="9144000" cy="70610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6373080" y="486900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ypy byd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"/>
          <p:cNvSpPr/>
          <p:nvPr/>
        </p:nvSpPr>
        <p:spPr>
          <a:xfrm>
            <a:off x="3708360" y="486900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363000" y="5157720"/>
            <a:ext cx="2617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ájemní bydlení – regulova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ájemní bydlení – tržní c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astnické bydlení – úvě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astnické bydlení -  bez úvě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convience of flying private"/>
          <p:cNvPicPr/>
          <p:nvPr/>
        </p:nvPicPr>
        <p:blipFill>
          <a:blip r:embed="rId1"/>
          <a:stretch/>
        </p:blipFill>
        <p:spPr>
          <a:xfrm>
            <a:off x="1042920" y="22860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0" y="0"/>
            <a:ext cx="9144000" cy="3095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933120"/>
            <a:ext cx="849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OCIÁLNÍ STRUKTURA</a:t>
            </a:r>
            <a:br>
              <a:rPr sz="5400"/>
            </a:b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A STRATIFIKA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1916280"/>
            <a:ext cx="9144000" cy="3095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O JE VLASTNĚ STRUKTUR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Výsledek obrázku pro social structure"/>
          <p:cNvPicPr/>
          <p:nvPr/>
        </p:nvPicPr>
        <p:blipFill>
          <a:blip r:embed="rId1"/>
          <a:stretch/>
        </p:blipFill>
        <p:spPr>
          <a:xfrm>
            <a:off x="34920" y="1341360"/>
            <a:ext cx="4394160" cy="4016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Výsledek obrázku pro prostitute"/>
          <p:cNvPicPr/>
          <p:nvPr/>
        </p:nvPicPr>
        <p:blipFill>
          <a:blip r:embed="rId2"/>
          <a:stretch/>
        </p:blipFill>
        <p:spPr>
          <a:xfrm>
            <a:off x="4560840" y="1844640"/>
            <a:ext cx="458316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Výsledek obrázku pro social structure"/>
          <p:cNvPicPr/>
          <p:nvPr/>
        </p:nvPicPr>
        <p:blipFill>
          <a:blip r:embed="rId1"/>
          <a:stretch/>
        </p:blipFill>
        <p:spPr>
          <a:xfrm>
            <a:off x="900000" y="4684680"/>
            <a:ext cx="2376720" cy="2173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V SOCIOLOGII SE SETKÁME S MNOHA VÝZNAMY POJMU STRUKTUR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29920" y="3068640"/>
            <a:ext cx="328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USPOŘÁD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VZT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PO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096160" y="3068640"/>
            <a:ext cx="282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ZORE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Ý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OREM/HOD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Výsledek obrázku pro prostitute"/>
          <p:cNvPicPr/>
          <p:nvPr/>
        </p:nvPicPr>
        <p:blipFill>
          <a:blip r:embed="rId2"/>
          <a:stretch/>
        </p:blipFill>
        <p:spPr>
          <a:xfrm>
            <a:off x="5148360" y="4710240"/>
            <a:ext cx="28796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Výsledek obrázku pro social structure"/>
          <p:cNvPicPr/>
          <p:nvPr/>
        </p:nvPicPr>
        <p:blipFill>
          <a:blip r:embed="rId1"/>
          <a:stretch/>
        </p:blipFill>
        <p:spPr>
          <a:xfrm>
            <a:off x="900000" y="4684680"/>
            <a:ext cx="2376720" cy="21733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V SOCIOLOGII SE SETKÁME S MNOHA VÝZNAMY POJMU STRUKTUR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29920" y="3068640"/>
            <a:ext cx="328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USPOŘÁD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VZT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PO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096160" y="3068640"/>
            <a:ext cx="282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ZORE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Ý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OREM/HOD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Výsledek obrázku pro prostitute"/>
          <p:cNvPicPr/>
          <p:nvPr/>
        </p:nvPicPr>
        <p:blipFill>
          <a:blip r:embed="rId2"/>
          <a:stretch/>
        </p:blipFill>
        <p:spPr>
          <a:xfrm>
            <a:off x="5148360" y="4710240"/>
            <a:ext cx="2879640" cy="2147760"/>
          </a:xfrm>
          <a:prstGeom prst="rect">
            <a:avLst/>
          </a:prstGeom>
          <a:ln w="0">
            <a:noFill/>
          </a:ln>
        </p:spPr>
      </p:pic>
      <p:sp>
        <p:nvSpPr>
          <p:cNvPr id="69" name="Oval 9"/>
          <p:cNvSpPr/>
          <p:nvPr/>
        </p:nvSpPr>
        <p:spPr>
          <a:xfrm>
            <a:off x="-108000" y="2565360"/>
            <a:ext cx="4859280" cy="446400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V UŽŠÍM SLOVA SMYSLU TEDY 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Tahoma"/>
              </a:rPr>
              <a:t>SOCIÁLNÍ STRKUTURA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ZNAMENÁ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68360" y="299736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ROZČLENĚNÍ SPOLEČNOSTI DO ČÁ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OČ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OTOŽE SPOLEČNOST JAKO CELEK JE PŘÍLIŠ HETEROGEN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HLEDÁME JAK URČIT SKUPINY (ČÁSTI), KTERÉ MAJÍ VÍCE SPOLEČNÝCH RYS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4T04:35:55Z</dcterms:created>
  <dc:creator>x</dc:creator>
  <dc:description/>
  <dc:language>en-US</dc:language>
  <cp:lastModifiedBy>Petr Fučík</cp:lastModifiedBy>
  <cp:lastPrinted>2017-11-21T10:14:17Z</cp:lastPrinted>
  <dcterms:modified xsi:type="dcterms:W3CDTF">2017-11-28T09:11:31Z</dcterms:modified>
  <cp:revision>47</cp:revision>
  <dc:subject/>
  <dc:title>ETIKA VE VÝZKUMU</dc:title>
</cp:coreProperties>
</file>