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D16-389A-4892-A0DF-0B1682D9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2CD-D456-4B8C-B387-58BB81BF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148-FAA7-4E19-8E85-D54390C2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631-0989-4060-BE2E-8BA877FD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E60-08EA-485F-91C3-1A98830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D47-3963-4D8F-B54D-4D002DCF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BA7-E009-41F9-9EF8-C56D6B57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A9B-2B72-4CE1-8811-DD0A78A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9DE-D252-44BF-9EC1-C659059E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DDE-FD8A-454E-879E-A698F09E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6A5-74AC-4CA0-B947-A0170027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037-291D-42CC-B1E7-7BAC3E39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6CF2-6BBF-43C8-918D-330E27C9DFB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Výsledek obrázku pro VŘSR"/>
          <p:cNvPicPr/>
          <p:nvPr/>
        </p:nvPicPr>
        <p:blipFill>
          <a:blip r:embed="rId1"/>
          <a:stretch/>
        </p:blipFill>
        <p:spPr>
          <a:xfrm>
            <a:off x="-20520" y="-14400"/>
            <a:ext cx="91645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5280" y="1197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MŮŽEME TEDY HOVOŘIT O STRUKTUŘ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Ě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DLE POHL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T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ÁBOŽENS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 TAKÉ TŘÍ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2010"/>
          <p:cNvPicPr/>
          <p:nvPr/>
        </p:nvPicPr>
        <p:blipFill>
          <a:blip r:embed="rId1"/>
          <a:stretch/>
        </p:blipFill>
        <p:spPr>
          <a:xfrm>
            <a:off x="3851280" y="2467080"/>
            <a:ext cx="45338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Výsledek obrázku pro social classes"/>
          <p:cNvPicPr/>
          <p:nvPr/>
        </p:nvPicPr>
        <p:blipFill>
          <a:blip r:embed="rId1"/>
          <a:stretch/>
        </p:blipFill>
        <p:spPr>
          <a:xfrm>
            <a:off x="0" y="104616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434520" y="33336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ŮZNORODOST POSTOJŮ, ŽIVOTNÍCH STYLŮ, ŽIVOTNÍCH ŠANCÍ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A JEDNÍM Z NEJČASTĚJI UŽÍVANÝCH ZPŮSOBŮ, JAK SPOLEČNOST ROZČLEŇOV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TEORIE STRAT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HIERARCHICKY USPOŘÁDANÝCH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900000" y="4221000"/>
            <a:ext cx="19656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délník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Výsledek obrázku pro CLASS STRUCTURE"/>
          <p:cNvPicPr/>
          <p:nvPr/>
        </p:nvPicPr>
        <p:blipFill>
          <a:blip r:embed="rId1"/>
          <a:stretch/>
        </p:blipFill>
        <p:spPr>
          <a:xfrm>
            <a:off x="1403280" y="-82440"/>
            <a:ext cx="518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DLIŠ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NEROVNOST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(NE)SPRAVEDL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997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51840" y="3448080"/>
            <a:ext cx="758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CIONÁLNÍ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DŮSLEDKEM MERITOKRATICKÝCH PRINCI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MOTIVUJE K VÝK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ALOKUJE TY SPRÁVNÉ JEDINCE NA SPRÁVNÁ MÍ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FLIKTUALISTICKÝ POH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JE VÝSLEDKEM Ú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VNOST OMEZUJE ŽIVOTNÍ Š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HISTORICKÉ TYPY SOCIÁLNÍ STRUKTURY (STRAT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68360" y="242100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TROKÁŘ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STAROVĚKÁ SPOLEČNOST + KOLONI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AS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NÁBOŽENSKY DEFINOVANÉ SKUP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FEUDÁLNÍ SPOLEČ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ODERNÍ STRATIFIK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8360" y="191628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YSTÉM TŘÍD JE PROSTUPNĚJŠÍ NEŽ OSTATNÍ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 FLEXIBILNĚJŠÍ – VYHOVUJE LÉPE INDUSTRIÁLNÍ KAPITALISTICK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Výsledek obrázku pro ČESKÝ SELFMADEMAN"/>
          <p:cNvPicPr/>
          <p:nvPr/>
        </p:nvPicPr>
        <p:blipFill>
          <a:blip r:embed="rId1"/>
          <a:stretch/>
        </p:blipFill>
        <p:spPr>
          <a:xfrm>
            <a:off x="0" y="4795920"/>
            <a:ext cx="3780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Výsledek obrázku pro AMERICAN DREAM"/>
          <p:cNvPicPr/>
          <p:nvPr/>
        </p:nvPicPr>
        <p:blipFill>
          <a:blip r:embed="rId2"/>
          <a:stretch/>
        </p:blipFill>
        <p:spPr>
          <a:xfrm>
            <a:off x="3924360" y="4797360"/>
            <a:ext cx="5219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MARX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299736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ODVOZENÉ OD VZTAHU K VÝROBNÍM PROSTŘEDK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ÍCI PROSTŘEDKŮ: BURŽOA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YKONÁVAJÍCÍ NÁMEZDNÍ PRÁCI: PROLETARI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WEBEROVO POJETÍ TŘÍ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68360" y="299736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A (EKONOMIC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TUS (PRESTIŽ, UZN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ANA (ZÁJMY, KUL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165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TŘÍDY PODLE E.O.WRIGH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68360" y="2997360"/>
            <a:ext cx="8207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vesticemi nebo finančním kapitá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fyzickými výrobními prostředky (půda, továrny, kancelář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3.  pracovními silami (najatý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(problém s manaž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02600" y="191628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řídy jsou rozlišovány podle toho, zda příslušní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isponuj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CO JE NEROV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LZE NEROVNOST ODSTRAN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JAKÝ JE VZTAH JINAKOSTI A NEROVNOS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DISKUSE O ZÁNIKU TŘÍ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NZUMERISMUS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DENTITA / KULTURA / SUBKULTURA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DIVIDUALIZACE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NEVIDITĚLNĚNÍ JINÝCH NEROVNOSTÍ (GENDER, ETNICITA…)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JSOU TŘÍDY ZASTOUPE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90800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619280" y="263700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332000" y="2997360"/>
            <a:ext cx="1727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116000" y="3357720"/>
            <a:ext cx="21607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6300720" y="2276640"/>
            <a:ext cx="503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724360" y="263700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5581800" y="2997360"/>
            <a:ext cx="201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6229440" y="3718080"/>
            <a:ext cx="718920" cy="358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826920" y="3716280"/>
            <a:ext cx="2808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724360" y="3357720"/>
            <a:ext cx="17290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763640" y="429264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116000" y="4941720"/>
            <a:ext cx="2160720" cy="792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63640" y="5734080"/>
            <a:ext cx="863640" cy="64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292720" y="6093000"/>
            <a:ext cx="2592360" cy="217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5796000" y="5516640"/>
            <a:ext cx="158436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156360" y="5157720"/>
            <a:ext cx="863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372360" y="4797360"/>
            <a:ext cx="43164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5436360" y="645336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ČET PŘÍSLUŠNÍKŮ TŘÍ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H="1">
            <a:off x="5148360" y="659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7740720" y="659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 rot="16200000">
            <a:off x="7327080" y="5211720"/>
            <a:ext cx="19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HIERARCHICKÁ POZ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JAK MĚŘIT SOCIÁLNÍ POZI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66720" y="1687680"/>
            <a:ext cx="69717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O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KATEGORIZOVA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ÍKLAD -  EG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TYP ZAMĚSTNÁNÍ, POČET PODŘÍZENÝCH, MÍRA AUTONO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ŠKÁLOVĚ (KONTINUÁL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SOCIOEKONOMICKÝ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ZDĚLÁNÍ – PROFESE - PŘÍ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UBJEKTI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- SEBEZAŘ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RŮZNÁ POJETÍ NEROVNOSTI A ZNEVÝHODNĚN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92640" y="2708280"/>
            <a:ext cx="774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IERARCHIE – CHUDOBA / DEP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JÁDRO/PERIFERIE - MARGIN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ARTICIPACE – EXKLUZE/INKL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SOCIÁLNÍ MOBIL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DIMENZE MOBILITY: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HORIZONTÁLNÍ / VERTIKÁL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UVNITŘ VRSTVY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ESUN MEZI VRSTVAMI</a:t>
            </a:r>
            <a:br>
              <a:rPr sz="18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TERGENERAČNÍ / INTRAGENERAČNÍ</a:t>
            </a:r>
            <a:br>
              <a:rPr sz="32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ŮČI RODIČŮM (PŘEDKŮM)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 RÁMCI KARIÉ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OPAKEM MOBILITY JE SOCIÁLNÍ RE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50920" y="2708280"/>
            <a:ext cx="8569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39640" y="292428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PRODUKCE = PŘENOS KAPITÁLŮ Z JEDNÉ GENERACE NA DRU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KONOM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YMBOLICKÝ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At-risk-of-poverty_rate_and_threshold%2C_2014_YB16bis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8680" y="20808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7236000" y="5373720"/>
            <a:ext cx="1425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33360" y="1341360"/>
            <a:ext cx="855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příjmovou chudobou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e příjmové chud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vivalizovaný disponibilní příjem (po zdanění a přepočtený na spotřební jednot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 % mediánu příjmového 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í míra porovnávající pozici vůči celkovému příjmové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žení v dané z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Material_deprivation_rate_%E2%80%94_proportion_of_persons_who_cannot_afford_to_pay_for_selected_items%2C_20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617040" y="260280"/>
            <a:ext cx="57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ohrožených materiální deprivací – země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4859280" y="551664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People_aged_less_than_60_living_in_households_with_very_low_work_intensity%2C_2013%E2%80%9314_%28%25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4240" y="260280"/>
            <a:ext cx="86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osob mladších 60 let žijících v domácnostech s velmi nízkou pracovní aktivi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6084720" y="558972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délní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ouvisející obrázek"/>
          <p:cNvPicPr/>
          <p:nvPr/>
        </p:nvPicPr>
        <p:blipFill>
          <a:blip r:embed="rId1"/>
          <a:stretch/>
        </p:blipFill>
        <p:spPr>
          <a:xfrm>
            <a:off x="1835280" y="0"/>
            <a:ext cx="508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Distribution_of_population_by_tenure_status%2C_2014_%28%25_of_population%29_YB16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373080" y="4869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ypy byd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3708360" y="486900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363000" y="5157720"/>
            <a:ext cx="261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regulova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jemní bydlení – tržní c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– úvě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astnické bydlení -  bez úv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onvience of flying private"/>
          <p:cNvPicPr/>
          <p:nvPr/>
        </p:nvPicPr>
        <p:blipFill>
          <a:blip r:embed="rId1"/>
          <a:stretch/>
        </p:blipFill>
        <p:spPr>
          <a:xfrm>
            <a:off x="1042920" y="2286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0"/>
            <a:ext cx="9144000" cy="3095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933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SOCIÁLNÍ STRUKTURA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A STRATIFIK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1916280"/>
            <a:ext cx="9144000" cy="30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CO JE VLASTNĚ STRUKTUR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34920" y="1341360"/>
            <a:ext cx="4394160" cy="4016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4560840" y="1844640"/>
            <a:ext cx="458316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29920" y="3068640"/>
            <a:ext cx="328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ýsledek obrázku pro social structure"/>
          <p:cNvPicPr/>
          <p:nvPr/>
        </p:nvPicPr>
        <p:blipFill>
          <a:blip r:embed="rId1"/>
          <a:stretch/>
        </p:blipFill>
        <p:spPr>
          <a:xfrm>
            <a:off x="900000" y="4684680"/>
            <a:ext cx="2376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SOCIOLOGII SE SETKÁME S MNOHA VÝZNAMY POJMU STRUKTU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29920" y="3068640"/>
            <a:ext cx="328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SPOŘÁD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VZT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RUKTURA SKU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96160" y="3068640"/>
            <a:ext cx="28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ZORE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OREM/HOD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Výsledek obrázku pro prostitute"/>
          <p:cNvPicPr/>
          <p:nvPr/>
        </p:nvPicPr>
        <p:blipFill>
          <a:blip r:embed="rId2"/>
          <a:stretch/>
        </p:blipFill>
        <p:spPr>
          <a:xfrm>
            <a:off x="5148360" y="4710240"/>
            <a:ext cx="2879640" cy="2147760"/>
          </a:xfrm>
          <a:prstGeom prst="rect">
            <a:avLst/>
          </a:prstGeom>
          <a:ln w="0">
            <a:noFill/>
          </a:ln>
        </p:spPr>
      </p:pic>
      <p:sp>
        <p:nvSpPr>
          <p:cNvPr id="69" name="Oval 9"/>
          <p:cNvSpPr/>
          <p:nvPr/>
        </p:nvSpPr>
        <p:spPr>
          <a:xfrm>
            <a:off x="-108000" y="2565360"/>
            <a:ext cx="4859280" cy="4464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115920"/>
            <a:ext cx="9144000" cy="2665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V UŽŠÍM SLOVA SMYSLU TEDY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Tahoma"/>
              </a:rPr>
              <a:t>SOCIÁLNÍ STRKUTUR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ZNAMEN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50920" y="3068640"/>
            <a:ext cx="3600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299736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OZČLENĚNÍ SPOLEČNOSTI DO ČÁ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OTOŽE SPOLEČNOST JAKO CELEK JE PŘÍLIŠ HETEROGEN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LEDÁME JAK URČIT SKUPINY (ČÁSTI), KTERÉ MAJÍ VÍCE SPOLEČNÝCH RY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04:35:55Z</dcterms:created>
  <dc:creator>x</dc:creator>
  <dc:description/>
  <dc:language>en-US</dc:language>
  <cp:lastModifiedBy>Petr Fučík</cp:lastModifiedBy>
  <cp:lastPrinted>2017-11-21T10:14:17Z</cp:lastPrinted>
  <dcterms:modified xsi:type="dcterms:W3CDTF">2017-11-28T09:11:31Z</dcterms:modified>
  <cp:revision>47</cp:revision>
  <dc:subject/>
  <dc:title>ETIKA VE VÝZKUMU</dc:title>
</cp:coreProperties>
</file>