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4AC-B119-47EE-A58F-0DDAE1AC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A92-681D-4A42-B3BD-11F71966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DCF-7AFF-4263-98BD-BB7F437E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EF5-8C9B-4749-B6A0-93A03981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290-64DC-4DDE-9EC5-C8C0F1CB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CFA-CD02-4A5C-A145-2B07E798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C7D-2A15-4DFE-A026-D8579009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F77-A230-4D01-BFBE-958DB71D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3B9-BFCB-4398-B9B6-625304CE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966-4141-42D0-98D2-26FEADDC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070-ACE5-4603-B780-B1E6EC41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7DF-F23A-48D4-9B58-07564FBE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62B9-341E-422B-AB82-C0424ED06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000" y="0"/>
            <a:ext cx="5654880" cy="1312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Literatura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13000"/>
            <a:ext cx="8661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á četba ze čtyř kni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IDDENS, Anthony. 2013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. Aktualizované a rozšířené vydání revidované Philipem W. Suttone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Ar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RRINGTON, Austin. 2006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oderní sociální teorie: základní témata a myšlenkové prou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Port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LLER, Jan. 1997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vod do soci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Sociologické nakladatelst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TUCCELLI, Danilo. 2008.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ciologie modernity: itinerář 20. stolet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Brno: Centrum pro studium demokracie a kultury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Výsledek obrázku pro giddens sociologie"/>
          <p:cNvPicPr/>
          <p:nvPr/>
        </p:nvPicPr>
        <p:blipFill>
          <a:blip r:embed="rId1"/>
          <a:stretch/>
        </p:blipFill>
        <p:spPr>
          <a:xfrm>
            <a:off x="611280" y="1052640"/>
            <a:ext cx="3786120" cy="528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Výsledek obrázku pro giddens sociologie"/>
          <p:cNvPicPr/>
          <p:nvPr/>
        </p:nvPicPr>
        <p:blipFill>
          <a:blip r:embed="rId2"/>
          <a:stretch/>
        </p:blipFill>
        <p:spPr>
          <a:xfrm>
            <a:off x="5292720" y="1052640"/>
            <a:ext cx="3645000" cy="532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79480" y="176040"/>
            <a:ext cx="27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jnovějš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7080" y="20484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š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Výsledek obrázku pro harrington moderní sociální teorie"/>
          <p:cNvPicPr/>
          <p:nvPr/>
        </p:nvPicPr>
        <p:blipFill>
          <a:blip r:embed="rId1"/>
          <a:srcRect l="20157" t="6299" r="17638" b="6299"/>
          <a:stretch/>
        </p:blipFill>
        <p:spPr>
          <a:xfrm>
            <a:off x="395280" y="692280"/>
            <a:ext cx="4168800" cy="585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Výsledek obrázku pro danilo Martuccelli – Sociologie  modernity: Itinerář 20. století"/>
          <p:cNvPicPr/>
          <p:nvPr/>
        </p:nvPicPr>
        <p:blipFill>
          <a:blip r:embed="rId2"/>
          <a:stretch/>
        </p:blipFill>
        <p:spPr>
          <a:xfrm>
            <a:off x="4932360" y="333360"/>
            <a:ext cx="386064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Výsledek obrázku pro keller úvod do sociologie"/>
          <p:cNvPicPr/>
          <p:nvPr/>
        </p:nvPicPr>
        <p:blipFill>
          <a:blip r:embed="rId1"/>
          <a:stretch/>
        </p:blipFill>
        <p:spPr>
          <a:xfrm>
            <a:off x="2585880" y="571680"/>
            <a:ext cx="39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4:08:30Z</dcterms:created>
  <dc:creator>x</dc:creator>
  <dc:description/>
  <dc:language>en-US</dc:language>
  <cp:lastModifiedBy>x</cp:lastModifiedBy>
  <dcterms:modified xsi:type="dcterms:W3CDTF">2016-09-20T05:00:50Z</dcterms:modified>
  <cp:revision>2</cp:revision>
  <dc:subject/>
  <dc:title>Snímek 1</dc:title>
</cp:coreProperties>
</file>