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36.png" ContentType="image/png"/>
  <Override PartName="/ppt/media/image43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46.png" ContentType="image/png"/>
  <Override PartName="/ppt/media/image31.jpeg" ContentType="image/jpeg"/>
  <Override PartName="/ppt/media/image41.png" ContentType="image/pn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730-8C2F-4027-B8CE-86CBF388A8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92D3-030B-4E12-9ECA-C7EA95D721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0DF-31AA-4D90-800B-C5418E85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9CC-8411-44D9-8212-1C04696F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8AA-8D2B-4848-A8C4-8049914B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027-139A-4B83-B8D7-7A48777D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29F-9413-4E76-8C03-44333A1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5CE-AD48-43A5-8B60-39A0F64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B61-288A-4AE2-8A30-F9BD44A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669-AE14-45A9-9EC8-C50E54D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0F2-E93B-4723-A652-542D84D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F22-EFE5-4098-B3D5-165E0AE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FED-ECC3-4083-B6A9-905C4DF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742-1AC6-4EEC-89CB-5660D664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DB8D-D958-46AB-A3EE-9F3929B948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1WYM6jBq7nE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Výsledek obrázku pro chicago school sociology"/>
          <p:cNvPicPr/>
          <p:nvPr/>
        </p:nvPicPr>
        <p:blipFill>
          <a:blip r:embed="rId1"/>
          <a:stretch/>
        </p:blipFill>
        <p:spPr>
          <a:xfrm>
            <a:off x="6896160" y="0"/>
            <a:ext cx="2247840" cy="315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93372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ociologie v USA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v první půli 20.  století dominují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Chicagská škola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později…</a:t>
            </a:r>
            <a:br>
              <a:rPr sz="4000"/>
            </a:br>
            <a:r>
              <a:rPr b="1" lang="cs-CZ" sz="4000" spc="-1" strike="noStrike">
                <a:solidFill>
                  <a:srgbClr val="333399"/>
                </a:solidFill>
                <a:latin typeface="Tahoma"/>
              </a:rPr>
              <a:t>Strukturní funkcionalismu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ýsledek obrázku pro chicago school sociology"/>
          <p:cNvPicPr/>
          <p:nvPr/>
        </p:nvPicPr>
        <p:blipFill>
          <a:blip r:embed="rId2"/>
          <a:stretch/>
        </p:blipFill>
        <p:spPr>
          <a:xfrm>
            <a:off x="0" y="0"/>
            <a:ext cx="20318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333360"/>
            <a:ext cx="42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ystém  jedn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4284720" y="189000"/>
            <a:ext cx="4859280" cy="267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56680" y="314172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EHAVIORÁLNÍ ORGAN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Biologické faktory jednání (člověk je tvor…)      - ADAP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O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otřeby, motivy, postoje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NAPLŇOVÁ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ÁL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rolí a rolových očekávání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INTE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ULTURNÍ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ubor sdílených hodnot a významů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UDRŽOVÁNÍ SKRY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O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ystém jedná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-podmínky za nichž probíhá veškeré 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Výsledek obrázku pro cultural system social system personality behavioral organ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11280" y="333360"/>
            <a:ext cx="8208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CHÉMA „AGIL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Univerzálně platné čtyři typy systémových požada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Výsledek obrázku pro agil scheme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 - funkční diferenciace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oncept „nukleární rodiny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2771640" y="2349360"/>
            <a:ext cx="371664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Výsledek obrázku pro peasant family"/>
          <p:cNvPicPr/>
          <p:nvPr/>
        </p:nvPicPr>
        <p:blipFill>
          <a:blip r:embed="rId1"/>
          <a:stretch/>
        </p:blipFill>
        <p:spPr>
          <a:xfrm>
            <a:off x="155520" y="46080"/>
            <a:ext cx="4129200" cy="34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Výsledek obrázku pro TRADITIONAL FAMILY"/>
          <p:cNvPicPr/>
          <p:nvPr/>
        </p:nvPicPr>
        <p:blipFill>
          <a:blip r:embed="rId2"/>
          <a:stretch/>
        </p:blipFill>
        <p:spPr>
          <a:xfrm>
            <a:off x="4788000" y="3645000"/>
            <a:ext cx="4195800" cy="237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Výsledek obrázku pro HISTORICAL FAMILY"/>
          <p:cNvPicPr/>
          <p:nvPr/>
        </p:nvPicPr>
        <p:blipFill>
          <a:blip r:embed="rId3"/>
          <a:stretch/>
        </p:blipFill>
        <p:spPr>
          <a:xfrm>
            <a:off x="250920" y="3645000"/>
            <a:ext cx="428616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4911840" y="352440"/>
            <a:ext cx="40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ediferencovaný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rolínání fun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odina má funkce ekonomické, politick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Diferenciace funk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Moderní rodina – social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Nukleární rod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primárně emoční funk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Výsledek obrázku pro functional differentiation parsons family"/>
          <p:cNvPicPr/>
          <p:nvPr/>
        </p:nvPicPr>
        <p:blipFill>
          <a:blip r:embed="rId1"/>
          <a:stretch/>
        </p:blipFill>
        <p:spPr>
          <a:xfrm>
            <a:off x="1835280" y="0"/>
            <a:ext cx="56656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Podněty – životní dráh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ferenciace nových životních období</a:t>
            </a:r>
            <a:br>
              <a:rPr sz="40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arsons si všímá jak se prodlužuje naděje dožití a zlepšuje zdravotní stav starých lidí – vzniká tak nové životní období. Toto období však není spojeno s odpovídajícími rolemi a institucem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324000" y="4002120"/>
            <a:ext cx="4292280" cy="2855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Výsledek obrázku pro youth myth  seniors"/>
          <p:cNvPicPr/>
          <p:nvPr/>
        </p:nvPicPr>
        <p:blipFill>
          <a:blip r:embed="rId2"/>
          <a:stretch/>
        </p:blipFill>
        <p:spPr>
          <a:xfrm>
            <a:off x="5076720" y="4005360"/>
            <a:ext cx="345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461840" y="2997360"/>
            <a:ext cx="452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Žák T. Parsonse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60.  -70. léta, Columbi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eakce na kritiku struktur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Latentní a manifestn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ev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Výsledek obrázku pro R.K. MERTON"/>
          <p:cNvPicPr/>
          <p:nvPr/>
        </p:nvPicPr>
        <p:blipFill>
          <a:blip r:embed="rId1"/>
          <a:stretch/>
        </p:blipFill>
        <p:spPr>
          <a:xfrm>
            <a:off x="-2197080" y="1360440"/>
            <a:ext cx="631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ROBERT 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ER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0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0200" y="285264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Výsledek obrázku pro Social Theory and Social Structure merton"/>
          <p:cNvPicPr/>
          <p:nvPr/>
        </p:nvPicPr>
        <p:blipFill>
          <a:blip r:embed="rId1"/>
          <a:stretch/>
        </p:blipFill>
        <p:spPr>
          <a:xfrm>
            <a:off x="611280" y="3573360"/>
            <a:ext cx="141912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2599920" y="2492280"/>
            <a:ext cx="65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tředního dosahu: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naha propojit funkcionální teorii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empirickým výzkum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Manifestní a latentní funkce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rov. koncept nezamýšl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ůsledků jednání (W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deviace – reakce na obvi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cionalismu z přílišného spoléhání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onformitu aktérů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Dysfunkce – funkční může být zároveň dysfunk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ýsledek obrázku pro r k merton"/>
          <p:cNvPicPr/>
          <p:nvPr/>
        </p:nvPicPr>
        <p:blipFill>
          <a:blip r:embed="rId2"/>
          <a:stretch/>
        </p:blipFill>
        <p:spPr>
          <a:xfrm>
            <a:off x="611280" y="189000"/>
            <a:ext cx="1752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struktura podle Mert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ě dané imperativ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íle a cesty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ividuální reakc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přijetí, odmítnutí, nahra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 a cest k nim mohou být dualit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Přímá spojnice se šipkou 11"/>
          <p:cNvCxnSpPr/>
          <p:nvPr/>
        </p:nvCxnSpPr>
        <p:spPr>
          <a:xfrm>
            <a:off x="1089000" y="5638320"/>
            <a:ext cx="4426560" cy="1080"/>
          </a:xfrm>
          <a:prstGeom prst="straightConnector1">
            <a:avLst/>
          </a:prstGeom>
          <a:ln w="38160">
            <a:solidFill>
              <a:srgbClr val="daede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ovéPole 12"/>
          <p:cNvSpPr/>
          <p:nvPr/>
        </p:nvSpPr>
        <p:spPr>
          <a:xfrm>
            <a:off x="257040" y="5792760"/>
            <a:ext cx="13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úspě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13"/>
          <p:cNvSpPr/>
          <p:nvPr/>
        </p:nvSpPr>
        <p:spPr>
          <a:xfrm>
            <a:off x="4853160" y="5792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 ritu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14"/>
          <p:cNvSpPr/>
          <p:nvPr/>
        </p:nvSpPr>
        <p:spPr>
          <a:xfrm>
            <a:off x="2216160" y="522612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grovaná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ýsledek obrázku pro chicago america 20s"/>
          <p:cNvPicPr/>
          <p:nvPr/>
        </p:nvPicPr>
        <p:blipFill>
          <a:blip r:embed="rId1"/>
          <a:stretch/>
        </p:blipFill>
        <p:spPr>
          <a:xfrm>
            <a:off x="0" y="0"/>
            <a:ext cx="4067280" cy="3403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chicago america 20s"/>
          <p:cNvPicPr/>
          <p:nvPr/>
        </p:nvPicPr>
        <p:blipFill>
          <a:blip r:embed="rId2"/>
          <a:stretch/>
        </p:blipFill>
        <p:spPr>
          <a:xfrm>
            <a:off x="0" y="5210280"/>
            <a:ext cx="2771640" cy="164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Výsledek obrázku pro chicago america 20s"/>
          <p:cNvPicPr/>
          <p:nvPr/>
        </p:nvPicPr>
        <p:blipFill>
          <a:blip r:embed="rId3"/>
          <a:stretch/>
        </p:blipFill>
        <p:spPr>
          <a:xfrm>
            <a:off x="5970600" y="0"/>
            <a:ext cx="317340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Výsledek obrázku pro chicago america 20s"/>
          <p:cNvPicPr/>
          <p:nvPr/>
        </p:nvPicPr>
        <p:blipFill>
          <a:blip r:embed="rId4"/>
          <a:stretch/>
        </p:blipFill>
        <p:spPr>
          <a:xfrm>
            <a:off x="4381560" y="447660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Výsledek obrázku pro chicago america 20s"/>
          <p:cNvPicPr/>
          <p:nvPr/>
        </p:nvPicPr>
        <p:blipFill>
          <a:blip r:embed="rId5"/>
          <a:stretch/>
        </p:blipFill>
        <p:spPr>
          <a:xfrm>
            <a:off x="3348000" y="0"/>
            <a:ext cx="2879640" cy="182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Výsledek obrázku pro corner street society"/>
          <p:cNvPicPr/>
          <p:nvPr/>
        </p:nvPicPr>
        <p:blipFill>
          <a:blip r:embed="rId6"/>
          <a:stretch/>
        </p:blipFill>
        <p:spPr>
          <a:xfrm>
            <a:off x="2771640" y="3284640"/>
            <a:ext cx="238284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Výsledek obrázku pro urban gangs chicago  20s"/>
          <p:cNvPicPr/>
          <p:nvPr/>
        </p:nvPicPr>
        <p:blipFill>
          <a:blip r:embed="rId7"/>
          <a:stretch/>
        </p:blipFill>
        <p:spPr>
          <a:xfrm>
            <a:off x="6602400" y="2133720"/>
            <a:ext cx="2541600" cy="23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Výsledek obrázku pro young urban gangs chicago  20s"/>
          <p:cNvPicPr/>
          <p:nvPr/>
        </p:nvPicPr>
        <p:blipFill>
          <a:blip r:embed="rId8"/>
          <a:stretch/>
        </p:blipFill>
        <p:spPr>
          <a:xfrm>
            <a:off x="0" y="3284640"/>
            <a:ext cx="2471760" cy="197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Výsledek obrázku pro young urban society chicago  20s"/>
          <p:cNvPicPr/>
          <p:nvPr/>
        </p:nvPicPr>
        <p:blipFill>
          <a:blip r:embed="rId9"/>
          <a:stretch/>
        </p:blipFill>
        <p:spPr>
          <a:xfrm>
            <a:off x="2195640" y="1773360"/>
            <a:ext cx="4824360" cy="27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Výsledek obrázku pro josephine baker"/>
          <p:cNvPicPr/>
          <p:nvPr/>
        </p:nvPicPr>
        <p:blipFill>
          <a:blip r:embed="rId10"/>
          <a:stretch/>
        </p:blipFill>
        <p:spPr>
          <a:xfrm>
            <a:off x="2050920" y="4292640"/>
            <a:ext cx="782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dosazením reakcí 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ílům a cestám k 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User\Desktop\Výstřižek.PNG"/>
          <p:cNvPicPr/>
          <p:nvPr/>
        </p:nvPicPr>
        <p:blipFill>
          <a:blip r:embed="rId1"/>
          <a:stretch/>
        </p:blipFill>
        <p:spPr>
          <a:xfrm>
            <a:off x="3708360" y="2133720"/>
            <a:ext cx="3384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ormita a integrovaná společ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přijat, internalizov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držováním cest konformní člověk získává cíle a satisfakci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nevzniká „blbá nálada“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společnost je integr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a společnost úspěc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Přijaty, internaliz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n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ůže se rozvinout velmi silný, někdy v podstatě výlučný důraz na hodnotu určitých cílů… …Ke krajnímu případu tohoto typu se dospívá tam, kde škálu alternativních postupů ovládají pouze technické, nikoli institucionalizované normy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itualismus a společnost ritu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Přijímá, internaliz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 u nás?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rainstorming, zapsat počet obhájených příklad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up přichází o cíl, dočasná sociální stabilita, strach z novéh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jednání přežívá svůj cí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Odmí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it poraženosti -&gt; rezignace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nikové mechanismy -&gt; vyřazení člověka z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be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y: Nahr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Vede lidi ven ze soc. struktury, která je obklopuje, a k plánování a snaze o nastolení soc. struktury nové“ 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1WYM6jBq7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luntary simplicity nebo minim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-materialistická mainstreamová teorie VS (Ingle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brová: Greens/colourfuls – Lifestyle-aktivismus/zv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&gt;VS není nutně rebelstv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ET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jaké společnosti žije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o je/není rebel a proč? Proč 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anice mezi rebelii a unik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belství jako recyklace naděje (19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post-socialistický kontexty, které „otřásly“ americkými koncepc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4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ozvinutí sociologické diskuse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konflikt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feminismu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eorie racionální volby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ofunkcional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51280" y="285264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lumbia University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Kritika strukturního funkcionalism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e ideologický, obhajuje status q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a slouží establish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Není teorií, jen složitým popisem banálních skut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eceňuje konsensus a nepočítá s konfli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565360"/>
            <a:ext cx="2943360" cy="376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Výsledek obrázku pro c w mills"/>
          <p:cNvPicPr/>
          <p:nvPr/>
        </p:nvPicPr>
        <p:blipFill>
          <a:blip r:embed="rId2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Výsledek obrázku pro america 50s"/>
          <p:cNvPicPr/>
          <p:nvPr/>
        </p:nvPicPr>
        <p:blipFill>
          <a:blip r:embed="rId1"/>
          <a:stretch/>
        </p:blipFill>
        <p:spPr>
          <a:xfrm>
            <a:off x="5710320" y="0"/>
            <a:ext cx="3433680" cy="32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Výsledek obrázku pro america 50s"/>
          <p:cNvPicPr/>
          <p:nvPr/>
        </p:nvPicPr>
        <p:blipFill>
          <a:blip r:embed="rId2"/>
          <a:stretch/>
        </p:blipFill>
        <p:spPr>
          <a:xfrm>
            <a:off x="0" y="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Výsledek obrázku pro america 50s"/>
          <p:cNvPicPr/>
          <p:nvPr/>
        </p:nvPicPr>
        <p:blipFill>
          <a:blip r:embed="rId3"/>
          <a:stretch/>
        </p:blipFill>
        <p:spPr>
          <a:xfrm>
            <a:off x="-181080" y="3059280"/>
            <a:ext cx="2627280" cy="379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Výsledek obrázku pro america 50s"/>
          <p:cNvPicPr/>
          <p:nvPr/>
        </p:nvPicPr>
        <p:blipFill>
          <a:blip r:embed="rId4"/>
          <a:stretch/>
        </p:blipFill>
        <p:spPr>
          <a:xfrm>
            <a:off x="3492360" y="0"/>
            <a:ext cx="244800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Výsledek obrázku pro america 50s"/>
          <p:cNvPicPr/>
          <p:nvPr/>
        </p:nvPicPr>
        <p:blipFill>
          <a:blip r:embed="rId5"/>
          <a:stretch/>
        </p:blipFill>
        <p:spPr>
          <a:xfrm>
            <a:off x="5724360" y="3963960"/>
            <a:ext cx="341964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Výsledek obrázku pro america 50s suburbs"/>
          <p:cNvPicPr/>
          <p:nvPr/>
        </p:nvPicPr>
        <p:blipFill>
          <a:blip r:embed="rId6"/>
          <a:stretch/>
        </p:blipFill>
        <p:spPr>
          <a:xfrm>
            <a:off x="2124000" y="4121280"/>
            <a:ext cx="41036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Výsledek obrázku pro america 50s atomic"/>
          <p:cNvPicPr/>
          <p:nvPr/>
        </p:nvPicPr>
        <p:blipFill>
          <a:blip r:embed="rId7"/>
          <a:stretch/>
        </p:blipFill>
        <p:spPr>
          <a:xfrm>
            <a:off x="1476360" y="206064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Výsledek obrázku pro america 50s nasa"/>
          <p:cNvPicPr/>
          <p:nvPr/>
        </p:nvPicPr>
        <p:blipFill>
          <a:blip r:embed="rId8"/>
          <a:stretch/>
        </p:blipFill>
        <p:spPr>
          <a:xfrm>
            <a:off x="7093080" y="2421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carfactory"/>
          <p:cNvPicPr/>
          <p:nvPr/>
        </p:nvPicPr>
        <p:blipFill>
          <a:blip r:embed="rId9"/>
          <a:stretch/>
        </p:blipFill>
        <p:spPr>
          <a:xfrm>
            <a:off x="2987640" y="213372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1950s-date"/>
          <p:cNvPicPr/>
          <p:nvPr/>
        </p:nvPicPr>
        <p:blipFill>
          <a:blip r:embed="rId10"/>
          <a:stretch/>
        </p:blipFill>
        <p:spPr>
          <a:xfrm>
            <a:off x="0" y="1916280"/>
            <a:ext cx="15476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HARLES 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M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16 -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Výsledek obrázku pro c w mills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Výsledek obrázku pro sociologická imaginace"/>
          <p:cNvPicPr/>
          <p:nvPr/>
        </p:nvPicPr>
        <p:blipFill>
          <a:blip r:embed="rId2"/>
          <a:stretch/>
        </p:blipFill>
        <p:spPr>
          <a:xfrm>
            <a:off x="1403280" y="2708280"/>
            <a:ext cx="2624040" cy="41497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Výsledek obrázku pro mocenská elita mills"/>
          <p:cNvPicPr/>
          <p:nvPr/>
        </p:nvPicPr>
        <p:blipFill>
          <a:blip r:embed="rId3"/>
          <a:stretch/>
        </p:blipFill>
        <p:spPr>
          <a:xfrm>
            <a:off x="4356000" y="2690640"/>
            <a:ext cx="2567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32320" y="2997360"/>
            <a:ext cx="463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ůsobil na Harvardu, U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0.  -70. lé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kus o sjednocení soc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Čerpá z tradice Durkheima, Pare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Comta, ale i We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Teori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turní funkcional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Strukuta, funkce, jedn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Výsledek obrázku pro TALCOTT PARSONS"/>
          <p:cNvPicPr/>
          <p:nvPr/>
        </p:nvPicPr>
        <p:blipFill>
          <a:blip r:embed="rId1"/>
          <a:stretch/>
        </p:blipFill>
        <p:spPr>
          <a:xfrm>
            <a:off x="0" y="1063800"/>
            <a:ext cx="404640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211640" y="333360"/>
            <a:ext cx="50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TALCO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ARS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293000" y="1989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1902 -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8920" y="27082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Hlavní dí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Výsledek obrázku pro talcott parsons book"/>
          <p:cNvPicPr/>
          <p:nvPr/>
        </p:nvPicPr>
        <p:blipFill>
          <a:blip r:embed="rId1"/>
          <a:stretch/>
        </p:blipFill>
        <p:spPr>
          <a:xfrm>
            <a:off x="395280" y="3716280"/>
            <a:ext cx="17146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Výsledek obrázku pro talcott parsons book"/>
          <p:cNvPicPr/>
          <p:nvPr/>
        </p:nvPicPr>
        <p:blipFill>
          <a:blip r:embed="rId2"/>
          <a:stretch/>
        </p:blipFill>
        <p:spPr>
          <a:xfrm>
            <a:off x="2556000" y="3716280"/>
            <a:ext cx="1731960" cy="2602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788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Výsledek obrázku pro Societies: evolutionary and comparative"/>
          <p:cNvPicPr/>
          <p:nvPr/>
        </p:nvPicPr>
        <p:blipFill>
          <a:blip r:embed="rId3"/>
          <a:stretch/>
        </p:blipFill>
        <p:spPr>
          <a:xfrm>
            <a:off x="4643280" y="3716280"/>
            <a:ext cx="1743120" cy="25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Výsledek obrázku pro talcott parsons book"/>
          <p:cNvPicPr/>
          <p:nvPr/>
        </p:nvPicPr>
        <p:blipFill>
          <a:blip r:embed="rId4"/>
          <a:stretch/>
        </p:blipFill>
        <p:spPr>
          <a:xfrm>
            <a:off x="6804000" y="3716280"/>
            <a:ext cx="168264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2"/>
          <p:cNvSpPr/>
          <p:nvPr/>
        </p:nvSpPr>
        <p:spPr>
          <a:xfrm>
            <a:off x="72702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20400" y="3213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5108040" y="3141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42920" y="765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ARSONSOVSKÉ ZDROJ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76360" y="2084400"/>
            <a:ext cx="624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URKHE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a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organické pojetí -&gt; systémová teori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WE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ociální jednání jako ústřední kateg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= POKUS O SYNTÉ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 v rámci stru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835280" y="76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FUNKC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68080" y="2133720"/>
            <a:ext cx="8004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ŘÍČINNÉ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azby mezi jednáním a jeho zdroj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bez ohledu na vědomí aktéra sledujeme souvislosti chování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ROZUMĚ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vědomé kategorie přikládané aktéry jedn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- účel, dů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FUNKČNÍ VY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Jaké jsou objektivní dopady jednání v rámci systém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zaměření na důsledky, které jsou struktur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76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neplést s funkcionalism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v architektu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Výsledek obrázku pro modulor corbusier"/>
          <p:cNvPicPr/>
          <p:nvPr/>
        </p:nvPicPr>
        <p:blipFill>
          <a:blip r:embed="rId1"/>
          <a:stretch/>
        </p:blipFill>
        <p:spPr>
          <a:xfrm>
            <a:off x="108000" y="1989000"/>
            <a:ext cx="4170240" cy="21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ýsledek obrázku pro habitat corbusier"/>
          <p:cNvPicPr/>
          <p:nvPr/>
        </p:nvPicPr>
        <p:blipFill>
          <a:blip r:embed="rId2"/>
          <a:stretch/>
        </p:blipFill>
        <p:spPr>
          <a:xfrm>
            <a:off x="5238720" y="2060640"/>
            <a:ext cx="390528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Výsledek obrázku pro habitat corbusier"/>
          <p:cNvPicPr/>
          <p:nvPr/>
        </p:nvPicPr>
        <p:blipFill>
          <a:blip r:embed="rId3"/>
          <a:stretch/>
        </p:blipFill>
        <p:spPr>
          <a:xfrm>
            <a:off x="0" y="4246560"/>
            <a:ext cx="5275440" cy="261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Výsledek obrázku pro le corbusier"/>
          <p:cNvPicPr/>
          <p:nvPr/>
        </p:nvPicPr>
        <p:blipFill>
          <a:blip r:embed="rId4"/>
          <a:stretch/>
        </p:blipFill>
        <p:spPr>
          <a:xfrm>
            <a:off x="7740720" y="5051520"/>
            <a:ext cx="12351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Výsledek obrázku pro le corbusier"/>
          <p:cNvPicPr/>
          <p:nvPr/>
        </p:nvPicPr>
        <p:blipFill>
          <a:blip r:embed="rId5"/>
          <a:stretch/>
        </p:blipFill>
        <p:spPr>
          <a:xfrm>
            <a:off x="5219640" y="5157720"/>
            <a:ext cx="22384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-100080"/>
            <a:ext cx="9144000" cy="1052640"/>
          </a:xfrm>
          <a:prstGeom prst="rect">
            <a:avLst/>
          </a:prstGeom>
          <a:solidFill>
            <a:srgbClr val="3399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Výsledek obrázku pro talcott parsons comix"/>
          <p:cNvPicPr/>
          <p:nvPr/>
        </p:nvPicPr>
        <p:blipFill>
          <a:blip r:embed="rId1"/>
          <a:stretch/>
        </p:blipFill>
        <p:spPr>
          <a:xfrm>
            <a:off x="6732720" y="3573360"/>
            <a:ext cx="228600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Oval 8"/>
          <p:cNvSpPr/>
          <p:nvPr/>
        </p:nvSpPr>
        <p:spPr>
          <a:xfrm>
            <a:off x="755640" y="836640"/>
            <a:ext cx="5688000" cy="403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e mi tedy o 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spojit dvě tradice sociologického myš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sadit pojem sociálního jednání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ho rá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konám tak nedostatek současné sociolog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 se příliš věnuje dílčím témat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nemá aspiraci vytvořit teorii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em nevyléčitelný teoret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3933720"/>
            <a:ext cx="266760" cy="265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6443640" y="3500280"/>
            <a:ext cx="504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8:32:13Z</dcterms:created>
  <dc:creator>x</dc:creator>
  <dc:description/>
  <dc:language>en-US</dc:language>
  <cp:lastModifiedBy>Doricakova</cp:lastModifiedBy>
  <dcterms:modified xsi:type="dcterms:W3CDTF">2019-11-13T09:23:56Z</dcterms:modified>
  <cp:revision>23</cp:revision>
  <dc:subject/>
  <dc:title>Snímek 1</dc:title>
</cp:coreProperties>
</file>