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965-B21E-4CAC-825A-B8C0E63EF71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9C22-0D4B-4DBD-8D39-CB2784B02AD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FD0-14F2-4616-9B80-3F44A8C9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C9C-DDFC-4914-AF1D-614EA43A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FD6-D188-498F-AD30-A57D20BC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925-CF0D-42AB-A515-FCF49C5E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F7EC-3246-4D73-A0FB-46CE2EC7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F39F-0289-47A8-B1A9-D2BB12E8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EE4D-E315-49AA-8F8F-8CCE504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26A6-3A50-495B-901D-BA9365E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41A-A01B-4E5D-B4AE-67F660B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8836-AB5A-475D-BDD4-2A85FABA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3E6C-27AA-4860-BB4A-223DA88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05D-6615-4A66-9AD1-311BD33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E837-5D25-412D-B771-0EF970E2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8B32-A332-4C6D-AA61-7B84AA68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8BF2-9181-4958-9361-D88BCC1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3D6-04EC-4967-9C60-CBC72B7A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B3E3-AFE1-4270-AB1F-1EF55828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DEB-AC45-4DCF-89D8-28A4E412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94D-4304-400D-919F-A93E80EF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59F-C6AF-4E44-BE5B-8E53277D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150-6B22-4A86-B2F8-62DB2889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663-2491-4806-A6B3-C33B185F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E8A-E8B3-419C-8500-93C9E14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E47-5054-4E5D-A9CE-CE9B5CD5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6B1-4543-4A1F-B1CF-A075526C37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3B5C-D2E0-4555-99FC-5F7CFB47DEF4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ndpravidla2_0.doc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. 10. 2023: JAK třídíme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 třídění jako součást procedur informačního systé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chodiska a koncepty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 informačního objektu z hlediska procesu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rganizace formy a obsahu informačního obje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ologie třídě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SAHOVÉ ZPRACOVÁNÍ DOKUMEN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émantická redukce dokument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24000" y="1905120"/>
            <a:ext cx="64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ace plného textu doku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vyhledávání podle ob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ce, klas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strahování/refe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ekt/algorit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/P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roces věcného zprac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běr znaků SJ a tvorba selekčního obrazu dokumentu (S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Úč. 1.4.1996. 12 s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vidla (indexační pravid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4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content/subject analy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rčení obsahu dokumentu na základ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ýznamy viz TDK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dukova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bstrakt, resumé, výtah, anot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ch adekvátních 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ásadní význam pro kvalitu S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zuměn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zy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dentifikace pojm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1905120"/>
            <a:ext cx="64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funkce IS a potřeb uži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ýznamu a rozsahu doku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hlednění všech adekvátních obsahových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důležitosti pojmů/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lejší pojmy/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jádř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ýběr znaků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95280" y="152388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ce/klasifikace (PSJ/SS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znalost konkrétního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sah zachycení hlavních a vedlejších té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znaků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ecifičnost indexace/klasifik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běr nejspecifičtějšího znaku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hledi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ubjektivní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: ČTT/UK-ET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01T11:14:37Z</cp:lastPrinted>
  <dcterms:modified xsi:type="dcterms:W3CDTF">2023-10-20T09:12:21Z</dcterms:modified>
  <cp:revision>188</cp:revision>
  <dc:subject/>
  <dc:title>Selekční jazyky</dc:title>
</cp:coreProperties>
</file>