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10018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567648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3287520" y="515520"/>
            <a:ext cx="3444840" cy="258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567648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BA2B-CF22-4282-9D5C-301620F4748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5676840" y="6541920"/>
            <a:ext cx="43419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436F-6A63-462E-8718-92ED651628A8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4840" cy="2584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87EA-E9E5-4D1B-A991-515F86C9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AE59-D9C2-468D-A085-2C72C207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939A-C925-4E67-8137-F1D1DE091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94E3-C1C1-4D3A-9032-056861A04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E900-E35B-4495-997A-950E0AB49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9700-741E-431C-B7C2-3B24FA33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3BD5-9B43-406B-AE48-18CF08ED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F914-6D4F-4604-9EDB-966D3416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646A-A34F-4662-8EAC-407C2ED0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CBD6-822D-4F70-86C8-48A6F79E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EDBC-45CA-4EDF-8FC6-B3D11A4E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8D1B-282B-42BA-9620-26708E17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6567-6BC6-47A3-AF67-4387D4CA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8754-F49B-492B-9C59-E5311F26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C81E-7CAD-41D4-A0A2-9C7A6084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0F82-A8DC-456F-B460-62774DC23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3136-9218-4821-950B-638FBE1BD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77D1-7F20-45CA-89E2-ACA20F54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AD92-3A55-4590-9B3F-03F793E7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FB51-3275-48CB-A478-785F58FB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2A8C-E28C-486B-B4C7-65A5BFFE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040D-D14A-4A44-8396-498B88D3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5DBF-9D94-47AF-8CB7-F42B331D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3621-684C-4781-A5F1-CA28A5B3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4439-2F9E-4D8F-B851-E341A3E0B1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BB18-62B2-4928-A31A-E8647C643FB7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126172@mail.muni.cz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indpravidla2_0.doc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SKB18</a:t>
            </a:r>
            <a:br>
              <a:rPr sz="1600"/>
            </a:b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Organizace informac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0. 10. 2023: JAK třídíme 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ISK FF MU, podzim 20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126172@mail.muni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23640" y="30456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24000" y="1905120"/>
            <a:ext cx="6486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oces třídění jako součást procedur informačního systém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chodiska a koncepty třídě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charakteristiky informačního objektu z hlediska procesu třídě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rganizace formy a obsahu informačního objek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etodologie třídě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BSAHOVÉ ZPRACOVÁNÍ DOKUMENT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TOD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émantická redukce dokumentů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124000" y="1905120"/>
            <a:ext cx="6486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úč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prezentace plného textu dokumen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žnost vyhledávání podle obsa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oces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sahová analý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exace, klasif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strahování/refer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ástro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lekt/algorit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J/P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Obecný proces věcného zprac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050920" y="1905120"/>
            <a:ext cx="648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bsahová analý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dentifikace pojm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ýběr znaků SJ a tvorba selekčního obrazu dokumentu (SO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ČSN ISO 5963. Dokumentace. Metody analýzy dokumentů, určování jejich obsahu a výběru lexikálních jednotek selekčního jazyka.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Úč. 1.4.1996. 12 s.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avidla (indexační pravidl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Obsahová analýz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124000" y="1599840"/>
            <a:ext cx="6486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content/subject analys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určení obsahu dokumentu na základě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lného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orientační, kurzorické/diagonální, selektivní, statarické, racionální čtení –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významy viz TDKI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dukovaného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bstrakt, resumé, výtah, anot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lších adekvátních čá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zev, obsah, rejstřík, úvod, závěr, zvýrazněné části textu ap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ásadní význam pro kvalitu S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rozumění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zyk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bor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ečliv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Identifikace pojmů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50920" y="1905120"/>
            <a:ext cx="648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ýchodis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ohlednění funkce IS a potřeb uži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ohlednění významu a rozsahu dokumen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ohlednění všech adekvátních obsahových hledis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ovení důležitosti pojmů/té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avní pojmy/té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dlejší pojmy/té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yjádře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líčová sl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rozený jazy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ýběr znaků SJ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195280" y="1523880"/>
            <a:ext cx="64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ndexace/klasifikace (PSJ/SSJ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edpoklad: znalost konkrétního S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úplnost indexace/klasifik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sah zachycení hlavních a vedlejších té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znaků S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pecifičnost indexace/klasifik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běr nejspecifičtějšího znaku S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ndexační hledis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. předmět/téma, čas, místo, entita, proces/činnost, vzt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ekoordinace/postkoordin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ubjektivní aspek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ndexační pravidl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příklad: ČTT/UK-ETF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cp:lastPrinted>2019-11-01T11:14:37Z</cp:lastPrinted>
  <dcterms:modified xsi:type="dcterms:W3CDTF">2023-10-20T09:12:21Z</dcterms:modified>
  <cp:revision>188</cp:revision>
  <dc:subject/>
  <dc:title>Selekční jazyky</dc:title>
</cp:coreProperties>
</file>