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6BD3-5498-4BE8-951D-E6E4A2324F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5E09-B1CA-4B82-BD5B-D1EEB97E1D9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9F5-202C-467A-BFF0-3318CD81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D8E-FD48-4234-B9F8-86588FAF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F54-FDDF-4E9E-9CD4-E99096FD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261-C32C-4423-BF8C-575FABD3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0EC4-CA1D-483B-A744-2BB5534C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801E-CFC1-4262-B6DF-D26CF1D2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DFFC-01AF-48D0-B675-13634ADB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3BDA-EAC9-4EBF-B87A-232913C3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D2C0-C165-4ABC-AB52-ACAA4FD7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C20E-D4C9-49C6-A72C-6689B21D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3E47-6C5D-4B8D-BD6F-7B085C5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42D-71C0-490C-911C-66A6DB17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53DC-9FFC-4FCE-B987-03D52EFB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287D-03B2-4BE9-B37C-9CB3F5F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9470-BC7A-40B3-9BF9-DE2A3E6D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F85-5282-4E4D-A96F-216603D3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0FFD-BDD9-4A6C-970D-F077FBA5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2DE-926A-4D4D-ADE3-23DD8332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19C-4072-4EFF-8F12-EF3B0B3E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2E4-679C-4A2D-90A6-C5E7E89E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281-BF33-4A4C-869E-79BE470B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477-659F-4529-9D14-44EA18BE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A6F-F596-406C-B720-2B5853CB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F1B-4520-4BF6-9075-347D526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FC48-C708-4546-A9B4-E1007E8E39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2579-7FCB-47B5-A1E4-F629FF045536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ndpravidla2_0.doc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. 10. 2023: JAK třídíme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24000" y="1905120"/>
            <a:ext cx="64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 třídění jako součást procedur informačního systé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chodiska a koncepty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 informačního objektu z hlediska procesu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rganizace formy a obsahu informačního obje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odologie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SAHOVÉ ZPRACOVÁNÍ DOKUMEN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émantická redukce dokument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24000" y="1905120"/>
            <a:ext cx="64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prezentace plného textu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vyhledávání podle ob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ce, klas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strahování/refe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ástro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lekt/algorit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J/P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ecný proces věcného zpra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920" y="1905120"/>
            <a:ext cx="64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dentifikace po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běr znaků SJ a tvorba selekčního obrazu dokumentu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Úč. 1.4.1996. 12 s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vidla (indexační pravid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4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ontent/subject analys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rčení obsahu dokumentu na základě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ýznamy viz TDK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duk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bstrakt, resumé, výtah, an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ch adekvátních čá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ásadní význam pro kvalitu S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ozuměn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čl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dentifikace pojm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0920" y="1905120"/>
            <a:ext cx="64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funkce IS a potřeb uži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významu a rozsahu doku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všech adekvátních obsahových hled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důležitosti pojmů/té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pojmy/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dlejší pojmy/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jádř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íčo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rozený 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běr znaků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95280" y="152388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ce/klasifikace (PSJ/SS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: znalost konkrétního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plnost indexace/klasif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zachycení hlavních a vedlejších té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znaků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ecifičnost indexace/klasif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nejspecifičtějšího znaku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ční hledi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ubjektivní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: ČTT/UK-ET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01T11:14:37Z</cp:lastPrinted>
  <dcterms:modified xsi:type="dcterms:W3CDTF">2023-10-20T09:12:21Z</dcterms:modified>
  <cp:revision>188</cp:revision>
  <dc:subject/>
  <dc:title>Selekční jazyky</dc:title>
</cp:coreProperties>
</file>