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3A60-8E3D-46EB-871A-DB17273811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FB0B-8608-4486-870F-E24439C86BD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01C-44DA-494C-9AC3-44DBECF1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769-94B2-4E1D-B5D1-72E2D04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19E-1E29-4FF2-87A8-D4C929F2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D86-1884-46C5-A185-F7300BD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7DF0-B5B2-4C25-90A3-833F3782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36C7-0552-4364-BDC5-AD484EB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1E9-C382-4FAC-BBD6-0D5E3E4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72B-E1CC-418D-A6A1-399BA8C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8F4-8331-4800-B9BC-EB71BE7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48BA-4421-4C5A-9CEF-78BF4E8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1567-4E56-485B-BC46-D647B23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25C-1E8B-4020-8EB8-C214FA0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2DD0-3294-46B6-9E36-9196BA8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DC7E-6D85-4A4F-BF41-CCF9920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FA06-CBB3-415E-9C11-E82B3C84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8DC6-97C6-4D65-9DFA-6FB7A17C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C3B8-3254-45F5-948D-1BE19733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735-34DB-4617-86E2-83B1B8E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14E-CEBA-4E21-876D-8FE26AF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DAA-7AC3-4685-B8FE-57BF2B7E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5D6-EEF4-47EB-8CF1-6B483DF7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0EE-E3DA-43B0-B25A-6956AAA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924-27BE-4DA3-B759-B8E31CF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3D8-ED17-4AF8-BB9B-59DB9E7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40B-A85F-41AC-95E9-B1C1574F6A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45A8-0CF5-4094-A074-4A7AC56E6D6B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ndpravidla2_0.doc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. 10. 2023: JAK třídíme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 třídění jako součást procedur informačního systé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chodiska a koncepty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 informačního objektu z hlediska procesu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ganizace formy a obsahu informačního obje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ologie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OVÉ ZPRACOVÁNÍ DOKUMEN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á redukce dokument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ace plného textu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vyhledávání podle ob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ce, kl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strahování/refe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ekt/algo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/P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roces věcného zpra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běr znaků SJ a tvorba selekčního obrazu dokumentu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Úč. 1.4.1996. 12 s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vidla (indexační pravid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4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ontent/subject analy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rčení obsahu dokumentu na základ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ýznamy viz TDK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duk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trakt, resumé, výtah, an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ch adekvátních 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ásadní význam pro kvalitu S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zuměn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funkce IS a potřeb uži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ýznamu a rozsahu doku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šech adekvátních obsahových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důležitosti pojmů/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lejš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jádř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běr znaků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95280" y="152388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ce/klasifikace (PSJ/SS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znalost konkrétního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zachycení hlavních a vedlejších 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znaků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ecifič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nejspecifičtějšího znaku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hle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ubjektivní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: ČTT/UK-ET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01T11:14:37Z</cp:lastPrinted>
  <dcterms:modified xsi:type="dcterms:W3CDTF">2023-10-20T09:12:21Z</dcterms:modified>
  <cp:revision>188</cp:revision>
  <dc:subject/>
  <dc:title>Selekční jazyky</dc:title>
</cp:coreProperties>
</file>