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5D32-AD2C-4F63-91F7-5DA3DB2793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8815-8F54-451D-9061-47B8409F637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985-59DA-4AED-8997-1B4C3F84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415-43D2-43E4-90D9-58626285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9FA-3DA1-4D93-BECB-02354246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E70-954B-4B95-845D-9D30B0DD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913B-5281-43AB-9CEF-6F1428E0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44FA-7EB9-41B2-B71D-2D88423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AB9C-33DD-4603-9434-2398BC42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9572-D37C-43DB-9EC0-B3EA3DF4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2BA8-1538-4E6D-9F83-AAA20902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B0E8-E3E5-4256-95DA-DA1424B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B025-C5D5-483E-83A1-FBD870EE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9BD-A751-46B7-82E8-E4665B9C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07D2-9472-4407-BB0A-768D5C58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84F7-48F8-4A92-BA50-11A36AF5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995F-5B78-4D86-B04F-59640ED7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01BB-DF0A-49AF-B063-0019FD99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33B-0868-43F8-928D-EE3698F0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D60-DC2E-42C9-B3B1-E7AFE0E4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FAB-5F9C-4F4B-9325-5F91FE47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82D-AF6E-4900-8065-71AC5380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D85-682E-4172-815B-AE928433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A69-EB04-4147-A6A0-2F35374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339-388E-441C-B3A2-0B4C8D0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485-4CCB-4491-A844-91DA19C7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FFB0-9CBE-450B-B253-CCEA35A256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7057-C900-4EE7-9458-598B1FC07AAB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7. 10. 2023: JAK třídíme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aktory ovlivňující indexa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3320" y="1302840"/>
            <a:ext cx="627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.: zkušenost a znalost SJ, znalost oboru, porozumění textu, systematické myšlení, racionální č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bj.: soustř., pečlivost, nálada, únava, motiv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/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r, struktura, délka, styl, žánr, pomocný aparát,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. doba, produktivita práce, prac. prostředí, technick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190440"/>
            <a:ext cx="6626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trola a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40000" y="1523880"/>
            <a:ext cx="627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rocesu index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s obsahem data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ost a úplnost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ná i formální správnost přiřazených pořádacích zna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l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a přes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(recall)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relevant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snost (precision)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vyhledaný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ěr mezi úplností a přesnost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6778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ata: kontrola indexace UK-ETF 1998-9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případová stu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jčastější typy chy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ominutí hledisek (18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právné stanovení významu nebo rozsahu deskriptoru (12,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ějící jednotlivé deskriptory (11,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ovlivnění úplnost a přesnost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xní chyby snižující úplnost (23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(22,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i přesnost (14,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8000" y="1828800"/>
            <a:ext cx="677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fáze index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sahová analýza (18,1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dentifikace pojmů (42,3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ační pravidla,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: opominutí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běr deskriptorů z tezauru (20,8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, indexační pravidla,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8000" y="1905120"/>
            <a:ext cx="6702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rovnávání různých typů selekčních jazyk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vzorku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vnání formou rešeršních dot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zistence indexá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erimentální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a nebo více index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orek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pretace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ípadová stu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yužití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0" y="1905120"/>
            <a:ext cx="634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lexika n.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poznámek o roz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4600" y="190440"/>
            <a:ext cx="65595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vlivy a ome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aluace výsledků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560" y="1700280"/>
            <a:ext cx="6945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ní indexace – taková indexace, která zajistí (ne)vyhledání dokumentu v rámci konkrétního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lnost (hlediska, faz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nost (specifič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relativní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 a zaměření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řeby a požadavky uži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lze hodnotit kvantitativními meto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ovlivňující kvalitu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LAN03, kap. Quality of Index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kumenty stejného obsahu by měly být indexovány ste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a shody dvou nebo více S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 konz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indexátory (inter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oda indexace mezi dvěma nebo více indexá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átora (intra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indexace jednoho index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z hlediska hloubky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hlavn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vedlejš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AN03, Consistency of Index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63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jice indexátorů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zv. konzistenční pár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onsistency pai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a 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počet pořádacích znaků, které shodně zvolili ob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celkový počet přidělených jedinečných pořádacích zn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908000" y="2673000"/>
            <a:ext cx="3005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851280" y="181944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896000" y="2583000"/>
            <a:ext cx="3809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56000" y="508464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a =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b =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a / b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než dv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průměr konzistenčních pá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2256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780000" y="1946160"/>
            <a:ext cx="2666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5800" y="47242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2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5 / 7 = 0,71 = 71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2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3 / 9 = 0,33 = 3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(0,25+0,71+0,33)/3 = 0,43 = 4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134040" y="2008080"/>
            <a:ext cx="2971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3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Páte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vs 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77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tah kvality a konzistence není bezprostře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tní indexace neznamená kvali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ní indexace zahrnuje i konzisten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ce indexace zlepšuje efektivitu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hlediska správy databáze je konzistence kvali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konzistence z pr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15T11:20:14Z</cp:lastPrinted>
  <dcterms:modified xsi:type="dcterms:W3CDTF">2023-10-27T14:44:54Z</dcterms:modified>
  <cp:revision>175</cp:revision>
  <dc:subject/>
  <dc:title>Selekční jazyky</dc:title>
</cp:coreProperties>
</file>