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CF06-B8FC-44D1-8C10-7EA100AD3A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9661-BF49-46D7-AA87-F0A36214DDA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849-68E7-4E0D-A621-2DEF9A5F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DA3-2A0F-486B-A7DB-2A4440AE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0A6-CCA7-4905-901C-7A2505FA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4C4-55E6-4436-A073-999879EC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86D1-D6D6-42F5-8E68-EE362D57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CD92-2227-4F16-8F80-958B1CF9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EA97-4795-47AD-BEA0-C80E4BC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441B-F014-4DE0-BF3E-2CDB801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79DD-4BBF-4710-9E39-740555F9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5C72-E891-4F39-AA7F-34E2A57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480E-6D49-4477-A3ED-C5FB3A3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4A7-C6F4-43EE-9899-9868F7A5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4AD-8EAC-4850-8D71-8557B33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35B5-6B27-4F05-84CF-51308373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5857-E42F-474F-9841-0F02BCE1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F8AF-431B-42FA-B398-0ADE344F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100F-F9D7-46FB-9287-7CFE1CE8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4F9-13CF-4D5B-91AC-CC274FB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331-4BCE-401E-996F-21A1581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046-7089-495A-BA52-EBA6105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93E-C39D-4429-B4A7-2B170830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AF1-E935-4D68-B577-1AA5187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EA9-A4D7-4762-8850-9E4883D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641-B72C-4DE0-9C10-D9FBA8BC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CB6-E493-4CEF-8517-D434D58D1F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C4B-2274-4666-AD9A-D3FAE2FB6303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7. 10. 2023: JAK třídíme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aktory ovlivňující indexa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3320" y="1302840"/>
            <a:ext cx="627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bj.: soustř., pečlivost, nálada, únava, moti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/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r, struktura, délka, styl, žánr, pomocný aparát,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190440"/>
            <a:ext cx="6626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trola a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40000" y="1523880"/>
            <a:ext cx="627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ocesu index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s obsahem data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ost a úplnost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l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a přes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(recall)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snost (precision)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ěr mezi úplností a přesnos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6778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ata: kontrola indexace UK-ETF 1998-9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případová stu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jčastější typy chy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ominutí hledisek (18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právné stanovení významu nebo rozsahu deskriptoru (12,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ějící jednotlivé deskriptory (11,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ovlivnění úplnost a přesnost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xní chyby snižující úplnost (23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(22,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i přesnost (14,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8000" y="18288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fáze index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sahová analýza (18,1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dentifikace pojmů (42,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ační pravidla,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: opominutí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běr deskriptorů z tezauru (20,8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, indexační pravidla,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8000" y="1905120"/>
            <a:ext cx="6702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rovnávání různých typů selekčních jazy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vzorku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vnání formou rešeršních dot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zistence indexá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erimentální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a nebo více index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orek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pretace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ípadová stu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užití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0" y="1905120"/>
            <a:ext cx="634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lexika n.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poznámek o roz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4600" y="190440"/>
            <a:ext cx="65595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vlivy a ome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aluace výsledků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560" y="1700280"/>
            <a:ext cx="6945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ní indexace – taková indexace, která zajistí (ne)vyhledání dokumentu v rámci konkrétního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lnost (hlediska, faz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nost (specifič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relativní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 a zaměření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řeby a požadavky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lze hodnotit kvantitativními meto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ovlivňující kvalitu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LAN03, kap. Quality of Index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kumenty stejného obsahu by měly být indexovány ste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a shody dvou nebo více S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konz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indexátory (inter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oda indexace mezi dvěma nebo více index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átora (intra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indexace jednoho index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z hlediska hloubky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hlavn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vedlejš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AN03, Consistency of Inde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63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ice indexátorů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zv. konzistenční pár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onsistency pai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a 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08000" y="2673000"/>
            <a:ext cx="3005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51280" y="181944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896000" y="258300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56000" y="508464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ž dv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průměr konzistenčních pá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2256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780000" y="1946160"/>
            <a:ext cx="2666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2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2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134040" y="2008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vs 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77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tah kvality a konzistence není bezprostře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tní indexace neznamená kvali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ní indexace zahrnuje i konzisten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ce indexace zlepšuje efektivitu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hlediska správy databáze je konzistence kvali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konzistence z pr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15T11:20:14Z</cp:lastPrinted>
  <dcterms:modified xsi:type="dcterms:W3CDTF">2023-10-27T14:44:54Z</dcterms:modified>
  <cp:revision>175</cp:revision>
  <dc:subject/>
  <dc:title>Selekční jazyky</dc:title>
</cp:coreProperties>
</file>