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D34A-F81F-45F3-A035-C519651141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2B85-29AB-4CBB-A0F9-F1420BDF28E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78C-A1A1-49A3-9567-9CD2F97FA98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75C-0C82-4B0F-B701-C1591333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E2B-42FD-4CBC-BA2E-5FE81EBB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E92-38E1-4E08-A0F1-4FE7EFB5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41B-88B6-4A47-BDBD-246D1B42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197F-C9A9-4D7E-A62E-04E776FF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B235-A72C-42A7-ADFA-30551A9F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8636-BA27-4442-85E1-C7F45F26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093C-E4D3-4EC1-B3EC-4F79A240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264E-2EC2-4894-BEEF-89B9020A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0648-435A-4CC6-951C-07731A6D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C395-824B-47AD-A7C2-7761918D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11E-D4E9-4595-9C2A-1C4FCBFF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6C8C-97E0-47C0-9E99-54155FC5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D53C-A112-4106-BE0D-12FA01F4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E219-187B-4767-B3BB-0224B1EF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FAB5-2C22-4F76-9608-1C0C2069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5AD8-B901-4245-85E0-7495249B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2EC-00A1-4F68-9C9F-127DFECE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E73-A9C1-4D72-916B-A02E15C0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C6B-719C-4EFC-82BF-F6A2F5C7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FF9-F446-4943-A91A-1F0ECEBE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E58-245F-46C1-80A1-1CFE406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841-6F72-43AA-83DD-0CEA4F9F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EA0-59BD-41E0-81CB-353B787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75B8-A898-43A7-B8FA-72988C6B23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247-1F78-4F6F-B277-54F70AB4CCCA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b.cas.cz/online-katalogy/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. 11. 2023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 s tříděnými informacemi NAKLÁDÁ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ové termíny, pojmy,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blémů, ovšem s rozptylem daným odlišnostmi mezi jednotlivými autory i terminologickým výv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množina lexikální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specifické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(v rámci SOD) není potř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blízkosti zadaných výrazů (fr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segmentem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élka SOD /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á (selec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á (exhaus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rimova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kt, anotace, výtah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komprim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ý text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řístupný všem typům uži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ečné znalosti systému však uživatel může být frustrován omezeným nebo naopak nadměrný počtem vyhledaným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žadavky na přesnost/úpl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podle konkrétních podmínek zvyšuje 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úp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né hodnocení ŘS vs F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0560" y="1676160"/>
            <a:ext cx="65595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edávání pomocí řízeného slovníku i v plném textu má své výhody i nevýh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použití je třeba zvažovat podle konkrétních potř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bridní systé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ý text i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ovaný dotaz – systém T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erní modely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torov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entní sémantické index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stupní a výstupní proced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, jednoduch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očilé, podrobn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AV, PubMed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dostupný: KN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samostatně: NTK (P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při vyhledávání: N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otextové (fulltextové)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blémy při věcném vyhledávání</a:t>
            </a:r>
            <a:br>
              <a:rPr sz="34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ohledem na přirozený jazyk a řízený slovní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 ovlivňující vyhledávání (výběrov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e slovník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vyhledávání nových termínů (pojmů, té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délkou SOD neb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uživat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přesnost a/nebo úp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346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předjímat potřeby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63640" y="1905120"/>
            <a:ext cx="317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yhledávání bez vl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kojivě řeší z hlediska textu i z hlediska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andardních systémech nutnost formulace několika dota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ní latentní sémant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řeš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účinné: antropolog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ivátor slovních 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ynonymie, homonymie, polysémie at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 a další jazykové jevy vyřešen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zohlednit při formulaci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homonyma (objetí, travička, župan, obča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matická homonyma (ženu, j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obecné úrovni obtížně řeš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aradigmatické vztahy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é vs specifické poj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i v ŘS problémy s vyjádřením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nz -&gt; slitina ko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esta -&gt; typ vrcholu k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8-11-30T07:09:33Z</cp:lastPrinted>
  <dcterms:modified xsi:type="dcterms:W3CDTF">2023-11-10T14:47:44Z</dcterms:modified>
  <cp:revision>173</cp:revision>
  <dc:subject/>
  <dc:title>Selekční jazyky</dc:title>
</cp:coreProperties>
</file>