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89E0-5B9B-484F-AC6F-5A702C5BF3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B33A-6428-4150-A7B9-485EBB59BDE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5CC0-B1D9-4DCB-AA9B-4DFB2BE74D4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DFB-407E-42A8-8502-5CEA8202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19E-C9B6-4AB9-AEC5-927B1E1D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479-2CA9-40E5-A6B2-2D147DE3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00E-D385-498E-BC2C-EABADB8D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D0C6-25E3-43A8-89A7-0CED51A1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7F5D-01C9-40B6-897C-60FC01D1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443F-0BB9-44C9-A201-025946F5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5D2C-6BE8-42C6-AD54-89D21FD0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3831-323E-4E75-BC34-6C2FC3BD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A667-2166-4E17-95E5-79FC8035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B448-7681-4D5A-B86C-528BCAA9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165-5F11-4A80-AF76-1496F7B6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7D23-64A8-4860-9661-DD81E506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3F8E-1FD2-4862-BE8C-4EC39B30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ED38-983C-45E7-BE47-31EF2726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D6EB-89AE-43A3-ABA2-6D05CD92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BBE9-41A0-46E2-A52F-B9818BB6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A5D-A4C5-445B-8706-8DE0046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F3B-3B4A-4411-A5E5-76455608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B33-49CD-4CAA-A1C6-F67761BC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ECD-E502-4451-8ECE-A6CA6E8E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AEC-32E2-4E48-B520-C5E90EA6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2B0-E90E-49EA-BFA3-D119E5E0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47C-0C42-428A-AB9E-19491BAD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0396-F9E9-4115-B41B-C34E10CF70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EA19-8BFA-400C-828B-343C4400D1EE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b.cas.cz/online-katalogy/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. 11. 2023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AK s tříděnými informacemi NAKLÁDÁ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Nové termíny, pojmy,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problémů, ovšem s rozptylem daným odlišnostmi mezi jednotlivými autory i terminologickým výv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množina lexikální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specifické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(v rámci SOD) není potř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blízkosti zadaných výrazů (frá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ximitní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segmentem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élka SOD / tex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ová (selec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á (exhaus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rimovaný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kt, anotace, výtah 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komprim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ý text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řístupný všem typům uži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nedostatečné znalosti systému však uživatel může být frustrován omezeným nebo naopak nadměrný počtem vyhledaným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žadavky na přesnost/úpl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pře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podle konkrétních podmínek zvyšuje 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úp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sledné hodnocení ŘS vs F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0560" y="1676160"/>
            <a:ext cx="65595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hledávání pomocí řízeného slovníku i v plném textu má své výhody i nevýho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jich použití je třeba zvažovat podle konkrétních potře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ybridní systé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ý text i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ovaný dotaz – systém TOP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oderní modely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torov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tentní sémantické index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stupní a výstupní proced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848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, jednoduch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ročilé, podrobn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AV, PubMed,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dostupný: KN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samostatně: NTK (P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při vyhledávání: N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otextové (fulltextové)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roblémy při věcném vyhledávání</a:t>
            </a:r>
            <a:br>
              <a:rPr sz="3400"/>
            </a:b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 ohledem na přirozený jazyk a řízený slovní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 ovlivňující vyhledávání (výběrov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fak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e slovník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vyhledávání nových termínů (pojmů, té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délkou SOD neb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uživate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přesnost a/nebo úp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905120"/>
            <a:ext cx="346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předjímat potřeby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63640" y="1905120"/>
            <a:ext cx="317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yhledávání bez vli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pokojivě řeší z hlediska textu i z hlediska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standardních systémech nutnost formulace několika dotaz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ní latentní sémanti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řeš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ykle účinné: antropolog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rivátor slovních 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ynonymie, homonymie, polysémie at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 a další jazykové jevy vyřešen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řeba zohlednit při formulaci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homonyma (objetí, travička, župan, občan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matická homonyma (ženu, j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obecné úrovni obtížně řešitel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aradigmatické vztahy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é vs specifické poj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i v ŘS problémy s vyjádřením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onz -&gt; slitina ko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esta -&gt; typ vrcholu k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8-11-30T07:09:33Z</cp:lastPrinted>
  <dcterms:modified xsi:type="dcterms:W3CDTF">2023-11-10T14:47:44Z</dcterms:modified>
  <cp:revision>173</cp:revision>
  <dc:subject/>
  <dc:title>Selekční jazyky</dc:title>
</cp:coreProperties>
</file>