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14EF-7156-4284-A7B1-C344FEC0D5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289-09AA-4AEB-83EE-BC023848511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81F-C472-4B29-B145-6907274D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DE7-0C22-47C8-B4A3-9CFE793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AE9-5D4C-4894-A674-1EF24196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965-0C68-4B10-8C22-C82CF1F8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603-1A34-4C1D-BA86-3651F388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86C8-2349-4223-8082-46017094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0509-F166-4E4F-BAE9-C242267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D55A-3F64-4883-BFDD-B67ABA9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F4B-F5FD-4799-8CC3-1477DE65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042-43E3-42D6-9362-1D26FE2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38DB-3881-4283-9496-8C19789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B11-A38B-4750-8C87-4F75758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FDF4-72E8-49FE-A555-33E9E58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75A-0807-4820-88A8-8EB9BF4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498-C284-4E26-BDCE-7AEC57F2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D4B9-52AB-4397-A04A-DF72D7B0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D29B-A261-4E83-ADA3-C7F893A7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439-D21E-4711-A7A3-339762E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57F-8B00-40E9-8732-1246ED4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191-C588-460E-9E69-09452841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239-2690-4C56-93ED-5EE2E567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89D-6C2E-4B69-9C78-9DA6939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3BF-19B9-4430-AC78-D471EFE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6A9-B8A2-46F9-BB5E-CFBDF3D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3803-4646-4BC6-8EFE-52583DA14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BD5-FCD7-442A-B4AC-35A54E3270A0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Ukol02/OI_ukol2.doc" TargetMode="External"/><Relationship Id="rId2" Type="http://schemas.openxmlformats.org/officeDocument/2006/relationships/hyperlink" Target="file:///../Ukol02/OIukol2-stud.xlsx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vocabularyserver.com/tee/en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dcsummary.info/php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czso.cz/csu/czso/seznam_vyrobku_cz_prodco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tris.nkp.cz/Catalog?sigla=ABE323&amp;catalogId=zmccas%20%20%20%20&amp;caseId=1&amp;drawerId=1&amp;recordId=10990&amp;bookmarkId=null&amp;filterId=&amp;page=nu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aleph.nkp.cz/F/?func=direct&amp;doc_number=000036607&amp;local_base=KKL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11. 2020: Morfologie a struktura selekčních jazy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588000" y="1447920"/>
            <a:ext cx="255600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Obrázek 3" descr="Obsah obrázku snímek obrazovky, text&#10;&#10;Popis byl vytvořen automaticky"/>
          <p:cNvPicPr/>
          <p:nvPr/>
        </p:nvPicPr>
        <p:blipFill>
          <a:blip r:embed="rId1"/>
          <a:stretch/>
        </p:blipFill>
        <p:spPr>
          <a:xfrm>
            <a:off x="-57240" y="1773360"/>
            <a:ext cx="8967960" cy="50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76720" y="1447920"/>
            <a:ext cx="406728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Obrázek 3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468360" y="2411280"/>
            <a:ext cx="9855000" cy="41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443640" y="1447920"/>
            <a:ext cx="2700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4" name="Obrázek 2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108000" y="103320"/>
            <a:ext cx="4322880" cy="665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8" name="Obrázek 3" descr=""/>
          <p:cNvPicPr/>
          <p:nvPr/>
        </p:nvPicPr>
        <p:blipFill>
          <a:blip r:embed="rId1"/>
          <a:stretch/>
        </p:blipFill>
        <p:spPr>
          <a:xfrm>
            <a:off x="-28440" y="33480"/>
            <a:ext cx="7954920" cy="656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řádací znak (P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ní vyjád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 typu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é hes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ý prv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é SJ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jedno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riptor (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eskriptor (ne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kó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553.068.9 Metamorfovaná ložisk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004.354.5 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180 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přirozený jazy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ožiska metamorfovaná – těž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 (hlodavci) – škody na úrod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 – důkazy boha teleologick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etamorfovaná ložisk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35280" y="1676160"/>
            <a:ext cx="677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klasifikační zna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řída -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tační systém (n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druhu použitých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betická notace (KK, Odee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КЛ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merická notace (III.V, 4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etinná notace (656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počtu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ární notace (06-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676160"/>
            <a:ext cx="64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anzivní notace (pohostinnost no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neární notace (A11, A12, A13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ká notace (A11, A11.1, A11.1.01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emotechničnost n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1.0 – literární te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parátor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8000" y="1125360"/>
            <a:ext cx="6702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ky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a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čle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členné PH (řetězec 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e souslo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vořák, Antonín (dramatik) – hry divadelní - bibli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79280" y="1268280"/>
            <a:ext cx="663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skriptorov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zení slovní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ocabular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ace/postkoordin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émantický/syntaktický roz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/invertovaný slovos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mografy, polysémy -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l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urál/singul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a lexikální jednotky (pravopis, zkratk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ý odst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Výsledek 2. úkol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357360"/>
            <a:ext cx="64767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ad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ehled řeš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émantický rozklad – nedoporučuje se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barometr = tlak + měření + přístroj 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ntaktický rozklad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knihovnické časopisy = knihovnictví + časopis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je běžné a užíva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informační zdroje, invalidní vozí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klad vede ke ztrátě význam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filozofie dějin, letadlová lo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obsahuje vlastní jmé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radfordův zákon, Planckova konstant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ztratil původní význam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lehký průmys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bez přímého vztah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stromová struk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se „středním členem“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enzinový moto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kategorematická substantiv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umělé květiny, čokoládová vejce, světelný ro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/část x modifiká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sit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el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/objekt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pravidel pro souslov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ppendix A – AAT compound term rules. In Aichison, J., Gilchrist, A., Bawden, D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4th ed. Chicago : Fitzroy Dearborn Publishers, c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680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ložen 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oborové termi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vykle strukturován pomocí sémantických vzta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ovník SJ se nazýv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ční tabu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: předmětový hesl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část uspořádá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sch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7020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ná část uspořádá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abecední nebo rotovaný (permutovaný) rejstř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urus: kategorie – mikrotezaury (tematické obla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faz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fazetový klasifikač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fazetový tezaurus (thesaurofac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adigmatické/syntagmatické vztahy (apriorní/aposterior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hie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lná“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39640" y="1905120"/>
            <a:ext cx="619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ekvivalence (v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řazený deskriptor (ND/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řazený deskriptor (PD/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 (nedeskrip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IZ/USE – EKV/U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buzný deskriptor (AD/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ravidla pro užívání slovníku SJ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ohierarchický/fasetový klasifikačn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né znaky (pomocné tabul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cké 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inuté znaky (hlavní z.+pomocný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ené znaky (hlavní z.+hlavní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ovací symboly (přiřazení, rozšíření, vzt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okr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7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podheslo (doplněk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binace prvků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íjení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eskriptor-&gt;desk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matické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le – A (X), B (Z)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e – A (1), B (2), C (1), D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k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2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-19080"/>
            <a:ext cx="2376360" cy="689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76720" y="1643040"/>
            <a:ext cx="359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34920" y="58680"/>
            <a:ext cx="2665440" cy="671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515280" y="1643040"/>
            <a:ext cx="2160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0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179280" y="38160"/>
            <a:ext cx="6856560" cy="614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1628640"/>
            <a:ext cx="8008920" cy="516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Ukázka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907920"/>
            <a:ext cx="3961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ázek 2" descr="Obsah obrázku text, noviny&#10;&#10;Popis byl vytvořen automaticky"/>
          <p:cNvPicPr/>
          <p:nvPr/>
        </p:nvPicPr>
        <p:blipFill>
          <a:blip r:embed="rId1"/>
          <a:stretch/>
        </p:blipFill>
        <p:spPr>
          <a:xfrm>
            <a:off x="0" y="-14400"/>
            <a:ext cx="4643280" cy="687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16720" y="1643040"/>
            <a:ext cx="215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Obrázek 2" descr="Obsah obrázku text&#10;&#10;Popis byl vytvořen automaticky"/>
          <p:cNvPicPr/>
          <p:nvPr/>
        </p:nvPicPr>
        <p:blipFill>
          <a:blip r:embed="rId1"/>
          <a:stretch/>
        </p:blipFill>
        <p:spPr>
          <a:xfrm>
            <a:off x="-25560" y="2060640"/>
            <a:ext cx="9714240" cy="454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0-18T09:57:11Z</cp:lastPrinted>
  <dcterms:modified xsi:type="dcterms:W3CDTF">2023-10-13T15:56:19Z</dcterms:modified>
  <cp:revision>181</cp:revision>
  <dc:subject/>
  <dc:title>Selekční jazyky</dc:title>
</cp:coreProperties>
</file>