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BADB-5F73-4FED-B294-86A11124C39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C3ED-DA3A-4A67-8056-D9AD6FAD44BF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137-C1F9-489A-8F77-6E11845D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6EA-845D-4AF1-AE6F-2BC503F5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735-CFF1-4AF5-992D-FA8AA02D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FD8-96EC-46D1-A68A-1F966EC7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40E8-351D-43F1-B7D2-21336A42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A759-7BEB-4784-99BF-DE7FF58A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15DE-FDA5-4455-BE3B-4FA5FB16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C394-0D05-4ADD-82DA-D869DAE3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AA88-03AF-45B2-B385-2C57F0C3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C485-9ECD-432B-85FD-AC0489BF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EC36-396F-42C8-B160-F69C4046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29C-7E09-4FFA-B69D-5C2892E6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0D87-725A-4EE3-80C6-A847A431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1C9A-0855-4101-9AC6-70A16244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A6B4-C4E6-4E34-BD8E-8DFB920B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3CD5-254B-4A42-8B1E-6C34783C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DE41-E7A6-4107-ACB9-718286E8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804-21C1-4874-81B4-1060FD48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DE2-6936-467A-BC85-A82351EA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01C-CE70-4C6D-97E4-9383AF52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FE3-3C26-495D-B5DD-48DC56F9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9D5-B534-4355-B0B7-9516C68C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12C-3F27-4663-936C-20CB1724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8E8-1F2C-48A1-838A-A190A0C5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0FA6-DBE8-4B1D-AED5-50EEC7DF6C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FFD4-3A42-4D1F-94F9-9D857E446A7D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Ukol02/OI_ukol2.doc" TargetMode="External"/><Relationship Id="rId2" Type="http://schemas.openxmlformats.org/officeDocument/2006/relationships/hyperlink" Target="file:///../Ukol02/OIukol2-stud.xlsx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vocabularyserver.com/tee/en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dcsummary.info/php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czso.cz/csu/czso/seznam_vyrobku_cz_prodco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etris.nkp.cz/Catalog?sigla=ABE323&amp;catalogId=zmccas%20%20%20%20&amp;caseId=1&amp;drawerId=1&amp;recordId=10990&amp;bookmarkId=null&amp;filterId=&amp;page=nu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aleph.nkp.cz/F/?func=direct&amp;doc_number=000036607&amp;local_base=KKL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 11. 2020: Morfologie a struktura selekčních jazy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F MU, podzim 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588000" y="1447920"/>
            <a:ext cx="255600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6" name="Obrázek 3" descr="Obsah obrázku snímek obrazovky, text&#10;&#10;Popis byl vytvořen automaticky"/>
          <p:cNvPicPr/>
          <p:nvPr/>
        </p:nvPicPr>
        <p:blipFill>
          <a:blip r:embed="rId1"/>
          <a:stretch/>
        </p:blipFill>
        <p:spPr>
          <a:xfrm>
            <a:off x="-57240" y="1773360"/>
            <a:ext cx="8967960" cy="505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76720" y="1447920"/>
            <a:ext cx="406728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Obrázek 3" descr="Obsah obrázku snímek obrazovky&#10;&#10;Popis byl vytvořen automaticky"/>
          <p:cNvPicPr/>
          <p:nvPr/>
        </p:nvPicPr>
        <p:blipFill>
          <a:blip r:embed="rId1"/>
          <a:stretch/>
        </p:blipFill>
        <p:spPr>
          <a:xfrm>
            <a:off x="468360" y="2411280"/>
            <a:ext cx="9855000" cy="416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443640" y="1447920"/>
            <a:ext cx="2700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4" name="Obrázek 2" descr="Obsah obrázku snímek obrazovky&#10;&#10;Popis byl vytvořen automaticky"/>
          <p:cNvPicPr/>
          <p:nvPr/>
        </p:nvPicPr>
        <p:blipFill>
          <a:blip r:embed="rId1"/>
          <a:stretch/>
        </p:blipFill>
        <p:spPr>
          <a:xfrm>
            <a:off x="108000" y="103320"/>
            <a:ext cx="4322880" cy="665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875640" y="1447920"/>
            <a:ext cx="2268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8" name="Obrázek 3" descr=""/>
          <p:cNvPicPr/>
          <p:nvPr/>
        </p:nvPicPr>
        <p:blipFill>
          <a:blip r:embed="rId1"/>
          <a:stretch/>
        </p:blipFill>
        <p:spPr>
          <a:xfrm>
            <a:off x="-28440" y="33480"/>
            <a:ext cx="7954920" cy="656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Morfologie a struktura S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ořádací znak (PZ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ystematické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ční 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ní vyjád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ové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J typu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mětové hes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mětový prv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kriptorové SJ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jedno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skriptor (preferovaná L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deskriptor (nepreferovaná L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4120" y="18288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áklad: kó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553.068.9 Metamorfovaná ložisk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004.354.5 Myš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180 Středověká filozof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áklad: přirozený jazy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ožiska metamorfovaná – těžb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ši (hlodavci) – škody na úrodě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ředověká filozofie – důkazy boha teleologick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etamorfovaná ložisk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yš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tředověká filozof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S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35280" y="1676160"/>
            <a:ext cx="6775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ystematické SJ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klasifikační znak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řída -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kupina klasifikovaných pojmů vzniklá na základě shodných charakteristik za účelem definování sémantických vztahů mezi nimi, která je označená notací. Tvoří základní prvek klasifikačního systému označující základní kategorii.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tační systém (no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druhu použitých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fabetická notace (KK, Odee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Ж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КЛ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merická notace (III.V, 4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setinná notace (656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fanumerická notace (smíšená notace) (A65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ahoma"/>
              </a:rPr>
              <a:t>Ж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II.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počtu zna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nární notace (06-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S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24000" y="1676160"/>
            <a:ext cx="64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ystematické S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notace podle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anzivní notace (pohostinnost not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neární notace (A11, A12, A13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erarchická notace (A11, A11.1, A11.1.01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nemotechničnost not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L1.0 – literární teo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parátor n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P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08000" y="1125360"/>
            <a:ext cx="6702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mětová hes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ky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a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čle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slo (vstupní prvek) – hlavní téma doku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ícečlenné PH (řetězec 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slo (vstupní prvek) – hlavní téma dokumentu (+doplněk he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heslo (specifikuje význam hesla) – vedlejší téma dokumentu (+doplněk podhe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slo (doplněk hesla) – 1. podheslo (doplněk 1. podhesla) – 2. podheslo (doplněk 2. podh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e souslo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SN 0101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vořák, Antonín (dramatik) – hry divadelní - bibli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Morfologie PZ (PSJ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79280" y="1268280"/>
            <a:ext cx="6630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skriptorové S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xikální jednotky (deskriptory, nedeskriptory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tez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ízení slovní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ocabulary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koordinace/postkoordin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émantický/syntaktický roz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rozený/invertovaný slovos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deskriptoru, nedeskriptorů (řešení synonymie, kvazisynonymie, hierarchizace vztahu ekvival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mografy, polysémy -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elá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urál/singul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a lexikální jednotky (pravopis, zkratky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kriptorový odsta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SN 010193 (jednojazyčné tezaury), ČSN 010172 (vícejazyčné tezau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Výsledek 2. úkol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360" y="3357360"/>
            <a:ext cx="64767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ad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řehled řeš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190440"/>
            <a:ext cx="741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émantický rozklad – nedoporučuje se </a:t>
            </a:r>
            <a:r>
              <a:rPr b="0" i="1" lang="cs-CZ" sz="1300" spc="-1" strike="noStrike">
                <a:solidFill>
                  <a:srgbClr val="000000"/>
                </a:solidFill>
                <a:latin typeface="Arial"/>
              </a:rPr>
              <a:t>(př.: barometr = tlak + měření + přístroj 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yntaktický rozklad </a:t>
            </a:r>
            <a:r>
              <a:rPr b="0" i="1" lang="cs-CZ" sz="1300" spc="-1" strike="noStrike">
                <a:solidFill>
                  <a:srgbClr val="000000"/>
                </a:solidFill>
                <a:latin typeface="Arial"/>
              </a:rPr>
              <a:t>(př.: knihovnické časopisy = knihovnictví + časopis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ekoordin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je běžné a užíva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informační zdroje, invalidní vozí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klad vede ke ztrátě významu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filozofie dějin, letadlová lo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obsahuje vlastní jméno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Bradfordův zákon, Planckova konstant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átor ztratil původní význam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lehký průmys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ifikátor bez přímého vztahu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stromová struk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loví se „středním členem“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benzinový moto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kategorematická substantiv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(př.: umělé květiny, čokoládová vejce, světelný ro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ekoordinace/postkoordinace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tkoordin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ost/část x modifiká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sit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cel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př.: lodní motor = lodě + motory; knihovní personál = knihovny + personá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/objekt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př.: signování knih = signování + knihy; indexace článků = indexace + články; stěhování ptáků = stěhování + ptác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pravidel pro souslov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ppendix A – AAT compound term rules. In Aichison, J., Gilchrist, A., Bawden, D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Thesaurus construction and use : a practical manua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4th ed. Chicago : Fitzroy Dearborn Publishers, c200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istika slovníku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40000" y="1600200"/>
            <a:ext cx="680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ložen n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klasifik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oborové termin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vykle strukturován pomocí sémantických vzta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lovník SJ se nazývá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klasifikační tabul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H: předmětový heslá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J: tez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lavní část uspořádá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systemat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asifikační sché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abece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istika slovníku SJ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7020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mocná část uspořádán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abece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abecední nebo rotovaný (permutovaný) rejstř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J: systemat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urus: kategorie – mikrotezaury (tematické obla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raf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užití faz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SJ: fazetový klasifikač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J: fazetový tezaurus (thesaurofac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ruktura slovníku SJ (vztahy mezi PZ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7640" y="1905120"/>
            <a:ext cx="662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bec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radigmatické/syntagmatické vztahy (apriorní/aposterior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titivní vztah (celek-část), generický vztah (rod-druh), logický vztah (příčina-následek apod.) 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yhie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vi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lná“ 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 (viz té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ruktura slovníku SJ (vztahy mezi PZ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339640" y="1905120"/>
            <a:ext cx="619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asociace (viz té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ástečná ekvivalence (v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SJ (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řazený deskriptor (ND/B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řazený deskriptor (PD/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kvivalence (nedeskrip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IZ/USE – EKV/U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oc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buzný deskriptor (AD/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yntax (pravidla pro užívání slovníku SJ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ohierarchický/fasetový klasifikační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 zna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né znaky (pomocné tabul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obecné pz (např. pomocný znak místa, času, jazyka, formy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fické p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inuté znaky (hlavní z.+pomocný z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žené znaky (hlavní z.+hlavní z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ovací symboly (přiřazení, rozšíření, vzt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Syntax (pokr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770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eslo (doplněk hesla) – podheslo (doplněk podhes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binace prvků předmětového he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íjení předmětového he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SJ (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deskriptor-&gt;deskri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koordi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amatické pr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le – A (X), B (Z)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e – A (1), B (2), C (1), D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Morfologie a struktura S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káz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651640" y="1671480"/>
            <a:ext cx="360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2" name="Obrázek 3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0" y="-19080"/>
            <a:ext cx="2376360" cy="689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5076720" y="1643040"/>
            <a:ext cx="359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6" name="Obrázek 2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34920" y="58680"/>
            <a:ext cx="2665440" cy="671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515280" y="1643040"/>
            <a:ext cx="2160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0" name="Obrázek 3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179280" y="38160"/>
            <a:ext cx="6856560" cy="6148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75640" y="1447920"/>
            <a:ext cx="226836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4" name="Obrázek 2" descr="Obsah obrázku text&#10;&#10;Popis byl vytvořen automaticky"/>
          <p:cNvPicPr/>
          <p:nvPr/>
        </p:nvPicPr>
        <p:blipFill>
          <a:blip r:embed="rId2"/>
          <a:stretch/>
        </p:blipFill>
        <p:spPr>
          <a:xfrm>
            <a:off x="0" y="1628640"/>
            <a:ext cx="8008920" cy="516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Ukázka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907920"/>
            <a:ext cx="3961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Obrázek 2" descr="Obsah obrázku text, noviny&#10;&#10;Popis byl vytvořen automaticky"/>
          <p:cNvPicPr/>
          <p:nvPr/>
        </p:nvPicPr>
        <p:blipFill>
          <a:blip r:embed="rId1"/>
          <a:stretch/>
        </p:blipFill>
        <p:spPr>
          <a:xfrm>
            <a:off x="0" y="-14400"/>
            <a:ext cx="4643280" cy="6872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5651640" y="1671480"/>
            <a:ext cx="3600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3600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516720" y="1643040"/>
            <a:ext cx="215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2" name="Obrázek 2" descr="Obsah obrázku text&#10;&#10;Popis byl vytvořen automaticky"/>
          <p:cNvPicPr/>
          <p:nvPr/>
        </p:nvPicPr>
        <p:blipFill>
          <a:blip r:embed="rId1"/>
          <a:stretch/>
        </p:blipFill>
        <p:spPr>
          <a:xfrm>
            <a:off x="-25560" y="2060640"/>
            <a:ext cx="9714240" cy="454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0-18T09:57:11Z</cp:lastPrinted>
  <dcterms:modified xsi:type="dcterms:W3CDTF">2023-10-13T15:56:19Z</dcterms:modified>
  <cp:revision>181</cp:revision>
  <dc:subject/>
  <dc:title>Selekční jazyky</dc:title>
</cp:coreProperties>
</file>