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0" y="-360"/>
            <a:ext cx="2984400" cy="5014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902040" y="-360"/>
            <a:ext cx="2984400" cy="5014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39960" y="750960"/>
            <a:ext cx="5008320" cy="3757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9040" y="4757760"/>
            <a:ext cx="551016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0" y="9513720"/>
            <a:ext cx="2984400" cy="5018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902040" y="9513720"/>
            <a:ext cx="2984400" cy="501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BCD1E-36E5-497A-B732-89A661812528}"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02040" y="9513720"/>
            <a:ext cx="2984400" cy="501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5F51B-2DA6-417B-A36C-EABC2E074051}" type="slidenum">
              <a:rPr b="0" lang="cs-CZ"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126" name="PlaceHolder 1"/>
          <p:cNvSpPr>
            <a:spLocks noGrp="1"/>
          </p:cNvSpPr>
          <p:nvPr>
            <p:ph type="sldImg"/>
          </p:nvPr>
        </p:nvSpPr>
        <p:spPr>
          <a:xfrm>
            <a:off x="939960" y="750960"/>
            <a:ext cx="5008320" cy="3757680"/>
          </a:xfrm>
          <a:prstGeom prst="rect">
            <a:avLst/>
          </a:prstGeom>
          <a:ln w="0">
            <a:noFill/>
          </a:ln>
        </p:spPr>
      </p:sp>
      <p:sp>
        <p:nvSpPr>
          <p:cNvPr id="127"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39960" y="750960"/>
            <a:ext cx="5008320" cy="3757680"/>
          </a:xfrm>
          <a:prstGeom prst="rect">
            <a:avLst/>
          </a:prstGeom>
          <a:ln w="0">
            <a:noFill/>
          </a:ln>
        </p:spPr>
      </p:sp>
      <p:sp>
        <p:nvSpPr>
          <p:cNvPr id="150"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85A0-3311-4875-BEA3-A2D8F73CD2F9}"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9960" y="750960"/>
            <a:ext cx="5008320" cy="3757680"/>
          </a:xfrm>
          <a:prstGeom prst="rect">
            <a:avLst/>
          </a:prstGeom>
          <a:ln w="0">
            <a:noFill/>
          </a:ln>
        </p:spPr>
      </p:sp>
      <p:sp>
        <p:nvSpPr>
          <p:cNvPr id="153"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689F-9528-47E0-B7CB-5CDCC84CD5F5}"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39960" y="750960"/>
            <a:ext cx="5008320" cy="3757680"/>
          </a:xfrm>
          <a:prstGeom prst="rect">
            <a:avLst/>
          </a:prstGeom>
          <a:ln w="0">
            <a:noFill/>
          </a:ln>
        </p:spPr>
      </p:sp>
      <p:sp>
        <p:nvSpPr>
          <p:cNvPr id="156"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AE6C-AD1B-4421-BE34-BDFDBA7FD68B}"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9960" y="750960"/>
            <a:ext cx="5008320" cy="3757680"/>
          </a:xfrm>
          <a:prstGeom prst="rect">
            <a:avLst/>
          </a:prstGeom>
          <a:ln w="0">
            <a:noFill/>
          </a:ln>
        </p:spPr>
      </p:sp>
      <p:sp>
        <p:nvSpPr>
          <p:cNvPr id="159"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B975-A429-4A63-92D8-2BB2B5A32B5D}"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39960" y="750960"/>
            <a:ext cx="5008320" cy="3757680"/>
          </a:xfrm>
          <a:prstGeom prst="rect">
            <a:avLst/>
          </a:prstGeom>
          <a:ln w="0">
            <a:noFill/>
          </a:ln>
        </p:spPr>
      </p:sp>
      <p:sp>
        <p:nvSpPr>
          <p:cNvPr id="162"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0E7EC-CCBE-4CFB-B513-8DE974637161}"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39960" y="750960"/>
            <a:ext cx="5008320" cy="3757680"/>
          </a:xfrm>
          <a:prstGeom prst="rect">
            <a:avLst/>
          </a:prstGeom>
          <a:ln w="0">
            <a:noFill/>
          </a:ln>
        </p:spPr>
      </p:sp>
      <p:sp>
        <p:nvSpPr>
          <p:cNvPr id="129"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4E158-47B3-4C8E-868D-517A2B111A89}" type="slidenum">
              <a:rPr b="0" lang="cs-CZ"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39960" y="750960"/>
            <a:ext cx="5008320" cy="3757680"/>
          </a:xfrm>
          <a:prstGeom prst="rect">
            <a:avLst/>
          </a:prstGeom>
          <a:ln w="0">
            <a:noFill/>
          </a:ln>
        </p:spPr>
      </p:sp>
      <p:sp>
        <p:nvSpPr>
          <p:cNvPr id="132"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A3B14-7CE7-4CE1-9466-519991B3CD45}"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39960" y="750960"/>
            <a:ext cx="5008320" cy="3757680"/>
          </a:xfrm>
          <a:prstGeom prst="rect">
            <a:avLst/>
          </a:prstGeom>
          <a:ln w="0">
            <a:noFill/>
          </a:ln>
        </p:spPr>
      </p:sp>
      <p:sp>
        <p:nvSpPr>
          <p:cNvPr id="135"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B933-7F15-4558-BF1E-0670AD9AD0BA}"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39960" y="750960"/>
            <a:ext cx="5008320" cy="3757680"/>
          </a:xfrm>
          <a:prstGeom prst="rect">
            <a:avLst/>
          </a:prstGeom>
          <a:ln w="0">
            <a:noFill/>
          </a:ln>
        </p:spPr>
      </p:sp>
      <p:sp>
        <p:nvSpPr>
          <p:cNvPr id="138"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5671-7F3A-4F87-BDB9-B597D804E9EA}"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9960" y="750960"/>
            <a:ext cx="5008320" cy="3757680"/>
          </a:xfrm>
          <a:prstGeom prst="rect">
            <a:avLst/>
          </a:prstGeom>
          <a:ln w="0">
            <a:noFill/>
          </a:ln>
        </p:spPr>
      </p:sp>
      <p:sp>
        <p:nvSpPr>
          <p:cNvPr id="141"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9842-533B-4DAE-AAE3-941DA41F25C5}"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39960" y="750960"/>
            <a:ext cx="5008320" cy="3757680"/>
          </a:xfrm>
          <a:prstGeom prst="rect">
            <a:avLst/>
          </a:prstGeom>
          <a:ln w="0">
            <a:noFill/>
          </a:ln>
        </p:spPr>
      </p:sp>
      <p:sp>
        <p:nvSpPr>
          <p:cNvPr id="144"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978D-5F65-46E9-A61A-9BF87A7FC7DA}"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9960" y="750960"/>
            <a:ext cx="5008320" cy="3757680"/>
          </a:xfrm>
          <a:prstGeom prst="rect">
            <a:avLst/>
          </a:prstGeom>
          <a:ln w="0">
            <a:noFill/>
          </a:ln>
        </p:spPr>
      </p:sp>
      <p:sp>
        <p:nvSpPr>
          <p:cNvPr id="147"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5AB00-4669-495C-B859-79FC17A01354}"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F581F-88F8-486E-B0C2-22FA83258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F47AB-CAB3-4CB7-AA92-CED0FD229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17EF9-C5A6-45B4-94B7-55DB7E557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E120F-FA35-4FA1-85CD-474B8ED8D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12B45-EF02-44BF-9EE9-4D9933F74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CB0A2-6F7E-4D01-9709-853BE91FE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0B7D9-0450-4A3F-9595-6014A4A22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EBB51-504B-438F-B9E8-129820047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6B5A9-EF11-4645-979D-C9753B7D0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C5618-C2AC-4EA9-A409-32D04DAE9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41362-4DAF-4C81-85D1-9E83028A6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8252B-CED6-441E-9EE8-9611CA93A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C4750-243F-45AB-BB99-5041A5530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BBD92-47F9-4F58-B5C4-314DD1C34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50C8F-EC5C-4C11-80BA-25FC649AA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29B265-8285-4195-A70A-5A16BD2593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7AACDB-21C1-4501-84C6-EC27F5B11F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51AD5-728B-4F88-8351-5D44975B4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96F37-F61A-46E1-BA4E-D953D5C67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C3B2C-74BB-4230-85D2-C4B02088B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78950-9380-4EAD-9F08-D147D40B4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4131E-E749-419E-B11D-5025D4CA9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D3956-1EE2-479C-8509-7D6A404BE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BE419-DF34-4A2D-88A3-05B83A94B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3CBFA-C5CE-4523-BBBE-D84DB519DCCD}"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FF3C-EED8-49AC-9687-E2EA9924FCC8}" type="slidenum">
              <a:rPr b="0" lang="cs-CZ"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126172@mail.muni.cz"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hyperlink" Target="file:///OZ-syst.xlsx"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0560" y="1371600"/>
            <a:ext cx="7093080" cy="1752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alibri"/>
                <a:ea typeface="Times New Roman"/>
              </a:rPr>
              <a:t>ISKM12</a:t>
            </a:r>
            <a:br>
              <a:rPr sz="1600"/>
            </a:br>
            <a:r>
              <a:rPr b="1" lang="cs-CZ" sz="4400" spc="-1" strike="noStrike">
                <a:solidFill>
                  <a:srgbClr val="000000"/>
                </a:solidFill>
                <a:latin typeface="Arial"/>
              </a:rPr>
              <a:t>Organizace znalostí</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type="subTitle"/>
          </p:nvPr>
        </p:nvSpPr>
        <p:spPr>
          <a:xfrm>
            <a:off x="2133360" y="3733920"/>
            <a:ext cx="6476760" cy="27907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6. 10. 2023: Klasifikace a taxonomi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FF MU, podzim 2023</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gr. Josef Schwarz</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006666"/>
                </a:solidFill>
                <a:uFillTx/>
                <a:latin typeface="Arial"/>
                <a:hlinkClick r:id="rId1"/>
              </a:rPr>
              <a:t>126172@mail.muni.c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Bázové kategorie</a:t>
            </a:r>
            <a:endParaRPr b="0" lang="en-US" sz="4200" spc="-1" strike="noStrike">
              <a:solidFill>
                <a:srgbClr val="000000"/>
              </a:solidFill>
              <a:latin typeface="Arial"/>
            </a:endParaRPr>
          </a:p>
        </p:txBody>
      </p:sp>
      <p:sp>
        <p:nvSpPr>
          <p:cNvPr id="116"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Jisté kategorie jsou užívány „přirozeněji“ než jiné, což je doloženo např. i z výzkumů schopnosti klasifikace u dětí. Tyto kategorie leží „uvnitř“ hierarchie a vztahuje se k nim řada specifických vlastností (viz Lakoff 45, 57).  Jsou nazývány bázovými kategoriemi.</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romy v parku rozlišujeme obvykle podle rodů (lípa, tis, dub). Z hlediska botanické taxonomie (tedy specializované klasifikace) např. dub patří do této hierarchie:</a:t>
            </a:r>
            <a:endParaRPr b="0" lang="en-US" sz="2400" spc="-1" strike="noStrike">
              <a:solidFill>
                <a:srgbClr val="000000"/>
              </a:solidFill>
              <a:latin typeface="Arial"/>
            </a:endParaRPr>
          </a:p>
          <a:p>
            <a:pPr lvl="3" marL="1600200" indent="-228600">
              <a:spcBef>
                <a:spcPts val="499"/>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kr. na další straně)</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Bázové kategorie</a:t>
            </a:r>
            <a:endParaRPr b="0" lang="en-US" sz="4200" spc="-1" strike="noStrike">
              <a:solidFill>
                <a:srgbClr val="000000"/>
              </a:solidFill>
              <a:latin typeface="Arial"/>
            </a:endParaRPr>
          </a:p>
        </p:txBody>
      </p:sp>
      <p:sp>
        <p:nvSpPr>
          <p:cNvPr id="118" name=""/>
          <p:cNvSpPr txBox="1"/>
          <p:nvPr/>
        </p:nvSpPr>
        <p:spPr>
          <a:xfrm>
            <a:off x="301320" y="1527120"/>
            <a:ext cx="8504280" cy="5045040"/>
          </a:xfrm>
          <a:prstGeom prst="rect">
            <a:avLst/>
          </a:prstGeom>
          <a:noFill/>
          <a:ln w="0">
            <a:noFill/>
          </a:ln>
        </p:spPr>
        <p:txBody>
          <a:bodyPr anchor="t">
            <a:normAutofit fontScale="96000"/>
          </a:bodyPr>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adříše (eukaryonta)</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říše (rostliny)</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říše (cévnaté rostliny)</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ddělení (krytosemenn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řída (dvouděložn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řád (bukotvar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čeleď (bukovit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u="sng">
                <a:solidFill>
                  <a:srgbClr val="000000"/>
                </a:solidFill>
                <a:uFillTx/>
                <a:latin typeface="Arial"/>
              </a:rPr>
              <a:t>.......rod (dub)</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ruh (dub zimní)</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drůda (dub zimní převislý)</a:t>
            </a:r>
            <a:endParaRPr b="0" lang="en-US" sz="1600" spc="-1" strike="noStrike">
              <a:solidFill>
                <a:srgbClr val="000000"/>
              </a:solidFill>
              <a:latin typeface="Arial"/>
            </a:endParaRPr>
          </a:p>
          <a:p>
            <a:pPr lvl="1" marL="713160" indent="-27432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ub je tedy v dané hierarchii bázovou kategorií, kterou běžný člověk rozlišuje, když má klasifikovat entitu tohoto typu. Nadřazené kategorie jsou odvozené (umělé), podřazené kategorie dokážou rozlišit obvykle jen odborníci.</a:t>
            </a:r>
            <a:endParaRPr b="0" lang="en-US" sz="1800" spc="-1" strike="noStrike">
              <a:solidFill>
                <a:srgbClr val="000000"/>
              </a:solidFill>
              <a:latin typeface="Arial"/>
            </a:endParaRPr>
          </a:p>
          <a:p>
            <a:pPr lvl="1" marL="713160" indent="-27432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ázové kategorie lze rozpoznat jednoduchých testem: členy bázové kategorie si totiž dokážeme představit, „materializovat“ je ve své mysli. Např. „židli“ si dokážeme představit (je bázovou kategorií), nadřazenou kategorii „nábytek“ nikol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Jak skutečně lidé kategorizují</a:t>
            </a:r>
            <a:endParaRPr b="0" lang="en-US" sz="4200" spc="-1" strike="noStrike">
              <a:solidFill>
                <a:srgbClr val="000000"/>
              </a:solidFill>
              <a:latin typeface="Arial"/>
            </a:endParaRPr>
          </a:p>
        </p:txBody>
      </p:sp>
      <p:sp>
        <p:nvSpPr>
          <p:cNvPr id="120" name=""/>
          <p:cNvSpPr txBox="1"/>
          <p:nvPr/>
        </p:nvSpPr>
        <p:spPr>
          <a:xfrm>
            <a:off x="301320" y="1527120"/>
            <a:ext cx="8504280" cy="5045040"/>
          </a:xfrm>
          <a:prstGeom prst="rect">
            <a:avLst/>
          </a:prstGeom>
          <a:noFill/>
          <a:ln w="0">
            <a:noFill/>
          </a:ln>
        </p:spPr>
        <p:txBody>
          <a:bodyPr anchor="t">
            <a:normAutofit fontScale="99000"/>
          </a:bodyPr>
          <a:p>
            <a:pPr marL="339480" indent="-3394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Objevy kognitivní vědy související s prototypy a bázovými kategoriemi vedly mj. k těmto poznatkům nejen o principech kategorizace, ale i lidském myšlení obecně (blíže LAK06 14):</a:t>
            </a:r>
            <a:endParaRPr b="0" lang="en-US" sz="26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je závislé na těle (pojmové systémy odrážejí naši tělesnou zkušenost)</a:t>
            </a:r>
            <a:endParaRPr b="0" lang="en-US" sz="18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má imaginativní charakter (pojmy jsou zastoupeny metaforami, metonymiemi a dalšími mentální obrazy)</a:t>
            </a:r>
            <a:endParaRPr b="0" lang="en-US" sz="18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má povahu celistvého tvaru (gestaltu)</a:t>
            </a:r>
            <a:endParaRPr b="0" lang="en-US" sz="18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je založeno na principech efektivity, nikoliv mechanické manipulace s abstraktními symboly</a:t>
            </a:r>
            <a:endParaRPr b="0" lang="en-US" sz="1800" spc="-1" strike="noStrike">
              <a:solidFill>
                <a:srgbClr val="000000"/>
              </a:solidFill>
              <a:latin typeface="Arial"/>
            </a:endParaRPr>
          </a:p>
          <a:p>
            <a:pPr marL="339480" indent="-3394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Tuto teorii kategorizace lze označit jako subjektivistickou, resp. jako zkušenostní realismus či experiencialismu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Aplikace nové teorie kategorizace v KIV</a:t>
            </a:r>
            <a:endParaRPr b="0" lang="en-US" sz="4200" spc="-1" strike="noStrike">
              <a:solidFill>
                <a:srgbClr val="000000"/>
              </a:solidFill>
              <a:latin typeface="Arial"/>
            </a:endParaRPr>
          </a:p>
        </p:txBody>
      </p:sp>
      <p:sp>
        <p:nvSpPr>
          <p:cNvPr id="122"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V oblasti teorie, metodiky a praxe knihovní a informační vědy lze uvažovat např. o těchto aplikacích teorie kategorií podle kognitivní vědy:</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ezentace hierarchických klasifikací pomocí bázových kategorií</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ohlednění metaforického způsobu lidského myšlení při návrhu struktury řízených slovníků (např. při definici vztahů asociace)</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užití prototypů jako efektivního nástroje při rešerších, resp. při analýze informačních požadavk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Literatura</a:t>
            </a:r>
            <a:endParaRPr b="0" lang="en-US" sz="4200" spc="-1" strike="noStrike">
              <a:solidFill>
                <a:srgbClr val="000000"/>
              </a:solidFill>
              <a:latin typeface="Arial"/>
            </a:endParaRPr>
          </a:p>
        </p:txBody>
      </p:sp>
      <p:sp>
        <p:nvSpPr>
          <p:cNvPr id="124" name=""/>
          <p:cNvSpPr txBox="1"/>
          <p:nvPr/>
        </p:nvSpPr>
        <p:spPr>
          <a:xfrm>
            <a:off x="301320" y="1527120"/>
            <a:ext cx="8504280" cy="504504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 klasickou teorii kategori</a:t>
            </a:r>
            <a:r>
              <a:rPr b="0" lang="cs-CZ" sz="1600" spc="-1" strike="noStrike">
                <a:solidFill>
                  <a:srgbClr val="000000"/>
                </a:solidFill>
                <a:latin typeface="Arial"/>
              </a:rPr>
              <a:t>í</a:t>
            </a:r>
            <a:r>
              <a:rPr b="0" lang="en-US" sz="1600" spc="-1" strike="noStrike">
                <a:solidFill>
                  <a:srgbClr val="000000"/>
                </a:solidFill>
                <a:latin typeface="Arial"/>
              </a:rPr>
              <a:t>, kategori</a:t>
            </a:r>
            <a:r>
              <a:rPr b="0" lang="cs-CZ" sz="1600" spc="-1" strike="noStrike">
                <a:solidFill>
                  <a:srgbClr val="000000"/>
                </a:solidFill>
                <a:latin typeface="Arial"/>
              </a:rPr>
              <a:t>zace a souvisejicích pojmů: [DAL74] DAHLBERG, I. </a:t>
            </a:r>
            <a:r>
              <a:rPr b="0" i="1" lang="cs-CZ" sz="1600" spc="-1" strike="noStrike">
                <a:solidFill>
                  <a:srgbClr val="000000"/>
                </a:solidFill>
                <a:latin typeface="Arial"/>
              </a:rPr>
              <a:t>Grundlagen universaler Wissensordnung. Probleme und Möglichkeiten eines universalen Klassifikationssystems des Wissens</a:t>
            </a:r>
            <a:r>
              <a:rPr b="0" lang="cs-CZ" sz="1600" spc="-1" strike="noStrike">
                <a:solidFill>
                  <a:srgbClr val="000000"/>
                </a:solidFill>
                <a:latin typeface="Arial"/>
              </a:rPr>
              <a:t>. Pullach bei München: Verlag Dokumentation, 1974. – pracovní překlad patřičné kapitoly do češtiny dostupný v I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o kognitivistickou teorii: </a:t>
            </a:r>
            <a:r>
              <a:rPr b="0" lang="en-US" sz="1600" spc="-1" strike="noStrike">
                <a:solidFill>
                  <a:srgbClr val="000000"/>
                </a:solidFill>
                <a:latin typeface="Arial"/>
              </a:rPr>
              <a:t>[</a:t>
            </a:r>
            <a:r>
              <a:rPr b="0" lang="cs-CZ" sz="1600" spc="-1" strike="noStrike">
                <a:solidFill>
                  <a:srgbClr val="000000"/>
                </a:solidFill>
                <a:latin typeface="Arial"/>
              </a:rPr>
              <a:t>LAK06</a:t>
            </a:r>
            <a:r>
              <a:rPr b="0" lang="en-US" sz="1600" spc="-1" strike="noStrike">
                <a:solidFill>
                  <a:srgbClr val="000000"/>
                </a:solidFill>
                <a:latin typeface="Arial"/>
              </a:rPr>
              <a:t>]</a:t>
            </a:r>
            <a:r>
              <a:rPr b="0" lang="cs-CZ" sz="1600" spc="-1" strike="noStrike">
                <a:solidFill>
                  <a:srgbClr val="000000"/>
                </a:solidFill>
                <a:latin typeface="Arial"/>
              </a:rPr>
              <a:t> LAKOFF, George. </a:t>
            </a:r>
            <a:r>
              <a:rPr b="0" i="1" lang="cs-CZ" sz="1600" spc="-1" strike="noStrike">
                <a:solidFill>
                  <a:srgbClr val="000000"/>
                </a:solidFill>
                <a:latin typeface="Arial"/>
              </a:rPr>
              <a:t>Ženy, oheň a nebezpečné věci: co kategorie vypovídají o naší mysli.</a:t>
            </a:r>
            <a:r>
              <a:rPr b="0" lang="cs-CZ" sz="1600" spc="-1" strike="noStrike">
                <a:solidFill>
                  <a:srgbClr val="000000"/>
                </a:solidFill>
                <a:latin typeface="Arial"/>
              </a:rPr>
              <a:t> Praha: Triáda, 2006. Zejména Předmluva (s. 11-16), Část I: Kategorie a kognitivní modely (s. 17-159) a doslov překladatele (s. 587-627) – tyto partie knihy dostupné v I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Výsledek 1. dílčího úkolu</a:t>
            </a:r>
            <a:endParaRPr b="0" lang="en-US" sz="42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6666"/>
                </a:solidFill>
                <a:uFillTx/>
                <a:latin typeface="Arial"/>
                <a:hlinkClick r:id="rId1"/>
              </a:rPr>
              <a:t>Přehl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7b9899"/>
                </a:solidFill>
                <a:latin typeface="Arial"/>
              </a:rPr>
              <a:t>Úvod</a:t>
            </a:r>
            <a:endParaRPr b="0" lang="en-US" sz="4200" spc="-1" strike="noStrike">
              <a:solidFill>
                <a:srgbClr val="000000"/>
              </a:solidFill>
              <a:latin typeface="Arial"/>
            </a:endParaRPr>
          </a:p>
        </p:txBody>
      </p:sp>
      <p:sp>
        <p:nvSpPr>
          <p:cNvPr id="102" name=""/>
          <p:cNvSpPr txBox="1"/>
          <p:nvPr/>
        </p:nvSpPr>
        <p:spPr>
          <a:xfrm>
            <a:off x="301320" y="1527120"/>
            <a:ext cx="8504280" cy="5045040"/>
          </a:xfrm>
          <a:prstGeom prst="rect">
            <a:avLst/>
          </a:prstGeom>
          <a:noFill/>
          <a:ln w="0">
            <a:noFill/>
          </a:ln>
        </p:spPr>
        <p:txBody>
          <a:bodyPr anchor="t">
            <a:normAutofit fontScale="98000"/>
          </a:bodyPr>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fikace je myšlenkovou procedurou, kterou každý člověk provádí mnohokrát denně.</a:t>
            </a:r>
            <a:endParaRPr b="0" lang="en-US" sz="2600" spc="-1" strike="noStrike">
              <a:solidFill>
                <a:srgbClr val="000000"/>
              </a:solidFill>
              <a:latin typeface="Arial"/>
            </a:endParaRPr>
          </a:p>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fikace je zásadní pro porozumění okolnímu světu a pro způsoby, kterými ho ovlivňujeme a měníme. </a:t>
            </a:r>
            <a:endParaRPr b="0" lang="en-US" sz="2600" spc="-1" strike="noStrike">
              <a:solidFill>
                <a:srgbClr val="000000"/>
              </a:solidFill>
              <a:latin typeface="Arial"/>
            </a:endParaRPr>
          </a:p>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fikace je východiskem pro všechny systémy pořádání informací.</a:t>
            </a:r>
            <a:endParaRPr b="0" lang="en-US" sz="2600" spc="-1" strike="noStrike">
              <a:solidFill>
                <a:srgbClr val="000000"/>
              </a:solidFill>
              <a:latin typeface="Arial"/>
            </a:endParaRPr>
          </a:p>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Hlavní pojmy: </a:t>
            </a:r>
            <a:endParaRPr b="0" lang="en-US" sz="2600" spc="-1" strike="noStrike">
              <a:solidFill>
                <a:srgbClr val="000000"/>
              </a:solidFill>
              <a:latin typeface="Arial"/>
            </a:endParaRPr>
          </a:p>
          <a:p>
            <a:pPr lvl="1" marL="727920" indent="-28008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lasifikace (jako systém; třídění, systematika), klasifikace (jako proces; třídění), kategorie, třída, notace, fazeta </a:t>
            </a:r>
            <a:endParaRPr b="0" lang="en-US" sz="2400" spc="-1" strike="noStrike">
              <a:solidFill>
                <a:srgbClr val="000000"/>
              </a:solidFill>
              <a:latin typeface="Arial"/>
            </a:endParaRPr>
          </a:p>
          <a:p>
            <a:pPr lvl="1" marL="727920" indent="-28008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axonomie, nomenklatura, nosologie, typologie</a:t>
            </a:r>
            <a:endParaRPr b="0" lang="en-US" sz="2400" spc="-1" strike="noStrike">
              <a:solidFill>
                <a:srgbClr val="000000"/>
              </a:solidFill>
              <a:latin typeface="Arial"/>
            </a:endParaRPr>
          </a:p>
          <a:p>
            <a:pPr lvl="1" marL="727920" indent="-28008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ierarchie, asociace, ekvival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Klasická teorie</a:t>
            </a:r>
            <a:endParaRPr b="0" lang="en-US" sz="4200" spc="-1" strike="noStrike">
              <a:solidFill>
                <a:srgbClr val="000000"/>
              </a:solidFill>
              <a:latin typeface="Arial"/>
            </a:endParaRPr>
          </a:p>
        </p:txBody>
      </p:sp>
      <p:sp>
        <p:nvSpPr>
          <p:cNvPr id="104"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cká teorie (od starého Řecka po 19. století) klasifikaci vnímala jako činnost bezrozpornou a jednoduše definovatelnou.</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ategorie = množina entit (pojmů) reálného světa, které mají společné vlastnosti.</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ategorie je abstraktním pojmem nezávislým na subjektu, který provádí kategorizaci.</a:t>
            </a:r>
            <a:endParaRPr b="0" lang="en-US" sz="28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ckou teorii kategorií lze označit jako objektivisticko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Klasická teorie kategorií</a:t>
            </a:r>
            <a:endParaRPr b="0" lang="en-US" sz="4200" spc="-1" strike="noStrike">
              <a:solidFill>
                <a:srgbClr val="000000"/>
              </a:solidFill>
              <a:latin typeface="Arial"/>
            </a:endParaRPr>
          </a:p>
        </p:txBody>
      </p:sp>
      <p:sp>
        <p:nvSpPr>
          <p:cNvPr id="106"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ůsledkem klasické teorie jsou mj. tyto názory (podrobně LAK06, s. 12-13):</a:t>
            </a:r>
            <a:endParaRPr b="0" lang="en-US" sz="26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 mechanická manipulace s abstraktními symboly</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sl = stroj na zpracování symbolů (= vlastně PC)</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ymbol = vnitřní zobrazení vnější skutečnosti</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sl jako zrcadlo skutečnosti, které reflektuje logiku vnějšího světa</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je abstraktní a nezávislé na těl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je atomistické</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je logické v úzkém slova smyslu</a:t>
            </a:r>
            <a:endParaRPr b="0" lang="en-US" sz="20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Trhliny v klasické teorii kategorizace</a:t>
            </a:r>
            <a:endParaRPr b="0" lang="en-US" sz="4200" spc="-1" strike="noStrike">
              <a:solidFill>
                <a:srgbClr val="000000"/>
              </a:solidFill>
              <a:latin typeface="Arial"/>
            </a:endParaRPr>
          </a:p>
        </p:txBody>
      </p:sp>
      <p:sp>
        <p:nvSpPr>
          <p:cNvPr id="108" name=""/>
          <p:cNvSpPr txBox="1"/>
          <p:nvPr/>
        </p:nvSpPr>
        <p:spPr>
          <a:xfrm>
            <a:off x="301320" y="1527120"/>
            <a:ext cx="8504280" cy="5045040"/>
          </a:xfrm>
          <a:prstGeom prst="rect">
            <a:avLst/>
          </a:prstGeom>
          <a:noFill/>
          <a:ln w="0">
            <a:noFill/>
          </a:ln>
        </p:spPr>
        <p:txBody>
          <a:bodyPr anchor="t">
            <a:normAutofit fontScale="98000"/>
          </a:bodyPr>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stupně byly v klasické teorii kategorií objevovány nedostatky:</a:t>
            </a:r>
            <a:endParaRPr b="0" lang="en-US" sz="2600" spc="-1" strike="noStrike">
              <a:solidFill>
                <a:srgbClr val="000000"/>
              </a:solidFill>
              <a:latin typeface="Arial"/>
            </a:endParaRPr>
          </a:p>
          <a:p>
            <a:pPr lvl="1" marL="727920" indent="-28008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udwig Wittgenstein (1953)</a:t>
            </a:r>
            <a:endParaRPr b="0" lang="en-US" sz="2000" spc="-1" strike="noStrike">
              <a:solidFill>
                <a:srgbClr val="000000"/>
              </a:solidFill>
              <a:latin typeface="Arial"/>
            </a:endParaRPr>
          </a:p>
          <a:p>
            <a:pPr lvl="2" marL="1119960" indent="-22392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znamenal, že u členů některých kategorií nelze nalézt společné vlastnosti (objev rodinných podobností) a všiml si rozšiřování hranic některých kategorií (objev centrality)</a:t>
            </a:r>
            <a:endParaRPr b="0" lang="en-US" sz="2000" spc="-1" strike="noStrike">
              <a:solidFill>
                <a:srgbClr val="000000"/>
              </a:solidFill>
              <a:latin typeface="Arial"/>
            </a:endParaRPr>
          </a:p>
          <a:p>
            <a:pPr lvl="1" marL="727920" indent="-28008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oger Brown (1958 a 1965)</a:t>
            </a:r>
            <a:endParaRPr b="0" lang="en-US" sz="2000" spc="-1" strike="noStrike">
              <a:solidFill>
                <a:srgbClr val="000000"/>
              </a:solidFill>
              <a:latin typeface="Arial"/>
            </a:endParaRPr>
          </a:p>
          <a:p>
            <a:pPr lvl="2" marL="1119960" indent="-22392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šiml si různých označení pro jednu věc, jejich hierarchizace a odlišné kvality těchto pojmenování (základy bázových kategorií)</a:t>
            </a:r>
            <a:endParaRPr b="0" lang="en-US" sz="2000" spc="-1" strike="noStrike">
              <a:solidFill>
                <a:srgbClr val="000000"/>
              </a:solidFill>
              <a:latin typeface="Arial"/>
            </a:endParaRPr>
          </a:p>
          <a:p>
            <a:pPr lvl="1" marL="727920" indent="-28008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rent Berlin a Paul Kay (1969)</a:t>
            </a:r>
            <a:endParaRPr b="0" lang="en-US" sz="2000" spc="-1" strike="noStrike">
              <a:solidFill>
                <a:srgbClr val="000000"/>
              </a:solidFill>
              <a:latin typeface="Arial"/>
            </a:endParaRPr>
          </a:p>
          <a:p>
            <a:pPr lvl="2" marL="1119960" indent="-22392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 své studii o základních kategoriích barev dokázali základní pravidelnosti v pojmovém uchopení barevného spektra v různých jazycích (klasická představa přičítala různým jazykům arbitrární rozdělení barevného spekt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Trhliny v klasické teorii kategorizace</a:t>
            </a:r>
            <a:endParaRPr b="0" lang="en-US" sz="4200" spc="-1" strike="noStrike">
              <a:solidFill>
                <a:srgbClr val="000000"/>
              </a:solidFill>
              <a:latin typeface="Arial"/>
            </a:endParaRPr>
          </a:p>
        </p:txBody>
      </p:sp>
      <p:sp>
        <p:nvSpPr>
          <p:cNvPr id="110"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alší dílčí poznatky z různých oborů přinesli i jiní vědci (podrobně LAK06 28-50), až si Eleanor Roschová mohla stanovit tyto dvě zásadní hypotézy:</a:t>
            </a:r>
            <a:endParaRPr b="0" lang="en-US" sz="26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1) Pokud platí, že všechny členy kategorie jsou definovány pouze svými vlastnostmi, pak neexistuje člen, který by byl „lepší“ (pro označování pojmů) než jiný člen kategori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2) Pokud definice kategorií závisí pouze na vlastnostech členů kategorie, pak je kategorizace nezávislá na lidské neurofyziologii, možnostech a omezeních percepce, schopnosti učit se a dalších parametrech, které souvisejí s kognitivním aparátem člověk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Objev prototypů a bázových kategorií</a:t>
            </a:r>
            <a:endParaRPr b="0" lang="en-US" sz="4200" spc="-1" strike="noStrike">
              <a:solidFill>
                <a:srgbClr val="000000"/>
              </a:solidFill>
              <a:latin typeface="Arial"/>
            </a:endParaRPr>
          </a:p>
        </p:txBody>
      </p:sp>
      <p:sp>
        <p:nvSpPr>
          <p:cNvPr id="112"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E. Roschová svým dlouholetým výzkumem obě hypotézy vyvrátila a potvrdila existenci dvou jevů, které se začaly označovat jako:</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entralita (teorie prototypů)</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ázové kategorie</a:t>
            </a:r>
            <a:endParaRPr b="0" lang="en-US" sz="28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Tyto objevy se staly základem zcela nové teorie kategorií a kategorizace, která překonává klasickou teorii kategori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Centralita (teorie prototypů)</a:t>
            </a:r>
            <a:endParaRPr b="0" lang="en-US" sz="4200" spc="-1" strike="noStrike">
              <a:solidFill>
                <a:srgbClr val="000000"/>
              </a:solidFill>
              <a:latin typeface="Arial"/>
            </a:endParaRPr>
          </a:p>
        </p:txBody>
      </p:sp>
      <p:sp>
        <p:nvSpPr>
          <p:cNvPr id="114"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Členy jedné kategorie nemají stejnou hodnotu. Některé členy dané kategorie jsou „nejlepšími příklady“ pro danou kategorii. Tyto členy se nazývají prototypy. Jejich existence byla mnohokrát experimentálně prokázána.</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kupině studentů sedících v jedné místnosti je poskytnuta informace, že za oknem sedí pták. (Ve skutečnosti tam žádný není.) Poté mají studenti říct, jaký konkrétní pták jim vytanul na mysli při sdělení dané informace. Většina studentů si vybavuje např. vrabce, kosa, sýkoru, minimum (žádní) kondora, tučňáka, pštrosa. Vrabec, kos a sýkora jsou tak (v daném kontextu) prototypy kategorie „ptá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5T21:06:36Z</dcterms:created>
  <dc:creator>J.Schwarz</dc:creator>
  <dc:description/>
  <dc:language>en-US</dc:language>
  <cp:lastModifiedBy>Josef Schwarz</cp:lastModifiedBy>
  <dcterms:modified xsi:type="dcterms:W3CDTF">2023-10-06T09:46:26Z</dcterms:modified>
  <cp:revision>211</cp:revision>
  <dc:subject/>
  <dc:title>Selekční jazyky</dc:title>
</cp:coreProperties>
</file>