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A05-B775-4B35-BFA9-70FD94B0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CF6-F44A-478B-A6D5-76416B2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EF9-BB7C-465D-8F4D-67FED28F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02C-BC80-4572-AB38-51C06BB9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889-430E-46E3-A449-39C0CC15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1D1-4B70-4035-82A5-1F456D0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FD9-EC53-4443-9D84-9BC2BED3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DE1-9669-4628-9ECB-42FF918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015-528E-4B38-9A30-97A3FA6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593-3D7F-4F83-BBC5-40D9A4A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763-1146-451D-9CFF-F2562DE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A77-AC02-4136-A00D-8CBD51E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021B-712F-4685-AB11-76881614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/spectro/contents.html" TargetMode="External"/><Relationship Id="rId2" Type="http://schemas.openxmlformats.org/officeDocument/2006/relationships/hyperlink" Target="http://www.iupac.org/reports/V/spectro/contents.html" TargetMode="External"/><Relationship Id="rId3" Type="http://schemas.openxmlformats.org/officeDocument/2006/relationships/hyperlink" Target="http://www.iupac.org/reports/V/spectro/contents.html" TargetMode="External"/><Relationship Id="rId4" Type="http://schemas.openxmlformats.org/officeDocument/2006/relationships/hyperlink" Target="http://www.iupac.org/reports/V/spectro/contents.html" TargetMode="External"/><Relationship Id="rId5" Type="http://schemas.openxmlformats.org/officeDocument/2006/relationships/hyperlink" Target="http://www.iupac.org/reports/V/spectro/contents.html" TargetMode="External"/><Relationship Id="rId6" Type="http://schemas.openxmlformats.org/officeDocument/2006/relationships/hyperlink" Target="http://www.iupac.org/reports/V/spectro/contents.html" TargetMode="External"/><Relationship Id="rId7" Type="http://schemas.openxmlformats.org/officeDocument/2006/relationships/hyperlink" Target="http://www.iupac.org/reports/V/spectro/contents.html" TargetMode="External"/><Relationship Id="rId8" Type="http://schemas.openxmlformats.org/officeDocument/2006/relationships/hyperlink" Target="http://www.iupac.org/reports/V/spectro/contents.html" TargetMode="External"/><Relationship Id="rId9" Type="http://schemas.openxmlformats.org/officeDocument/2006/relationships/hyperlink" Target="http://www.iupac.org/reports/V/spectro/contents.html" TargetMode="External"/><Relationship Id="rId10" Type="http://schemas.openxmlformats.org/officeDocument/2006/relationships/hyperlink" Target="http://www.iupac.org/reports/V/spectro/contents.html" TargetMode="External"/><Relationship Id="rId11" Type="http://schemas.openxmlformats.org/officeDocument/2006/relationships/hyperlink" Target="http://www.iupac.org/reports/V/spectro/contents.html" TargetMode="External"/><Relationship Id="rId12" Type="http://schemas.openxmlformats.org/officeDocument/2006/relationships/hyperlink" Target="http://www.iupac.org/reports/V/spectro/contents.html" TargetMode="External"/><Relationship Id="rId13" Type="http://schemas.openxmlformats.org/officeDocument/2006/relationships/hyperlink" Target="http://bouman.chem.georgetown.edu/S02/lect10/lect10.htm" TargetMode="External"/><Relationship Id="rId14" Type="http://schemas.openxmlformats.org/officeDocument/2006/relationships/hyperlink" Target="http://www.hellmaoptik.com/en/kuevetten/" TargetMode="External"/><Relationship Id="rId15" Type="http://schemas.openxmlformats.org/officeDocument/2006/relationships/hyperlink" Target="http://www.orgchm.bas.bg/~lantonov/" TargetMode="External"/><Relationship Id="rId16" Type="http://schemas.openxmlformats.org/officeDocument/2006/relationships/hyperlink" Target="http://www.ub.es/gesq/roma/roma.htm" TargetMode="External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Katedra organické chemie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664-4ADC-4DA1-83AA-39A470E21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04812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4038480"/>
          <a:ext cx="381024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038480"/>
                    <a:ext cx="38102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29200" y="4068720"/>
          <a:ext cx="3733920" cy="23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68720"/>
                    <a:ext cx="373392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A7B-490F-4815-A3C5-E72D6CE7C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9B5-DF0B-49BC-9391-8759CD9BC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905120"/>
            <a:ext cx="662940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 (kcal/m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86400" y="304812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90920" y="304812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001-35CE-43C3-861E-00D181DD87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pte filter (SBS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oma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auler – ALS-M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Malinowski – windo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factor al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A03-9E0D-473E-BE42-D4FE0A812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FC2-C350-4F38-8682-D70B66FF91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upac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org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report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V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pectro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ontent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http://bouman.chem.georgetown.edu/S02/lect10/lect10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http://www.ub.es/gesq/roma/roma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2B4-2AD3-4884-9527-F3CF716197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3840" cy="687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722-9F95-4238-9F8D-9D06A51447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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C6D-2EC1-4D52-A0C7-FBD532D3E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404640"/>
            <a:ext cx="828036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E ~ </a:t>
            </a: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f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 </a:t>
            </a: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733840" cy="826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08720" y="26028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h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hc</a:t>
            </a:r>
            <a:r>
              <a:rPr b="0" i="1" lang="en-US" sz="24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8820360" cy="32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25B-8A5E-4A4B-9165-B5EDA3174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1300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b = 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4149720"/>
            <a:ext cx="7210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472608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00000" y="4799160"/>
            <a:ext cx="1008000" cy="71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4799160"/>
            <a:ext cx="144144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920" y="41497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7560" y="42228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93400" y="523080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65040" y="422280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4175280"/>
            <a:ext cx="5040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l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D6E-4DE3-44AC-9370-C698C91D5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63720"/>
            <a:ext cx="9144000" cy="499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4360" y="333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0A0-8260-463E-8566-BAD426AD5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t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2EB-CF30-4479-8CF8-B9F16F372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16360" y="2276640"/>
          <a:ext cx="4284720" cy="421308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83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ic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ic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4936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88A-94BD-4B43-806E-628726FCD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349-E812-4968-9D73-096DCA6CA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C95-35EB-45EA-BB92-B99CDF58DE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hegerd</cp:lastModifiedBy>
  <dcterms:modified xsi:type="dcterms:W3CDTF">2005-02-28T11:13:57Z</dcterms:modified>
  <cp:revision>38</cp:revision>
  <dc:subject/>
  <dc:title>How Polar is Ice?</dc:title>
</cp:coreProperties>
</file>