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4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7.wmf" ContentType="image/x-wmf"/>
  <Override PartName="/ppt/media/image6.png" ContentType="image/png"/>
  <Override PartName="/ppt/media/image11.png" ContentType="image/png"/>
  <Override PartName="/ppt/media/image29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wmf" ContentType="image/x-wmf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137-A26B-47BC-8172-EE744060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FD0-CDDB-4921-9F0B-0A7F4FE6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D1A-F443-4C91-B38B-2730EBB3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E14-CDAF-483E-9DB4-A452A0C4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DB63-1BC6-418E-9FDE-1D099CB3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949-5904-4D84-99A9-E38CCC39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5FA-0163-42F1-8985-CA7F18B9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08C-781B-48F8-A671-9424F669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04A-080B-44C6-8112-76A292CD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020-E6B5-4C2A-AB57-0223AA11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09B-CDD7-4B8B-A13E-5C4E5F16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B03-A6A1-4B68-9ABB-9CAE41CA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2633-F7F1-40EC-8EA1-A020D7162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upac.org/reports/VII/spectro/contents.html" TargetMode="External"/><Relationship Id="rId2" Type="http://schemas.openxmlformats.org/officeDocument/2006/relationships/hyperlink" Target="http://www.iupac.org/reports/VII/spectro/contents.html" TargetMode="External"/><Relationship Id="rId3" Type="http://schemas.openxmlformats.org/officeDocument/2006/relationships/hyperlink" Target="http://www.iupac.org/reports/VII/spectro/contents.html" TargetMode="External"/><Relationship Id="rId4" Type="http://schemas.openxmlformats.org/officeDocument/2006/relationships/hyperlink" Target="http://www.hellmaoptik.com/en/kuevetten/" TargetMode="External"/><Relationship Id="rId5" Type="http://schemas.openxmlformats.org/officeDocument/2006/relationships/hyperlink" Target="http://www.orgchm.bas.bg/~lantonov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ltrafialová a viditelná spetrosko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ateriál k předmě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 6390 Fyzikální metody organické chemie – laboratorní cvič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Brno 2008, Dominik Heger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cc66"/>
                </a:solidFill>
                <a:latin typeface="Times New Roman"/>
              </a:rPr>
              <a:t>Ústav chemie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, 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40000" cy="30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75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F3B-4306-42CE-AF95-FF4EDCA326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686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d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čarový x spoj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rtuťová-halogenová výbojka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330; 1200)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lampa &lt;UV; 33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Xe v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oj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190; 100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620640"/>
            <a:ext cx="287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Spektrome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jednopaprskový x dvoupaprskov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se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kve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ční x simult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500280"/>
            <a:ext cx="26636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yv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ob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mater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2997360"/>
            <a:ext cx="640872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foto-emisní detektory (vakuované fotonky, fotonásobiče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polovodičové detektory (fotovodivostní detektory, fotodiody, fotonásobiče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; detektory s prostorov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 ro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zlišením – CCD –charge-coupled de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65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0B4-5535-4E98-9FF0-0491947440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m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66720" y="1338120"/>
            <a:ext cx="600876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606-AC80-4978-8F22-A00552962F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rp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16360" y="2276640"/>
          <a:ext cx="4284720" cy="4464000"/>
        </p:xfrm>
        <a:graphic>
          <a:graphicData uri="http://schemas.openxmlformats.org/drawingml/2006/table">
            <a:tbl>
              <a:tblPr/>
              <a:tblGrid>
                <a:gridCol w="1944720"/>
                <a:gridCol w="234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yp přech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gt;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B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benzeno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~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E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- ethylenic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0 – 1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flipV="1">
            <a:off x="1979640" y="141264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565360"/>
            <a:ext cx="144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2640" y="8366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er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1080" y="350028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349360"/>
            <a:ext cx="86364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42560" y="2349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57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u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49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s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0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bath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114800" cy="24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0D1-6B0E-4808-A010-45B5822D43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872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B79-2D1F-4D20-ADFD-FE12C94E3E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9AD-C7A2-49E1-B36D-D7EBF868BE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yhodnocení spek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– kvantitativn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lezení maxi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– Antonov – Step by step filter (SBSF)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itování Gaussových (či jiných) kři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parametrické met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ngular Value Decomposition, Target Factoral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776-6AB6-40A7-97DF-286C8E4315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5280120" cy="561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35480" y="1239840"/>
            <a:ext cx="390852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D86-ED8F-4F05-8313-3BC147C514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963-1C73-4B4B-813A-D204A7251B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vatochromis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nge in the position, intensity, and shape of absorption band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e to the surrounding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251240"/>
          <a:ext cx="123048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51240"/>
                    <a:ext cx="123048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1782720"/>
            <a:ext cx="84582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perichromis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peri - a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urrounding medium - liquids, solids, glasses,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600" y="2990880"/>
            <a:ext cx="4419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gative solvatochromism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blue (hypsochromic)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sitive solvatochromis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red (bathochromic)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57320" y="4038480"/>
          <a:ext cx="380988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4038480"/>
                    <a:ext cx="38098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0120" y="4086360"/>
          <a:ext cx="3733920" cy="23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4086360"/>
                    <a:ext cx="3733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4191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7748640" y="3665520"/>
          <a:ext cx="2390760" cy="319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48640" y="3665520"/>
                    <a:ext cx="23907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71D-73EE-4E4B-9BD4-69FEA47F03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chardt’s dy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taine-30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2,6-diphenyl-4-(2,4,6-triphenyl-pyridium)phen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09680" y="2514600"/>
          <a:ext cx="6705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6705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236232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pol moment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- dipol/dipol, dipol/induced dipo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on syste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dispersion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enolate oxygen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highly basic EPD c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BC4-CB72-40E9-8384-03A5A02EBB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 m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ěří UV-VIS spetroskopie?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yzikální podst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876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50036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427640" y="1700280"/>
          <a:ext cx="4032000" cy="1677960"/>
        </p:xfrm>
        <a:graphic>
          <a:graphicData uri="http://schemas.openxmlformats.org/drawingml/2006/table">
            <a:tbl>
              <a:tblPr/>
              <a:tblGrid>
                <a:gridCol w="1685520"/>
                <a:gridCol w="234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acuum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U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ear-UV (quart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80 – 7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i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203640" y="3573360"/>
            <a:ext cx="2987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int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el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vib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0000" y="4508640"/>
            <a:ext cx="446400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817-55B3-403D-88F2-50B5CBAB25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le of solvent po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771480"/>
            <a:ext cx="662940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molar electronic transi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 = kcal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2.8591 E -3)(    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cm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28591/(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/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water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 - 30.7)/3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 = 0.00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)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M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etramethylsi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86400" y="300996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300024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7458120" y="942840"/>
          <a:ext cx="1609560" cy="2743200"/>
        </p:xfrm>
        <a:graphic>
          <a:graphicData uri="http://schemas.openxmlformats.org/drawingml/2006/table">
            <a:tbl>
              <a:tblPr/>
              <a:tblGrid>
                <a:gridCol w="923760"/>
                <a:gridCol w="68580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á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6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hex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Dichlorme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Et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2CA-71A5-46AD-A31B-E2021F14C1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516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92920" y="0"/>
            <a:ext cx="22510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3640" y="2641680"/>
            <a:ext cx="2970360" cy="32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433680" y="4791240"/>
            <a:ext cx="2733840" cy="2066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160" y="6429240"/>
            <a:ext cx="31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Normalizovaná odezva lidských čípk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9CC-FBCD-4525-9A2A-EAB0BD540B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dkazy, liter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upac.org/reports/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spectro/conte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ebbook.nist.gov/chemistry/name-s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ilverstein R. M. et all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: Spectrometric indentification of organic compounds, John Wiley &amp; S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ichardt, C. (1994). "Solvatochromic Dyes as Solvent Polarity Indicators." Chemical Reviews 94(8): 2319-23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orgchm.bas.bg/~lantonov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3BF-F870-4E2E-B6BD-40CA639602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ranck-Cond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3680" y="1165320"/>
            <a:ext cx="4270320" cy="569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0200" y="1181160"/>
            <a:ext cx="4596120" cy="56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79A-87DF-42FE-9939-2F05EC96D6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404640"/>
            <a:ext cx="828036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x ~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~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 ~ intenzita ~ prav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ěpodobnost přechodu </a:t>
            </a:r>
            <a:r>
              <a:rPr b="0" lang="cs-CZ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íla osci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4.3e-9 ∫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 4.3e-9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</a:t>
            </a:r>
            <a:r>
              <a:rPr b="0" lang="cs-CZ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471920"/>
            <a:ext cx="6524640" cy="237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3300480"/>
            <a:ext cx="380988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92280" y="2835360"/>
                <a:ext cx="244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84120" y="3429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h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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22440" y="1758960"/>
                <a:ext cx="266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280044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7840" y="347652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10160" y="0"/>
            <a:ext cx="2733840" cy="22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60D-81EC-4D9C-9D29-62C027AF10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er – Lambert – Bougn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003320"/>
            <a:ext cx="79930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ni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řní transmitance (transimisní fa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flektance, reflexní fa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= 1 – </a:t>
            </a: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bsorptance, absorpční fak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1280" y="4178160"/>
            <a:ext cx="72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20" y="4754520"/>
            <a:ext cx="1290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3280" y="4827600"/>
            <a:ext cx="100800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60560" y="4827600"/>
            <a:ext cx="9936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160" y="4216320"/>
            <a:ext cx="5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0840" y="4251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6680" y="525924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9720" y="43084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68080" y="146988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nochromatický zářivý tok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[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dekadick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) abs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lární (dekadický) absorpční koe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absorpční drá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optická dráha kyv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38480" y="3276720"/>
          <a:ext cx="6005520" cy="3195360"/>
        </p:xfrm>
        <a:graphic>
          <a:graphicData uri="http://schemas.openxmlformats.org/drawingml/2006/table">
            <a:tbl>
              <a:tblPr/>
              <a:tblGrid>
                <a:gridCol w="2565360"/>
                <a:gridCol w="1577880"/>
                <a:gridCol w="18622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i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č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nochromatický zářivý t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dekadick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á) vnitřní abso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lární (dekadický) absorpční koe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 mol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bsorpční drá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optická dráha kyv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9166-41CC-4340-97EC-30B1FBF2D5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712800"/>
            <a:ext cx="8388360" cy="614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219-8C8E-489B-9DA0-CF83AD6EE0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0480"/>
            <a:ext cx="8937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E12-B04E-428F-B247-A5EE5B01B2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, dvoumřížkový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617840"/>
            <a:ext cx="7778520" cy="52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2F8-926B-4DDA-8991-BC18A6B20E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 s diodovým po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552680"/>
            <a:ext cx="538632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72080" y="3933720"/>
            <a:ext cx="3009960" cy="22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F4F-F7BE-4376-867A-2D6CEDC845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11:58Z</dcterms:created>
  <dc:creator>Dominik Heger</dc:creator>
  <dc:description/>
  <dc:language>en-US</dc:language>
  <cp:lastModifiedBy>Petr Klán</cp:lastModifiedBy>
  <dcterms:modified xsi:type="dcterms:W3CDTF">2009-02-23T09:47:27Z</dcterms:modified>
  <cp:revision>60</cp:revision>
  <dc:subject/>
  <dc:title>How Polar is Ice?</dc:title>
</cp:coreProperties>
</file>