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wmf" ContentType="image/x-wmf"/>
  <Override PartName="/ppt/media/image24.wmf" ContentType="image/x-wmf"/>
  <Override PartName="/ppt/media/image22.png" ContentType="image/png"/>
  <Override PartName="/ppt/media/image7.png" ContentType="image/png"/>
  <Override PartName="/ppt/media/image32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7.wmf" ContentType="image/x-wmf"/>
  <Override PartName="/ppt/media/image6.png" ContentType="image/png"/>
  <Override PartName="/ppt/media/image11.png" ContentType="image/png"/>
  <Override PartName="/ppt/media/image29.wmf" ContentType="image/x-wmf"/>
  <Override PartName="/ppt/media/image1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33.png" ContentType="image/png"/>
  <Override PartName="/ppt/media/image3.png" ContentType="image/png"/>
  <Override PartName="/ppt/media/image2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4.wmf" ContentType="image/x-wmf"/>
  <Override PartName="/ppt/media/image15.png" ContentType="image/png"/>
  <Override PartName="/ppt/media/image1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0830-81BD-482E-8BD6-42318ECB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1D7-413F-4BDA-BFD0-EC78CF0B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18B8-8239-4B34-B680-726E5F36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101D-B0BB-4A42-BB50-A6D162AF4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BA94-7CFF-45E2-B336-7B254240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DFE4-A187-4A9D-B510-02A07897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2480-FC2C-40D1-A2E9-16494659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D7E4-B54B-471C-876B-1B49AF5D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6746-3252-4D65-B230-D4759F03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1549-F393-457F-9911-C2C42410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5F65-1450-42C1-995F-F14964E5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D0D3-F07E-48CE-8E40-9305B840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F06E-1525-4FF3-8E8B-C1BEBA2E4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image" Target="../media/image2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upac.org/reports/VII/spectro/contents.html" TargetMode="External"/><Relationship Id="rId2" Type="http://schemas.openxmlformats.org/officeDocument/2006/relationships/hyperlink" Target="http://www.iupac.org/reports/VII/spectro/contents.html" TargetMode="External"/><Relationship Id="rId3" Type="http://schemas.openxmlformats.org/officeDocument/2006/relationships/hyperlink" Target="http://www.iupac.org/reports/VII/spectro/contents.html" TargetMode="External"/><Relationship Id="rId4" Type="http://schemas.openxmlformats.org/officeDocument/2006/relationships/hyperlink" Target="http://www.hellmaoptik.com/en/kuevetten/" TargetMode="External"/><Relationship Id="rId5" Type="http://schemas.openxmlformats.org/officeDocument/2006/relationships/hyperlink" Target="http://www.orgchm.bas.bg/~lantonov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Ultrafialová a viditelná spetroskop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ateriál k předmě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C 6390 Fyzikální metody organické chemie – laboratorní cvič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5950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Brno 2008, Dominik Heger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093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cc66"/>
                </a:solidFill>
                <a:latin typeface="Times New Roman"/>
              </a:rPr>
              <a:t>Ústav chemie</a:t>
            </a: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, M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140000" cy="3084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417528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CA01-E719-4C7A-A5A8-5C2FBC43BB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V – vis spektromet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56862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dr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čarový x spojit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rtuťová-halogenová výbojka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&lt;330; 1200)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lampa &lt;UV; 330&gt;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Xe v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ý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bojka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&lt;190; 1000&gt;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96000" y="620640"/>
            <a:ext cx="2876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Spektromet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jednopaprskový x dvoupaprskov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se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kve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nční x simult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3500280"/>
            <a:ext cx="26636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yv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tv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obj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materi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á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84360" y="2997360"/>
            <a:ext cx="640872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tek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foto-emisní detektory (vakuované fotonky, fotonásobiče .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polovodičové detektory (fotovodivostní detektory, fotodiody, fotonásobiče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; detektory s prostorov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ý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m ro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zlišením – CCD –charge-coupled devi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16572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http://www.hellmaoptik.com/en/kuevett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E46F-C588-44BC-A75F-B669AF124F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644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m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66720" y="1338120"/>
            <a:ext cx="6008760" cy="508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4F5A-800A-44CC-B467-2DB10550EC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68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bsorpční pá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716360" y="2276640"/>
          <a:ext cx="4284720" cy="4464000"/>
        </p:xfrm>
        <a:graphic>
          <a:graphicData uri="http://schemas.openxmlformats.org/drawingml/2006/table">
            <a:tbl>
              <a:tblPr/>
              <a:tblGrid>
                <a:gridCol w="1944720"/>
                <a:gridCol w="2340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yp přecho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cs-CZ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&lt;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K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&gt; 1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B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– benzenoi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~ 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E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- ethylenic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00 – 14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 flipV="1">
            <a:off x="1979640" y="1412640"/>
            <a:ext cx="0" cy="71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2565360"/>
            <a:ext cx="1440" cy="792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404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ek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52640" y="836640"/>
            <a:ext cx="19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er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81080" y="3500280"/>
            <a:ext cx="20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2349360"/>
            <a:ext cx="863640" cy="1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042560" y="2349360"/>
            <a:ext cx="86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5736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u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34936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s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2060640"/>
            <a:ext cx="208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bath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4114800" cy="24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14E1-4D9F-4253-B8C7-4C19A73996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18720" cy="64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7DAA-433B-4589-A7B5-1CB924D915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CEBB-9D6C-4DD2-8475-CA46AC8D23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Vyhodnocení spekt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– kvantitativn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alezení maxi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– Antonov – Step by step filter (SBSF) –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Derivační spektroskop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Fitování Gaussových (či jiných) křiv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parametrické metod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ingular Value Decomposition, Target Factoral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FBD2-E6A3-4620-A9E9-53B1614203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2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rivační spektrosko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243080"/>
            <a:ext cx="5280120" cy="5614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35480" y="1239840"/>
            <a:ext cx="3908520" cy="367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CACF-6FF1-413B-8B08-A23FAD05A0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17080" cy="620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A223-BB8E-461F-9AA1-68D2A9F359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lvatochromism</a:t>
            </a:r>
            <a:br>
              <a:rPr sz="32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hange in the position, intensity, and shape of absorption band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ue to the surrounding medi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4251240"/>
          <a:ext cx="1230480" cy="17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51240"/>
                    <a:ext cx="1230480" cy="17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28600" y="1782720"/>
            <a:ext cx="84582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= perichromism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(peri - arou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urrounding medium - liquids, solids, glasses, and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0600" y="2990880"/>
            <a:ext cx="44193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negative solvatochromism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blue (hypsochromic) shi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30481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ositive solvatochromism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red (bathochromic) sh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57320" y="4038480"/>
          <a:ext cx="3809880" cy="23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7320" y="4038480"/>
                    <a:ext cx="380988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010120" y="4086360"/>
          <a:ext cx="3733920" cy="23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0120" y="4086360"/>
                    <a:ext cx="37339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4952880" y="0"/>
            <a:ext cx="419112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7748640" y="3665520"/>
          <a:ext cx="2390760" cy="3192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48640" y="3665520"/>
                    <a:ext cx="23907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9A48-5382-4AD9-A2DB-C931140024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ichardt’s dy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betaine-30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2,6-diphenyl-4-(2,4,6-triphenyl-pyridium)pheno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09680" y="2514600"/>
          <a:ext cx="670572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670572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0" y="2362320"/>
            <a:ext cx="39625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ipol moment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- dipol/dipol, dipol/induced dipo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lectron system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- dispersion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henolate oxygen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- highly basic EPD c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9193-631C-4CCF-9B0C-15210AD3DB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 m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ěří UV-VIS spetroskopie?</a:t>
            </a:r>
            <a:br>
              <a:rPr sz="4000"/>
            </a:b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fyzikální podst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2987640" cy="24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4648320" y="1981080"/>
          <a:ext cx="3809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981080"/>
                    <a:ext cx="3809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4221000"/>
            <a:ext cx="5003640" cy="26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4427640" y="1700280"/>
          <a:ext cx="4032000" cy="1677960"/>
        </p:xfrm>
        <a:graphic>
          <a:graphicData uri="http://schemas.openxmlformats.org/drawingml/2006/table">
            <a:tbl>
              <a:tblPr/>
              <a:tblGrid>
                <a:gridCol w="1685520"/>
                <a:gridCol w="2346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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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85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-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acuum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U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200 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3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ear-UV (quart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380 – 78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i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203640" y="3573360"/>
            <a:ext cx="29876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int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el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vib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r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680000" y="4508640"/>
            <a:ext cx="4464000" cy="214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377E-55EC-44C0-8FD1-D070DAB538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cale of solvent po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38240" y="771480"/>
            <a:ext cx="6629400" cy="70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 molar electronic transition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] = kcal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(2.8591 E -3)(    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/ cm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28591/(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/ n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solvent)-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)/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water)-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solvent) - 30.7)/3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 = 0.00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(H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) =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TMS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Tetramethylsi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486400" y="300996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590920" y="3000240"/>
                <a:ext cx="301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39" name=""/>
          <p:cNvGraphicFramePr/>
          <p:nvPr/>
        </p:nvGraphicFramePr>
        <p:xfrm>
          <a:off x="7458120" y="942840"/>
          <a:ext cx="1609560" cy="2743200"/>
        </p:xfrm>
        <a:graphic>
          <a:graphicData uri="http://schemas.openxmlformats.org/drawingml/2006/table">
            <a:tbl>
              <a:tblPr/>
              <a:tblGrid>
                <a:gridCol w="923760"/>
                <a:gridCol w="685800"/>
              </a:tblGrid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át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6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-</a:t>
                      </a: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hex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Dichlormeth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Et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6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o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6702-83ED-4D9C-A6D3-771775A52D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68880" cy="5168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892920" y="0"/>
            <a:ext cx="2251080" cy="2565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173640" y="2641680"/>
            <a:ext cx="2970360" cy="3282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433680" y="4791240"/>
            <a:ext cx="2733840" cy="2066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00160" y="6429240"/>
            <a:ext cx="31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Normalizovaná odezva lidských čípk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4D20-A4BF-4BD3-B7CF-6C84F4E1B8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Odkazy, literatu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63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iupac.org/reports/V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I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spectro/content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http://webbook.nist.gov/chemistry/name-ser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Silverstein R. M. et all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: Spectrometric indentification of organic compounds, John Wiley &amp; Sons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Reichardt, C. (1994). "Solvatochromic Dyes as Solvent Polarity Indicators." Chemical Reviews 94(8): 2319-235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hellmaoptik.com/en/kuevett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orgchm.bas.bg/~lantonov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1B50-520E-44A0-B40F-9A64542851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Franck-Condon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73680" y="1165320"/>
            <a:ext cx="4270320" cy="5692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0200" y="1181160"/>
            <a:ext cx="4596120" cy="567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179A-335E-49A6-A2F7-4EC7219739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9640" y="404640"/>
            <a:ext cx="8280360" cy="28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ek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x ~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~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~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1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y ~ intenzita ~ pravd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ěpodobnost přechodu </a:t>
            </a:r>
            <a:r>
              <a:rPr b="0" lang="cs-CZ" sz="2400" spc="-1" strike="noStrike">
                <a:solidFill>
                  <a:srgbClr val="ffcc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íla oscilát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≡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4.3e-9 ∫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d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~ 4.3e-9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</a:t>
            </a:r>
            <a:r>
              <a:rPr b="0" lang="cs-CZ" sz="2400" spc="-1" strike="noStrike">
                <a:solidFill>
                  <a:srgbClr val="ffcc66"/>
                </a:solidFill>
                <a:latin typeface="Symbol"/>
                <a:ea typeface="Symbol"/>
              </a:rPr>
              <a:t>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471920"/>
            <a:ext cx="6524640" cy="2373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34120" y="3300480"/>
            <a:ext cx="380988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492280" y="2835360"/>
                <a:ext cx="24444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384120" y="342900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=h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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522440" y="1758960"/>
                <a:ext cx="2667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572000" y="280044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517840" y="3476520"/>
                <a:ext cx="301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410160" y="0"/>
            <a:ext cx="2733840" cy="225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E106-E51F-481A-ADAF-901482B5F8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64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er – Lambert – Bougner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280" y="1003320"/>
            <a:ext cx="7993080" cy="22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log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-log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b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nit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řní transmitance (transimisní fak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cc66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reflektance, reflexní fa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= 1 – </a:t>
            </a:r>
            <a:r>
              <a:rPr b="0" i="1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absorptance, absorpční fak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41280" y="4178160"/>
            <a:ext cx="72072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320" y="4754520"/>
            <a:ext cx="1290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33280" y="4827600"/>
            <a:ext cx="100800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60560" y="4827600"/>
            <a:ext cx="99360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160" y="4216320"/>
            <a:ext cx="5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20840" y="42512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6680" y="5259240"/>
            <a:ext cx="47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69720" y="430848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268080" y="1469880"/>
            <a:ext cx="5040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cc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onochromatický zářivý tok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[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(dekadick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á) abso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b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olární (dekadický) absorpční koe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b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absorpční dráh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l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optická dráha kyv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138480" y="3276720"/>
          <a:ext cx="6005520" cy="3195360"/>
        </p:xfrm>
        <a:graphic>
          <a:graphicData uri="http://schemas.openxmlformats.org/drawingml/2006/table">
            <a:tbl>
              <a:tblPr/>
              <a:tblGrid>
                <a:gridCol w="2565360"/>
                <a:gridCol w="1577880"/>
                <a:gridCol w="186228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i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č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Jednot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monochromatický zářivý t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(dekadick</a:t>
                      </a: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á) vnitřní abso</a:t>
                      </a: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r</a:t>
                      </a: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b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molární (dekadický) absorpční koe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 mol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absorpční drá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optická dráha kyv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B662-D565-4013-9B00-F091068859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edno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712800"/>
            <a:ext cx="8388360" cy="614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34AB-9195-469F-BFDD-D4C27D6E5E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vou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690480"/>
            <a:ext cx="8937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BE25-2239-4FA2-8A34-D1A1DBD493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400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vou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, dvoumřížkový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11280" y="1617840"/>
            <a:ext cx="7778520" cy="524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EE1C-7EB6-41D7-9E0F-8444AC850A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edno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 s diodovým po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552680"/>
            <a:ext cx="5386320" cy="4000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572080" y="3933720"/>
            <a:ext cx="3009960" cy="22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EA8C-C480-4C7A-A23B-86B0AF46C9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6:11:58Z</dcterms:created>
  <dc:creator>Dominik Heger</dc:creator>
  <dc:description/>
  <dc:language>en-US</dc:language>
  <cp:lastModifiedBy>Petr Klán</cp:lastModifiedBy>
  <dcterms:modified xsi:type="dcterms:W3CDTF">2009-02-23T09:47:27Z</dcterms:modified>
  <cp:revision>60</cp:revision>
  <dc:subject/>
  <dc:title>How Polar is Ice?</dc:title>
</cp:coreProperties>
</file>