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wmf" ContentType="image/x-wmf"/>
  <Override PartName="/ppt/media/image24.wmf" ContentType="image/x-wmf"/>
  <Override PartName="/ppt/media/image22.png" ContentType="image/png"/>
  <Override PartName="/ppt/media/image7.png" ContentType="image/png"/>
  <Override PartName="/ppt/media/image32.png" ContentType="image/png"/>
  <Override PartName="/ppt/media/image14.jpeg" ContentType="image/jpeg"/>
  <Override PartName="/ppt/media/image8.png" ContentType="image/png"/>
  <Override PartName="/ppt/media/image9.png" ContentType="image/png"/>
  <Override PartName="/ppt/media/image17.wmf" ContentType="image/x-wmf"/>
  <Override PartName="/ppt/media/image6.png" ContentType="image/png"/>
  <Override PartName="/ppt/media/image11.png" ContentType="image/png"/>
  <Override PartName="/ppt/media/image29.wmf" ContentType="image/x-wmf"/>
  <Override PartName="/ppt/media/image12.jpeg" ContentType="image/jpeg"/>
  <Override PartName="/ppt/media/image23.png" ContentType="image/png"/>
  <Override PartName="/ppt/media/image13.jpeg" ContentType="image/jpeg"/>
  <Override PartName="/ppt/media/image31.jpeg" ContentType="image/jpeg"/>
  <Override PartName="/ppt/media/image33.png" ContentType="image/png"/>
  <Override PartName="/ppt/media/image3.png" ContentType="image/png"/>
  <Override PartName="/ppt/media/image25.wmf" ContentType="image/x-wmf"/>
  <Override PartName="/ppt/media/image1.jpeg" ContentType="image/jpeg"/>
  <Override PartName="/ppt/media/image10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4.wmf" ContentType="image/x-wmf"/>
  <Override PartName="/ppt/media/image15.png" ContentType="image/png"/>
  <Override PartName="/ppt/media/image1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9F7-4EBB-4726-9797-C3ABCC41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1C8F-95D6-48E2-8619-690C41F3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23D6-F380-404C-BCB8-69A94120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AE6F-B0F0-419C-BB84-5955B3AB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227-ED8D-459F-867A-4F9DA0CF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A53-EC6A-4E64-9591-CF9CF18A3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0386-3D5B-4B4E-AACC-EBFE4F65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C89-A5CB-48C2-8154-24CC9B45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BB66-0AE1-4E79-AD94-751B814E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CBA-6136-4F60-BC17-ABE3B4A8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DD27-FA37-483C-8DD1-D1D05081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AF17-4BD9-4F3A-AA13-C5660864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841D-4423-43A6-B3D0-5051C9AAB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8.wmf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iupac.org/reports/VII/spectro/contents.html" TargetMode="External"/><Relationship Id="rId2" Type="http://schemas.openxmlformats.org/officeDocument/2006/relationships/hyperlink" Target="http://www.iupac.org/reports/VII/spectro/contents.html" TargetMode="External"/><Relationship Id="rId3" Type="http://schemas.openxmlformats.org/officeDocument/2006/relationships/hyperlink" Target="http://www.iupac.org/reports/VII/spectro/contents.html" TargetMode="External"/><Relationship Id="rId4" Type="http://schemas.openxmlformats.org/officeDocument/2006/relationships/hyperlink" Target="http://www.hellmaoptik.com/en/kuevetten/" TargetMode="External"/><Relationship Id="rId5" Type="http://schemas.openxmlformats.org/officeDocument/2006/relationships/hyperlink" Target="http://www.orgchm.bas.bg/~lantonov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Ultrafialová a viditelná spetroskop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ateriál k předmě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C 6390 Fyzikální metody organické chemie – laboratorní cviče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00000" y="5950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Brno 2008, Dominik Heger</a:t>
            </a: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093000"/>
            <a:ext cx="68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cc66"/>
                </a:solidFill>
                <a:latin typeface="Times New Roman"/>
              </a:rPr>
              <a:t>Ústav chemie</a:t>
            </a: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, M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40000" cy="30844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16360" y="2852640"/>
            <a:ext cx="417528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7492-986D-44F3-9D82-C5EA2085B6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UV – vis spektromet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3640" y="980640"/>
            <a:ext cx="5686200" cy="30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Zdro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čarový x spojit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rtuťová-halogenová výbojka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330; 1200)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lampa &lt;UV; 33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Xe v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bojka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&lt;190; 1000&gt;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796000" y="620640"/>
            <a:ext cx="2876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00"/>
                </a:solidFill>
                <a:latin typeface="Times New Roman"/>
              </a:rPr>
              <a:t>Spektromet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jednopaprskový x dvoupaprskov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se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kve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nční x simultál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3500280"/>
            <a:ext cx="26636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Kyv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tv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obj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materi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84360" y="2997360"/>
            <a:ext cx="640872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tek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foto-emisní detektory (vakuované fotonky, fotonásobiče ..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polovodičové detektory (fotovodivostní detektory, fotodiody, fotonásobiče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; detektory s prostorov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ý</a:t>
            </a:r>
            <a:r>
              <a:rPr b="0" lang="en-US" sz="2200" spc="-1" strike="noStrike">
                <a:solidFill>
                  <a:srgbClr val="ffcc66"/>
                </a:solidFill>
                <a:latin typeface="Times New Roman"/>
              </a:rPr>
              <a:t>m ro</a:t>
            </a:r>
            <a:r>
              <a:rPr b="0" lang="cs-CZ" sz="2200" spc="-1" strike="noStrike">
                <a:solidFill>
                  <a:srgbClr val="ffcc66"/>
                </a:solidFill>
                <a:latin typeface="Times New Roman"/>
              </a:rPr>
              <a:t>zlišením – CCD –charge-coupled devi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79280" y="6165720"/>
            <a:ext cx="63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5CC0-EA1E-403A-9DAB-7DEE36FA81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64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m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566720" y="1338120"/>
            <a:ext cx="6008760" cy="508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CC77-BAC3-4103-A50C-F1E836D7D5E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68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bsorpční pás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716360" y="2276640"/>
          <a:ext cx="4284720" cy="4464000"/>
        </p:xfrm>
        <a:graphic>
          <a:graphicData uri="http://schemas.openxmlformats.org/drawingml/2006/table">
            <a:tbl>
              <a:tblPr/>
              <a:tblGrid>
                <a:gridCol w="1944720"/>
                <a:gridCol w="2340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Typ přecho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</a:t>
                      </a:r>
                      <a:r>
                        <a:rPr b="0" lang="cs-CZ" sz="28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lt;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0" lang="en-US" sz="28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*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K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&gt; 10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B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– benzenoi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~ 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(E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- ethylenic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2000 – 14 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 flipV="1">
            <a:off x="1979640" y="1412640"/>
            <a:ext cx="0" cy="71892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2565360"/>
            <a:ext cx="1440" cy="79236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76360" y="40464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fek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52640" y="836640"/>
            <a:ext cx="19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er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81080" y="3500280"/>
            <a:ext cx="20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2349360"/>
            <a:ext cx="863640" cy="180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042560" y="2349360"/>
            <a:ext cx="86364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55736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su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34936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hyps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16360" y="2060640"/>
            <a:ext cx="208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bathochrom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4114800" cy="24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586-D40D-4A4C-880F-6F3E5332B95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18720" cy="64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6ED9-57FA-4E99-99DA-CFFD6CEEE2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4A1-A7E8-47D2-B3C8-E4A347003E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Vyhodnocení spekter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– kvantitativn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alezení maxim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– Antonov – Step by step filter (SBSF) –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Fitování Gaussových (či jiných) křiv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Neparametrické metod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Singular Value Decomposition, Target Factoral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703-A543-4218-8B23-70484D30D4D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52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erivační spektroskop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1243080"/>
            <a:ext cx="5280120" cy="561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235480" y="1239840"/>
            <a:ext cx="3908520" cy="367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54AD-B21D-4161-AAD4-096DCC7937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2D4-B160-48EC-B068-131A3246568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olvatochromism</a:t>
            </a:r>
            <a:br>
              <a:rPr sz="3200"/>
            </a:b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hange in the position, intensity, and shape of absorption bands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ue to the surrounding medi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0" y="4251240"/>
          <a:ext cx="1230480" cy="174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251240"/>
                    <a:ext cx="1230480" cy="17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28600" y="1782720"/>
            <a:ext cx="84582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= perichromism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(peri - arou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surrounding medium - liquids, solids, glasses, and su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0600" y="2990880"/>
            <a:ext cx="4419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negative solvatochromism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blue (hypsochromic)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positive solvatochromis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a red (bathochromic) 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57320" y="4038480"/>
          <a:ext cx="3809880" cy="237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57320" y="4038480"/>
                    <a:ext cx="380988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5010120" y="4086360"/>
          <a:ext cx="3733920" cy="236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10120" y="4086360"/>
                    <a:ext cx="37339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7"/>
          <a:stretch/>
        </p:blipFill>
        <p:spPr>
          <a:xfrm>
            <a:off x="4952880" y="0"/>
            <a:ext cx="4191120" cy="116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7748640" y="3665520"/>
          <a:ext cx="2390760" cy="3192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748640" y="3665520"/>
                    <a:ext cx="23907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2DBA-3139-4F9F-A5E9-45E23C4B147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ichardt’s dye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betaine-30</a:t>
            </a:r>
            <a:br>
              <a:rPr sz="2400"/>
            </a:b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2,6-diphenyl-4-(2,4,6-triphenyl-pyridium)pheno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09680" y="2514600"/>
          <a:ext cx="670572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670572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0" y="2362320"/>
            <a:ext cx="3962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ipol moment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- dipol/dipol, dipol/induced dipo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electron system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dispersion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henolate oxygen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- highly basic EPD ce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FA05-72DD-480E-B042-D276DB0534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 m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ěří UV-VIS spetroskopie?</a:t>
            </a:r>
            <a:br>
              <a:rPr sz="4000"/>
            </a:b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fyzikální podst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2987640" cy="240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4648320" y="1981080"/>
          <a:ext cx="3809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981080"/>
                    <a:ext cx="3809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0" y="4221000"/>
            <a:ext cx="50036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4427640" y="1700280"/>
          <a:ext cx="4032000" cy="1677960"/>
        </p:xfrm>
        <a:graphic>
          <a:graphicData uri="http://schemas.openxmlformats.org/drawingml/2006/table">
            <a:tbl>
              <a:tblPr/>
              <a:tblGrid>
                <a:gridCol w="1685520"/>
                <a:gridCol w="2346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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85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acuum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U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200 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3</a:t>
                      </a: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cs-CZ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ear-UV (quartz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380 – 78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isi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3203640" y="3573360"/>
            <a:ext cx="298764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int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el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vib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+ </a:t>
            </a: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680000" y="4508640"/>
            <a:ext cx="4464000" cy="214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BF34-C666-47D0-9ECE-4F842AB1CA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1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0" i="1" lang="en-US" sz="4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4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4400" spc="-1" strike="noStrike" baseline="30000">
                <a:solidFill>
                  <a:srgbClr val="ffff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ale of solvent po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38240" y="771480"/>
            <a:ext cx="6629400" cy="70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 molar electronic transition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 = kcal/m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[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]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2.8591 E -3)(    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cm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-1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28591/(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/ n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ff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/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water)-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= (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solvent) - 30.7)/3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(TMS) = 0.00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 baseline="30000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(H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O) = 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MS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Tetramethylsi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486400" y="300996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590920" y="300024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graphicFrame>
        <p:nvGraphicFramePr>
          <p:cNvPr id="139" name=""/>
          <p:cNvGraphicFramePr/>
          <p:nvPr/>
        </p:nvGraphicFramePr>
        <p:xfrm>
          <a:off x="7458120" y="942840"/>
          <a:ext cx="1609560" cy="2743200"/>
        </p:xfrm>
        <a:graphic>
          <a:graphicData uri="http://schemas.openxmlformats.org/drawingml/2006/table">
            <a:tbl>
              <a:tblPr/>
              <a:tblGrid>
                <a:gridCol w="923760"/>
                <a:gridCol w="685800"/>
              </a:tblGrid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Látk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</a:t>
                      </a:r>
                      <a:r>
                        <a:rPr b="0" lang="en-US" sz="1600" spc="-1" strike="noStrike" baseline="-25000">
                          <a:solidFill>
                            <a:srgbClr val="ffff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1600" spc="-1" strike="noStrike" baseline="30000">
                          <a:solidFill>
                            <a:srgbClr val="ffff00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n-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hex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Dichlorme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3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Et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0.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Vo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0E68-ACC9-42AF-9E79-CE367C32A1B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68880" cy="5168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892920" y="0"/>
            <a:ext cx="2251080" cy="2565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173640" y="2641680"/>
            <a:ext cx="2970360" cy="32828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433680" y="4791240"/>
            <a:ext cx="2733840" cy="2066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00160" y="6429240"/>
            <a:ext cx="31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66"/>
                </a:solidFill>
                <a:latin typeface="Times New Roman"/>
              </a:rPr>
              <a:t>Normalizovaná odezva lidských čípk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B71E-4AE4-499E-BB7B-E0AA0AD19A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Odkazy, literatu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633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iupac.org/reports/V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I</a:t>
            </a:r>
            <a:r>
              <a:rPr b="0" lang="cs-CZ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spectro/contents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http://webbook.nist.gov/chemistry/name-ser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Silverstein R. M. et all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: Spectrometric indentification of organic compounds, John Wiley &amp; Sons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ichardt, C. (1994). "Solvatochromic Dyes as Solvent Polarity Indicators." Chemical Reviews 94(8): 2319-2358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hellmaoptik.com/en/kuevette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orgchm.bas.bg/~lantonov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BF3-C747-4638-B695-F1EFB66FB7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Franck-Condon 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3680" y="1165320"/>
            <a:ext cx="4270320" cy="569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0200" y="1181160"/>
            <a:ext cx="4596120" cy="567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8624-4137-410F-B218-B694F3DCD7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9640" y="404640"/>
            <a:ext cx="828036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pek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x ~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~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1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y ~ intenzita ~ prav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ěpodobnost přechodu </a:t>
            </a:r>
            <a:r>
              <a:rPr b="0" lang="cs-CZ" sz="2400" spc="-1" strike="noStrike">
                <a:solidFill>
                  <a:srgbClr val="ffcc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s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íla osciláto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f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≡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4.3e-9 ∫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d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~ 4.3e-9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max</a:t>
            </a:r>
            <a:r>
              <a:rPr b="0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</a:t>
            </a:r>
            <a:r>
              <a:rPr b="0" lang="cs-CZ" sz="2400" spc="-1" strike="noStrike">
                <a:solidFill>
                  <a:srgbClr val="ffcc66"/>
                </a:solidFill>
                <a:latin typeface="Symbol"/>
                <a:ea typeface="Symbol"/>
              </a:rPr>
              <a:t>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471920"/>
            <a:ext cx="6524640" cy="2373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34120" y="3300480"/>
            <a:ext cx="380988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492280" y="2835360"/>
                <a:ext cx="24444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84120" y="342900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ffcc66"/>
                </a:solidFill>
                <a:latin typeface="Times New Roman"/>
              </a:rPr>
              <a:t>E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</a:rPr>
              <a:t> =h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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h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522440" y="1758960"/>
                <a:ext cx="26676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572000" y="2800440"/>
                <a:ext cx="30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17840" y="3476520"/>
                <a:ext cx="301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ν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410160" y="0"/>
            <a:ext cx="2733840" cy="225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9D15-9D9B-4B17-95CB-9CE81C30AC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64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er – Lambert – Bougner l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280" y="1003320"/>
            <a:ext cx="7993080" cy="22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/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-log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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cb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i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v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nit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řní transmitance (transimisní fak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cc66"/>
              </a:buClr>
              <a:buFont typeface="Symbol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reflektance, reflexní fak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</a:t>
            </a:r>
            <a:r>
              <a:rPr b="0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cc66"/>
                </a:solidFill>
                <a:latin typeface="Times New Roman"/>
              </a:rPr>
              <a:t>= 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1800" spc="-1" strike="noStrike" baseline="-25000">
                <a:solidFill>
                  <a:srgbClr val="ffcc66"/>
                </a:solidFill>
                <a:latin typeface="Times New Roman"/>
              </a:rPr>
              <a:t>a </a:t>
            </a:r>
            <a:r>
              <a:rPr b="0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</a:t>
            </a:r>
            <a:r>
              <a:rPr b="0" i="1" lang="en-US" sz="18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 = 1 – </a:t>
            </a:r>
            <a:r>
              <a:rPr b="0" i="1" lang="cs-CZ" sz="1800" spc="-1" strike="noStrike">
                <a:solidFill>
                  <a:srgbClr val="ffcc66"/>
                </a:solidFill>
                <a:latin typeface="Symbol"/>
                <a:ea typeface="Symbol"/>
              </a:rPr>
              <a:t>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1800" spc="-1" strike="noStrike">
                <a:solidFill>
                  <a:srgbClr val="ffcc66"/>
                </a:solidFill>
                <a:latin typeface="Times New Roman"/>
              </a:rPr>
              <a:t>absorptance, absorpční fakto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41280" y="4178160"/>
            <a:ext cx="720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320" y="4754520"/>
            <a:ext cx="12906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33280" y="4827600"/>
            <a:ext cx="1008000" cy="719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60560" y="4827600"/>
            <a:ext cx="993600" cy="0"/>
          </a:xfrm>
          <a:prstGeom prst="line">
            <a:avLst/>
          </a:prstGeom>
          <a:ln w="38160">
            <a:solidFill>
              <a:srgbClr val="96969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35160" y="4216320"/>
            <a:ext cx="57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20840" y="4251240"/>
            <a:ext cx="49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6680" y="5259240"/>
            <a:ext cx="47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cs-CZ" sz="2400" spc="-1" strike="noStrike" baseline="-25000">
                <a:solidFill>
                  <a:srgbClr val="ffcc66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69720" y="4308480"/>
            <a:ext cx="46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 baseline="-25000">
                <a:solidFill>
                  <a:srgbClr val="ffcc66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268080" y="1469880"/>
            <a:ext cx="5040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nochromatický zářivý tok 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[W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66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 (dekadick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á) abso</a:t>
            </a:r>
            <a:r>
              <a:rPr b="0" lang="en-US" sz="2000" spc="-1" strike="noStrike">
                <a:solidFill>
                  <a:srgbClr val="ffcc66"/>
                </a:solidFill>
                <a:latin typeface="Times New Roman"/>
              </a:rPr>
              <a:t>r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molární (dekadický) absorpční koe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b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absorpční dráh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ffcc66"/>
                </a:solidFill>
                <a:latin typeface="Times New Roman"/>
              </a:rPr>
              <a:t>l</a:t>
            </a:r>
            <a:r>
              <a:rPr b="0" lang="cs-CZ" sz="2000" spc="-1" strike="noStrike">
                <a:solidFill>
                  <a:srgbClr val="ffcc66"/>
                </a:solidFill>
                <a:latin typeface="Times New Roman"/>
              </a:rPr>
              <a:t> optická dráha kyv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ffcc66"/>
              </a:buClr>
              <a:buFont typeface="Symbol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138480" y="3276720"/>
          <a:ext cx="6005520" cy="3195360"/>
        </p:xfrm>
        <a:graphic>
          <a:graphicData uri="http://schemas.openxmlformats.org/drawingml/2006/table">
            <a:tbl>
              <a:tblPr/>
              <a:tblGrid>
                <a:gridCol w="2565360"/>
                <a:gridCol w="1577880"/>
                <a:gridCol w="1862280"/>
              </a:tblGrid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Veli</a:t>
                      </a:r>
                      <a:r>
                        <a:rPr b="0" lang="cs-CZ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č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nochromatický zářivý to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(dekadick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á) vnitřní abso</a:t>
                      </a: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r</a:t>
                      </a: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molární (dekadický) absorpční koe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Symbol"/>
                          <a:ea typeface="Symbol"/>
                        </a:rPr>
                        <a:t>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 mol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 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absorpční dráh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optická dráha kyv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cc66"/>
                          </a:solidFill>
                          <a:latin typeface="Times New Roman"/>
                        </a:rPr>
                        <a:t>cm</a:t>
                      </a:r>
                      <a:r>
                        <a:rPr b="0" lang="en-US" sz="1800" spc="-1" strike="noStrike" baseline="30000">
                          <a:solidFill>
                            <a:srgbClr val="ffcc66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E29-5083-40F0-A7BD-CCF26A961F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24000" y="712800"/>
            <a:ext cx="8388360" cy="6145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BA7-FE66-4AD3-8FC2-0F1B4FC409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690480"/>
            <a:ext cx="8937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393F-E0C1-4A00-9292-FE26C974A0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Dvou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, dvoumřížkový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 UV – vis spektromet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11280" y="1617840"/>
            <a:ext cx="7778520" cy="524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4F69-502D-4235-9F8D-700A882F7E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Jednopaprskov</a:t>
            </a:r>
            <a:r>
              <a:rPr b="0" lang="cs-CZ" sz="4000" spc="-1" strike="noStrike">
                <a:solidFill>
                  <a:srgbClr val="ffff00"/>
                </a:solidFill>
                <a:latin typeface="Times New Roman"/>
              </a:rPr>
              <a:t>ý UV – vis spektrometr s diodovým po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1552680"/>
            <a:ext cx="5386320" cy="4000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572080" y="3933720"/>
            <a:ext cx="3009960" cy="225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9A7E-ABC0-4DB5-AD1C-CC28B5CC59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16:11:58Z</dcterms:created>
  <dc:creator>Dominik Heger</dc:creator>
  <dc:description/>
  <dc:language>en-US</dc:language>
  <cp:lastModifiedBy>Petr Klán</cp:lastModifiedBy>
  <dcterms:modified xsi:type="dcterms:W3CDTF">2009-02-23T09:47:27Z</dcterms:modified>
  <cp:revision>60</cp:revision>
  <dc:subject/>
  <dc:title>How Polar is Ice?</dc:title>
</cp:coreProperties>
</file>