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wmf" ContentType="image/x-wmf"/>
  <Override PartName="/ppt/media/image24.wmf" ContentType="image/x-wmf"/>
  <Override PartName="/ppt/media/image22.png" ContentType="image/png"/>
  <Override PartName="/ppt/media/image7.png" ContentType="image/png"/>
  <Override PartName="/ppt/media/image3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7.wmf" ContentType="image/x-wmf"/>
  <Override PartName="/ppt/media/image6.png" ContentType="image/png"/>
  <Override PartName="/ppt/media/image11.png" ContentType="image/png"/>
  <Override PartName="/ppt/media/image29.wmf" ContentType="image/x-wmf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33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wmf" ContentType="image/x-wmf"/>
  <Override PartName="/ppt/media/image15.png" ContentType="image/png"/>
  <Override PartName="/ppt/media/image1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9E5-E5A7-46AF-AE2C-6FBBDF73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DE0-25CB-4835-9956-873B0E3B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86CA-5C90-4F7F-AB03-909EBF17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7A3-63E6-4901-A185-1A30CCE8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96B-6981-49B8-8B97-20B89488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B6A8-9D8C-4D43-BE58-28A304E1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E28-6386-4112-A868-CC7F43E6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1F4-513A-42AC-812D-1B38EE9D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1E74-3EE5-47E8-8235-C0AC8D9D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3DEB-49FE-4EB3-8518-8EC16AE3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217F-EFB0-4F17-A489-0E0B6555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2BE3-2C51-4374-B076-9747A007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4DA0-3208-4EFE-960D-1B75F4EBF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2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upac.org/reports/VII/spectro/contents.html" TargetMode="External"/><Relationship Id="rId2" Type="http://schemas.openxmlformats.org/officeDocument/2006/relationships/hyperlink" Target="http://www.iupac.org/reports/VII/spectro/contents.html" TargetMode="External"/><Relationship Id="rId3" Type="http://schemas.openxmlformats.org/officeDocument/2006/relationships/hyperlink" Target="http://www.iupac.org/reports/VII/spectro/contents.html" TargetMode="External"/><Relationship Id="rId4" Type="http://schemas.openxmlformats.org/officeDocument/2006/relationships/hyperlink" Target="http://www.hellmaoptik.com/en/kuevetten/" TargetMode="External"/><Relationship Id="rId5" Type="http://schemas.openxmlformats.org/officeDocument/2006/relationships/hyperlink" Target="http://www.orgchm.bas.bg/~lantonov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Ultrafialová a viditelná spetroskop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ateriál k předmě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C 6390 Fyzikální metody organické chemie – laboratorní cvič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5950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Brno 2008, Dominik Heger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093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cc66"/>
                </a:solidFill>
                <a:latin typeface="Times New Roman"/>
              </a:rPr>
              <a:t>Ústav chemie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, 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140000" cy="308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417528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0DD7-491F-4447-9232-FD12C8826B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V – vis spektromet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56862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dr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čarový x spojit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rtuťová-halogenová výbojka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330; 1200)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lampa &lt;UV; 33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Xe v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bojka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190; 100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96000" y="620640"/>
            <a:ext cx="2876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Spektromet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jednopaprskový x dvoupaprskov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se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kve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nční x simult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3500280"/>
            <a:ext cx="26636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yv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t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obj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materi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2997360"/>
            <a:ext cx="640872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foto-emisní detektory (vakuované fotonky, fotonásobiče 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polovodičové detektory (fotovodivostní detektory, fotodiody, fotonásobiče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; detektory s prostorov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m ro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zlišením – CCD –charge-coupled devi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16572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EB1A-98BC-4D15-A057-4E9ECCFBD6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64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m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66720" y="1338120"/>
            <a:ext cx="6008760" cy="50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E90-F5B4-4B75-B57D-22493D94C2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sorpční pá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716360" y="2276640"/>
          <a:ext cx="4284720" cy="4464000"/>
        </p:xfrm>
        <a:graphic>
          <a:graphicData uri="http://schemas.openxmlformats.org/drawingml/2006/table">
            <a:tbl>
              <a:tblPr/>
              <a:tblGrid>
                <a:gridCol w="1944720"/>
                <a:gridCol w="2340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yp přecho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cs-CZ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lt;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K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gt; 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B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benzenoi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~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E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- ethylenic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0 – 14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 flipV="1">
            <a:off x="1979640" y="141264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2565360"/>
            <a:ext cx="1440" cy="792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e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2640" y="83664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er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1080" y="350028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2349360"/>
            <a:ext cx="863640" cy="1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042560" y="2349360"/>
            <a:ext cx="86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5736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u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349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s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2060640"/>
            <a:ext cx="208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bath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4114800" cy="24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031-6A5C-4DD9-9EF0-02C20FAA67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18720" cy="64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B1B7-F288-4A9E-857A-7FA5E2D426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6BF7-9D6C-4790-B208-3F625C69C0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Vyhodnocení spekt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– kvantitativn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lezení maxi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– Antonov – Step by step filter (SBSF)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itování Gaussových (či jiných) křiv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parametrické meto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ingular Value Decomposition, Target Factoral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AD6-AF2F-4D55-887C-1416E09A6B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2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243080"/>
            <a:ext cx="5280120" cy="561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35480" y="1239840"/>
            <a:ext cx="3908520" cy="36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5230-FDE2-4E31-B1A3-341FAE1A74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620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4D99-A6D7-43B8-BAE0-0BB82A6CBD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lvatochromism</a:t>
            </a:r>
            <a:br>
              <a:rPr sz="32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hange in the position, intensity, and shape of absorption band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ue to the surrounding med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251240"/>
          <a:ext cx="123048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51240"/>
                    <a:ext cx="123048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28600" y="1782720"/>
            <a:ext cx="84582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 perichromism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(peri - aro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urrounding medium - liquids, solids, glasses, and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0600" y="2990880"/>
            <a:ext cx="4419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egative solvatochromism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blue (hypsochromic) shi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ositive solvatochromis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red (bathochromic)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57320" y="4038480"/>
          <a:ext cx="3809880" cy="23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7320" y="4038480"/>
                    <a:ext cx="38098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010120" y="4086360"/>
          <a:ext cx="3733920" cy="23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0120" y="4086360"/>
                    <a:ext cx="37339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952880" y="0"/>
            <a:ext cx="419112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7748640" y="3665520"/>
          <a:ext cx="2390760" cy="3192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48640" y="3665520"/>
                    <a:ext cx="23907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DEA-14F8-4878-91ED-CA60EC308C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ichardt’s dy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betaine-30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2,6-diphenyl-4-(2,4,6-triphenyl-pyridium)pheno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09680" y="2514600"/>
          <a:ext cx="670572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67057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2362320"/>
            <a:ext cx="39625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ipol moment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- dipol/dipol, dipol/induced dipo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lectron syste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dispersion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henolate oxygen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highly basic EPD c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328-3DAC-4CBF-ADFD-0225541EBD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 m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ěří UV-VIS spetroskopie?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yzikální podst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298764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648320" y="1981080"/>
          <a:ext cx="3809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981080"/>
                    <a:ext cx="3809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50036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4427640" y="1700280"/>
          <a:ext cx="4032000" cy="1677960"/>
        </p:xfrm>
        <a:graphic>
          <a:graphicData uri="http://schemas.openxmlformats.org/drawingml/2006/table">
            <a:tbl>
              <a:tblPr/>
              <a:tblGrid>
                <a:gridCol w="1685520"/>
                <a:gridCol w="234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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85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acuum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U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200 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3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ear-UV (quart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380 – 78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i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203640" y="3573360"/>
            <a:ext cx="29876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int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el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vib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680000" y="4508640"/>
            <a:ext cx="4464000" cy="21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5B7-F2F2-4132-992B-E765FD5BC7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ale of solvent po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8240" y="771480"/>
            <a:ext cx="6629400" cy="70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 molar electronic transition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 = kcal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2.8591 E -3)(    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cm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28591/(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/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water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 - 30.7)/3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 = 0.00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(H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)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MS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etramethylsi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486400" y="300996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590920" y="300024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39" name=""/>
          <p:cNvGraphicFramePr/>
          <p:nvPr/>
        </p:nvGraphicFramePr>
        <p:xfrm>
          <a:off x="7458120" y="942840"/>
          <a:ext cx="1609560" cy="2743200"/>
        </p:xfrm>
        <a:graphic>
          <a:graphicData uri="http://schemas.openxmlformats.org/drawingml/2006/table">
            <a:tbl>
              <a:tblPr/>
              <a:tblGrid>
                <a:gridCol w="923760"/>
                <a:gridCol w="68580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át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6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hex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Dichlormeth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Et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4C91-F02C-4FE3-8FCA-A762260B62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8880" cy="5168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92920" y="0"/>
            <a:ext cx="2251080" cy="2565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73640" y="2641680"/>
            <a:ext cx="2970360" cy="3282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433680" y="4791240"/>
            <a:ext cx="2733840" cy="2066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00160" y="6429240"/>
            <a:ext cx="31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Normalizovaná odezva lidských čípk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5BED-A4C9-43CF-AC4E-170FACEDA4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Odkazy, literatu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63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upac.org/reports/V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I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spectro/content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ebbook.nist.gov/chemistry/name-ser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Silverstein R. M. et all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: Spectrometric indentification of organic compounds, John Wiley &amp; Son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ichardt, C. (1994). "Solvatochromic Dyes as Solvent Polarity Indicators." Chemical Reviews 94(8): 2319-235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orgchm.bas.bg/~lantonov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F954-1B83-4BB6-B396-F49CF5D0E0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ranck-Cond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73680" y="1165320"/>
            <a:ext cx="4270320" cy="569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0200" y="1181160"/>
            <a:ext cx="4596120" cy="567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3D8-E9F8-4FF6-9D39-F6D385240B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404640"/>
            <a:ext cx="8280360" cy="28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k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x ~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~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y ~ intenzita ~ prav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ěpodobnost přechodu </a:t>
            </a:r>
            <a:r>
              <a:rPr b="0" lang="cs-CZ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íla oscilá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≡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4.3e-9 ∫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 4.3e-9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</a:t>
            </a:r>
            <a:r>
              <a:rPr b="0" lang="cs-CZ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471920"/>
            <a:ext cx="6524640" cy="2373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4120" y="3300480"/>
            <a:ext cx="380988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492280" y="2835360"/>
                <a:ext cx="2444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384120" y="342900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h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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522440" y="1758960"/>
                <a:ext cx="2667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572000" y="280044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17840" y="347652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410160" y="0"/>
            <a:ext cx="2733840" cy="225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D4D-D57C-45A9-B42A-5EFEE38003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er – Lambert – Bougner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280" y="1003320"/>
            <a:ext cx="799308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nit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řní transmitance (transimisní fak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cc66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flektance, reflexní fa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= 1 – </a:t>
            </a: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absorptance, absorpční fak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41280" y="4178160"/>
            <a:ext cx="72072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320" y="4754520"/>
            <a:ext cx="1290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33280" y="4827600"/>
            <a:ext cx="100800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60560" y="4827600"/>
            <a:ext cx="99360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160" y="4216320"/>
            <a:ext cx="5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20840" y="4251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6680" y="5259240"/>
            <a:ext cx="47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9720" y="43084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68080" y="1469880"/>
            <a:ext cx="5040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nochromatický zářivý tok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[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(dekadick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) abso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b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lární (dekadický) absorpční koe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absorpční drá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l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optická dráha kyv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138480" y="3276720"/>
          <a:ext cx="6005520" cy="3195360"/>
        </p:xfrm>
        <a:graphic>
          <a:graphicData uri="http://schemas.openxmlformats.org/drawingml/2006/table">
            <a:tbl>
              <a:tblPr/>
              <a:tblGrid>
                <a:gridCol w="2565360"/>
                <a:gridCol w="1577880"/>
                <a:gridCol w="186228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i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č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edno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nochromatický zářivý t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(dekadick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á) vnitřní abso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lární (dekadický) absorpční koe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 mol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bsorpční drá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optická dráha kyv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FDAD-1849-4159-B8EC-FFC99731B5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712800"/>
            <a:ext cx="8388360" cy="614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7DF-9346-4311-970B-4827F4C192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90480"/>
            <a:ext cx="8937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55C-48E3-4842-895B-FF986B9F9A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, dvoumřížkový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1280" y="1617840"/>
            <a:ext cx="7778520" cy="524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6BC0-971E-48BE-9F27-FA10B6876E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 s diodovým po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552680"/>
            <a:ext cx="5386320" cy="4000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72080" y="3933720"/>
            <a:ext cx="3009960" cy="22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273-A88A-44D8-81EF-D313186E17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6:11:58Z</dcterms:created>
  <dc:creator>Dominik Heger</dc:creator>
  <dc:description/>
  <dc:language>en-US</dc:language>
  <cp:lastModifiedBy>Petr Klán</cp:lastModifiedBy>
  <dcterms:modified xsi:type="dcterms:W3CDTF">2009-02-23T09:47:27Z</dcterms:modified>
  <cp:revision>60</cp:revision>
  <dc:subject/>
  <dc:title>How Polar is Ice?</dc:title>
</cp:coreProperties>
</file>