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wmf" ContentType="image/x-wmf"/>
  <Override PartName="/ppt/media/image24.wmf" ContentType="image/x-wmf"/>
  <Override PartName="/ppt/media/image22.png" ContentType="image/png"/>
  <Override PartName="/ppt/media/image7.png" ContentType="image/png"/>
  <Override PartName="/ppt/media/image32.png" ContentType="image/png"/>
  <Override PartName="/ppt/media/image14.jpeg" ContentType="image/jpeg"/>
  <Override PartName="/ppt/media/image8.png" ContentType="image/png"/>
  <Override PartName="/ppt/media/image9.png" ContentType="image/png"/>
  <Override PartName="/ppt/media/image17.wmf" ContentType="image/x-wmf"/>
  <Override PartName="/ppt/media/image6.png" ContentType="image/png"/>
  <Override PartName="/ppt/media/image11.png" ContentType="image/png"/>
  <Override PartName="/ppt/media/image29.wmf" ContentType="image/x-wmf"/>
  <Override PartName="/ppt/media/image12.jpeg" ContentType="image/jpeg"/>
  <Override PartName="/ppt/media/image23.png" ContentType="image/png"/>
  <Override PartName="/ppt/media/image13.jpeg" ContentType="image/jpeg"/>
  <Override PartName="/ppt/media/image31.jpeg" ContentType="image/jpeg"/>
  <Override PartName="/ppt/media/image33.png" ContentType="image/png"/>
  <Override PartName="/ppt/media/image3.png" ContentType="image/png"/>
  <Override PartName="/ppt/media/image25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4.wmf" ContentType="image/x-wmf"/>
  <Override PartName="/ppt/media/image15.png" ContentType="image/png"/>
  <Override PartName="/ppt/media/image16.jpeg" ContentType="image/jpeg"/>
  <Override PartName="/ppt/media/image18.png" ContentType="image/png"/>
  <Override PartName="/ppt/media/image2.jpeg" ContentType="image/jpeg"/>
  <Override PartName="/ppt/media/image20.png" ContentType="image/pn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1A3D-101E-47E3-930B-26C048D1C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00E3-2703-4F0C-8018-4D8DAA0A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946D-677D-4AE2-9B82-527B68C10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3577-BC3C-4D0C-89EC-A9D731A14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ECBA-83D7-4EE6-97FC-BEE56966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FC62-936E-4415-8140-A997E9A9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C20E-6180-485A-9506-9D186AF6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9308-A833-421E-974C-4880B325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A115-D5F8-4959-93FD-DB6BA8DE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DDBD-F462-4B8D-B4F4-B6AEBAE3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279C-5479-4FDD-8A1E-4DBF08D4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7248-D4CF-4144-BDC2-ABFB0B2F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3F81-60B1-4719-BBC3-7B2B91927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image" Target="../media/image27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8.wmf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iupac.org/reports/VII/spectro/contents.html" TargetMode="External"/><Relationship Id="rId2" Type="http://schemas.openxmlformats.org/officeDocument/2006/relationships/hyperlink" Target="http://www.iupac.org/reports/VII/spectro/contents.html" TargetMode="External"/><Relationship Id="rId3" Type="http://schemas.openxmlformats.org/officeDocument/2006/relationships/hyperlink" Target="http://www.iupac.org/reports/VII/spectro/contents.html" TargetMode="External"/><Relationship Id="rId4" Type="http://schemas.openxmlformats.org/officeDocument/2006/relationships/hyperlink" Target="http://www.hellmaoptik.com/en/kuevetten/" TargetMode="External"/><Relationship Id="rId5" Type="http://schemas.openxmlformats.org/officeDocument/2006/relationships/hyperlink" Target="http://www.orgchm.bas.bg/~lantonov/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Ultrafialová a viditelná spetroskop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1268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Materiál k předmě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C 6390 Fyzikální metody organické chemie – laboratorní cvič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5950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Brno 2008, Dominik Heger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609300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cc66"/>
                </a:solidFill>
                <a:latin typeface="Times New Roman"/>
              </a:rPr>
              <a:t>Ústav chemie</a:t>
            </a: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, M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4140000" cy="3084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16360" y="2852640"/>
            <a:ext cx="4175280" cy="312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4C23-839C-4D4A-B395-EB9DD5AC78A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V – vis spektromet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5686200" cy="30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Zdro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čarový x spojit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rtuťová-halogenová výbojka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&lt;330; 1200)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ffcc66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lampa &lt;UV; 330&gt;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Xe v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ý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bojka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&lt;190; 1000&gt;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796000" y="620640"/>
            <a:ext cx="2876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Spektromet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jednopaprskový x dvoupaprskov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se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kve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nční x simultál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3500280"/>
            <a:ext cx="266364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yv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tv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obj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materi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á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84360" y="2997360"/>
            <a:ext cx="6408720" cy="24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tek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foto-emisní detektory (vakuované fotonky, fotonásobiče ..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polovodičové detektory (fotovodivostní detektory, fotodiody, fotonásobiče</a:t>
            </a:r>
            <a:r>
              <a:rPr b="0" lang="en-US" sz="2200" spc="-1" strike="noStrike">
                <a:solidFill>
                  <a:srgbClr val="ffcc66"/>
                </a:solidFill>
                <a:latin typeface="Times New Roman"/>
              </a:rPr>
              <a:t>; detektory s prostorov</a:t>
            </a: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ý</a:t>
            </a:r>
            <a:r>
              <a:rPr b="0" lang="en-US" sz="2200" spc="-1" strike="noStrike">
                <a:solidFill>
                  <a:srgbClr val="ffcc66"/>
                </a:solidFill>
                <a:latin typeface="Times New Roman"/>
              </a:rPr>
              <a:t>m ro</a:t>
            </a: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zlišením – CCD –charge-coupled devi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616572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http://www.hellmaoptik.com/en/kuevette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7506-89F9-4022-8BE4-62381E186B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6440" y="13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m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66720" y="1338120"/>
            <a:ext cx="6008760" cy="508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BE9F-52CB-4E43-8F73-3E8BC1E6B8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68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bsorpční pás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716360" y="2276640"/>
          <a:ext cx="4284720" cy="4464000"/>
        </p:xfrm>
        <a:graphic>
          <a:graphicData uri="http://schemas.openxmlformats.org/drawingml/2006/table">
            <a:tbl>
              <a:tblPr/>
              <a:tblGrid>
                <a:gridCol w="1944720"/>
                <a:gridCol w="2340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yp přechod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cs-CZ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 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*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&lt; 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*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K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&gt; 10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B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– benzenoid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~ 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E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- ethylenic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000 – 14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 flipV="1">
            <a:off x="1979640" y="1412640"/>
            <a:ext cx="0" cy="718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79640" y="2565360"/>
            <a:ext cx="1440" cy="792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76360" y="4046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fek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52640" y="836640"/>
            <a:ext cx="19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hyperchrom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81080" y="3500280"/>
            <a:ext cx="20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hypochrom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50920" y="2349360"/>
            <a:ext cx="863640" cy="1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042560" y="2349360"/>
            <a:ext cx="863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557360"/>
            <a:ext cx="32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u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34936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hypsochrom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16360" y="2060640"/>
            <a:ext cx="208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bathochrom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5280" y="4149720"/>
            <a:ext cx="4114800" cy="247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9843-F5F4-4E4A-B297-E16918278E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18720" cy="6448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4B2B-2D00-4A0A-AF25-222A85AB9A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12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A83A-4F14-4F9A-8231-CD8C2C6B52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Vyhodnocení spekter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– kvantitativn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1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Nalezení maxi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– Antonov – Step by step filter (SBSF) –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Derivační spektroskop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Fitování Gaussových (či jiných) křiv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Neparametrické metod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Singular Value Decomposition, Target Factoral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ABA0-5DAC-4E6C-926A-490DB64190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52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rivační spektrosko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1243080"/>
            <a:ext cx="5280120" cy="5614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235480" y="1239840"/>
            <a:ext cx="3908520" cy="367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A48B-7F9A-4BDA-86C1-36AC16EA3B2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17080" cy="620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8C9F-CAC7-4C8B-B69B-0181220AA8C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olvatochromism</a:t>
            </a:r>
            <a:br>
              <a:rPr sz="3200"/>
            </a:b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hange in the position, intensity, and shape of absorption bands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ue to the surrounding medi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0" y="4251240"/>
          <a:ext cx="1230480" cy="17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251240"/>
                    <a:ext cx="1230480" cy="17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228600" y="1782720"/>
            <a:ext cx="845820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= perichromism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(peri - arou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surrounding medium - liquids, solids, glasses, and su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0600" y="2990880"/>
            <a:ext cx="441936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negative solvatochromism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a blue (hypsochromic) shi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24280" y="30481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positive solvatochromism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a red (bathochromic) shi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057320" y="4038480"/>
          <a:ext cx="3809880" cy="237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57320" y="4038480"/>
                    <a:ext cx="3809880" cy="23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010120" y="4086360"/>
          <a:ext cx="3733920" cy="236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10120" y="4086360"/>
                    <a:ext cx="373392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4952880" y="0"/>
            <a:ext cx="4191120" cy="116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7748640" y="3665520"/>
          <a:ext cx="2390760" cy="3192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48640" y="3665520"/>
                    <a:ext cx="2390760" cy="31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C899-2386-4476-98D4-098091A8B98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ichardt’s dy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betaine-30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2,6-diphenyl-4-(2,4,6-triphenyl-pyridium)pheno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209680" y="2514600"/>
          <a:ext cx="6705720" cy="381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514600"/>
                    <a:ext cx="6705720" cy="38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0" y="2362320"/>
            <a:ext cx="396252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ipol moment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- dipol/dipol, dipol/induced dipol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lectron system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- dispersion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henolate oxygen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- highly basic EPD c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BD7F-33C7-40E5-AB13-E29D050EED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 m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ěří UV-VIS spetroskopie?</a:t>
            </a:r>
            <a:br>
              <a:rPr sz="4000"/>
            </a:b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fyzikální podst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2987640" cy="240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4648320" y="1981080"/>
          <a:ext cx="3809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1981080"/>
                    <a:ext cx="3809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0" y="4221000"/>
            <a:ext cx="5003640" cy="267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4427640" y="1700280"/>
          <a:ext cx="4032000" cy="1677960"/>
        </p:xfrm>
        <a:graphic>
          <a:graphicData uri="http://schemas.openxmlformats.org/drawingml/2006/table">
            <a:tbl>
              <a:tblPr/>
              <a:tblGrid>
                <a:gridCol w="1685520"/>
                <a:gridCol w="2346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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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n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185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 -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Vacuum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U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200 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 3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Near-UV (quart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380 – 78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Vis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3203640" y="3573360"/>
            <a:ext cx="298764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int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el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+ </a:t>
            </a: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vib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+ </a:t>
            </a: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r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4680000" y="4508640"/>
            <a:ext cx="4464000" cy="214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F773-FF46-4147-B5CB-1CC79811C8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1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4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0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nd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4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4400" spc="-1" strike="noStrike" baseline="30000">
                <a:solidFill>
                  <a:srgbClr val="ffff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cale of solvent pola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38240" y="771480"/>
            <a:ext cx="6629400" cy="70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- molar electronic transition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] = kcal/m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]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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max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= (2.8591 E -3)(    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/ cm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=28591/(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/ n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solvent)-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TMS))/(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water)-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TMS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= (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solvent) - 30.7)/3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TMS) = 0.000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(H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O) = 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TMS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Tetramethylsi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486400" y="3009960"/>
                <a:ext cx="301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590920" y="3000240"/>
                <a:ext cx="3016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39" name=""/>
          <p:cNvGraphicFramePr/>
          <p:nvPr/>
        </p:nvGraphicFramePr>
        <p:xfrm>
          <a:off x="7458120" y="942840"/>
          <a:ext cx="1609560" cy="2743200"/>
        </p:xfrm>
        <a:graphic>
          <a:graphicData uri="http://schemas.openxmlformats.org/drawingml/2006/table">
            <a:tbl>
              <a:tblPr/>
              <a:tblGrid>
                <a:gridCol w="923760"/>
                <a:gridCol w="685800"/>
              </a:tblGrid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át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6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6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n-</a:t>
                      </a: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hex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0.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Dichlormeth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0.3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Et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0.6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Vo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422F-6E3E-44DA-9AE7-6FF1AF5735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68880" cy="5168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892920" y="0"/>
            <a:ext cx="2251080" cy="2565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173640" y="2641680"/>
            <a:ext cx="2970360" cy="3282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3433680" y="4791240"/>
            <a:ext cx="2733840" cy="20667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00160" y="6429240"/>
            <a:ext cx="31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Normalizovaná odezva lidských čípk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A0FD-F4BF-4E61-BF61-896E43B79CE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Odkazy, literatur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633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iupac.org/reports/V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II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/spectro/contents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http://webbook.nist.gov/chemistry/name-ser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Silverstein R. M. et all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: Spectrometric indentification of organic compounds, John Wiley &amp; Sons,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Reichardt, C. (1994). "Solvatochromic Dyes as Solvent Polarity Indicators." Chemical Reviews 94(8): 2319-235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www.hellmaoptik.com/en/kuevette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http://www.orgchm.bas.bg/~lantonov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782C-6912-4CA0-B578-F3F4563D04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23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Franck-Condon Princi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873680" y="1165320"/>
            <a:ext cx="4270320" cy="5692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60200" y="1181160"/>
            <a:ext cx="4596120" cy="567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6B04-5E6C-4697-A0A7-6AFFEC47A1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9640" y="404640"/>
            <a:ext cx="8280360" cy="28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pekt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x ~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~ 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~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1/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y ~ intenzita ~ pravd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ěpodobnost přechodu </a:t>
            </a:r>
            <a:r>
              <a:rPr b="0" lang="cs-CZ" sz="2400" spc="-1" strike="noStrike">
                <a:solidFill>
                  <a:srgbClr val="ffcc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s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íla osciláto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≡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4.3e-9 ∫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d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~ 4.3e-9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</a:t>
            </a:r>
            <a:r>
              <a:rPr b="0" lang="cs-CZ" sz="2400" spc="-1" strike="noStrike">
                <a:solidFill>
                  <a:srgbClr val="ffcc66"/>
                </a:solidFill>
                <a:latin typeface="Symbol"/>
                <a:ea typeface="Symbol"/>
              </a:rPr>
              <a:t>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4471920"/>
            <a:ext cx="6524640" cy="2373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334120" y="3300480"/>
            <a:ext cx="3809880" cy="115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492280" y="2835360"/>
                <a:ext cx="24444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384120" y="342900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=h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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c/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522440" y="1758960"/>
                <a:ext cx="26676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572000" y="2800440"/>
                <a:ext cx="301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517840" y="3476520"/>
                <a:ext cx="3016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410160" y="0"/>
            <a:ext cx="2733840" cy="2255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1D19-72D5-4B8F-BAF6-FA57269A23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64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er – Lambert – Bougner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280" y="1003320"/>
            <a:ext cx="7993080" cy="22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-log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-log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cb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i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= 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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nit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řní transmitance (transimisní fak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cc66"/>
              </a:buClr>
              <a:buFont typeface="Symbol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= 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ffcc66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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cs-CZ" sz="1800" spc="-1" strike="noStrike" baseline="-25000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 baseline="-25000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reflektance, reflexní fa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cc66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>
                <a:solidFill>
                  <a:srgbClr val="ffcc66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= 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ffcc66"/>
                </a:solidFill>
                <a:latin typeface="Times New Roman"/>
              </a:rPr>
              <a:t>a </a:t>
            </a:r>
            <a:r>
              <a:rPr b="0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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 = 1 – </a:t>
            </a:r>
            <a:r>
              <a:rPr b="0" i="1" lang="cs-CZ" sz="1800" spc="-1" strike="noStrike">
                <a:solidFill>
                  <a:srgbClr val="ffcc66"/>
                </a:solidFill>
                <a:latin typeface="Symbol"/>
                <a:ea typeface="Symbol"/>
              </a:rPr>
              <a:t>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absorptance, absorpční fak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41280" y="4178160"/>
            <a:ext cx="72072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320" y="4754520"/>
            <a:ext cx="1290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33280" y="4827600"/>
            <a:ext cx="1008000" cy="719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60560" y="4827600"/>
            <a:ext cx="993600" cy="0"/>
          </a:xfrm>
          <a:prstGeom prst="line">
            <a:avLst/>
          </a:prstGeom>
          <a:ln w="38160">
            <a:solidFill>
              <a:srgbClr val="96969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5160" y="4216320"/>
            <a:ext cx="57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20840" y="425124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6680" y="5259240"/>
            <a:ext cx="47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69720" y="4308480"/>
            <a:ext cx="46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268080" y="1469880"/>
            <a:ext cx="504036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cc66"/>
              </a:buClr>
              <a:buFont typeface="Symbol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monochromatický zářivý tok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[W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66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(dekadick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á) abso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r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b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Symbol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molární (dekadický) absorpční koe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cc66"/>
                </a:solidFill>
                <a:latin typeface="Times New Roman"/>
              </a:rPr>
              <a:t>b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absorpční dráh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cc66"/>
                </a:solidFill>
                <a:latin typeface="Times New Roman"/>
              </a:rPr>
              <a:t>l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optická dráha kyv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Symbol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138480" y="3276720"/>
          <a:ext cx="6005520" cy="3195360"/>
        </p:xfrm>
        <a:graphic>
          <a:graphicData uri="http://schemas.openxmlformats.org/drawingml/2006/table">
            <a:tbl>
              <a:tblPr/>
              <a:tblGrid>
                <a:gridCol w="2565360"/>
                <a:gridCol w="1577880"/>
                <a:gridCol w="1862280"/>
              </a:tblGrid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eli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č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Jednot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monochromatický zářivý t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(dekadick</a:t>
                      </a: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á) vnitřní abso</a:t>
                      </a: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r</a:t>
                      </a: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b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molární (dekadický) absorpční koefic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L mol</a:t>
                      </a:r>
                      <a:r>
                        <a:rPr b="0" lang="en-US" sz="1800" spc="-1" strike="noStrike" baseline="30000">
                          <a:solidFill>
                            <a:srgbClr val="ffcc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 cm</a:t>
                      </a:r>
                      <a:r>
                        <a:rPr b="0" lang="en-US" sz="1800" spc="-1" strike="noStrike" baseline="30000">
                          <a:solidFill>
                            <a:srgbClr val="ffcc66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absorpční drá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cm</a:t>
                      </a:r>
                      <a:r>
                        <a:rPr b="0" lang="en-US" sz="1800" spc="-1" strike="noStrike" baseline="30000">
                          <a:solidFill>
                            <a:srgbClr val="ffcc66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optická dráha kyv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cm</a:t>
                      </a:r>
                      <a:r>
                        <a:rPr b="0" lang="en-US" sz="1800" spc="-1" strike="noStrike" baseline="30000">
                          <a:solidFill>
                            <a:srgbClr val="ffcc66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3EFA-D8D9-400A-A923-DF8F7DA1E7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2400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Jednopaprskov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ý UV – vis spektromet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24000" y="712800"/>
            <a:ext cx="8388360" cy="614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8E8B-90B3-42C9-8F90-6763102FE3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Dvou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aprskov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ý UV – vis spektromet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690480"/>
            <a:ext cx="8937720" cy="616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EA3F-07E6-42FB-A1EF-FC09EB8FF1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2400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Dvou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aprskov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ý, dvoumřížkový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 UV – vis spektromet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11280" y="1617840"/>
            <a:ext cx="7778520" cy="5240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CA0D-F6A4-475A-BF6A-3F8FD2C8FD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400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Jednopaprskov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ý UV – vis spektrometr s diodovým po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552680"/>
            <a:ext cx="5386320" cy="4000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572080" y="3933720"/>
            <a:ext cx="3009960" cy="225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EC53-5F04-490B-9581-75A8824C35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16:11:58Z</dcterms:created>
  <dc:creator>Dominik Heger</dc:creator>
  <dc:description/>
  <dc:language>en-US</dc:language>
  <cp:lastModifiedBy>Petr Klán</cp:lastModifiedBy>
  <dcterms:modified xsi:type="dcterms:W3CDTF">2009-02-23T09:47:27Z</dcterms:modified>
  <cp:revision>60</cp:revision>
  <dc:subject/>
  <dc:title>How Polar is Ice?</dc:title>
</cp:coreProperties>
</file>