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E01-B24A-4126-BF07-866E4B96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215-4A9E-40E6-9CCF-DF26B0EA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5F4-B9A4-44CC-A21A-1C88EFC3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71E-3014-4E0C-9C5E-56A629A7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A4F5-C188-45F4-B82C-647A4EF3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96D-BF2D-4A43-B853-4D32797F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3EC5-8E2E-45C7-B11E-05856DED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5236-409B-4F1C-8141-620BBC8C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E103-9A3D-414F-90E9-04791443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A0BC-38F5-4E02-90FC-CD086925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0070-6857-423A-A23B-D446EF50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F89-AF1E-4326-92FB-BD24F99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025F-109E-4C1B-BC81-EC3A0E77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2134-51AA-47F1-AAFC-10453480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0277-4F27-417C-A0BC-3248F91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1577-A390-4BF3-8497-3FAA98C7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CC2F-AB46-4F15-984E-F82A8279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797-CFC9-4CBE-BB57-18E45D53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D30-4F03-43BF-9B49-64F97FC2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D65-AF94-49B5-A252-126F80D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55A-3F39-4B92-A96C-5A05C845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13E-F126-49E3-90E2-74593957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107-8062-46AD-B23B-C2F8764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C78-7740-4639-BE1C-72F9985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EB07-B34A-45FB-92D0-2870B23CC3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9305-20DF-4BE7-9E4E-4FDFF5D1EF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probíhají chemické reak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27A4-84AB-40E0-9A74-EBB9D6E6A8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6A3-B160-4044-8814-D4E7BAE85A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termodynamických funkcí a samovo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705-2A4C-42F5-A160-8323AF828A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bilita sádrov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BFC-BF4C-4924-AEC0-78776B787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7545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počty reakčních termodynamických funkc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429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ogicky pro entalpii a entrop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849-F4D7-4ACC-B987-100CF0D770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960" y="304560"/>
            <a:ext cx="7621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fektivita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99B-E338-4BDB-AFBF-BCB5921758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697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vnovážná konstanta a reakční Gibbsov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850-EA5B-4E17-B790-9AEFF9A16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7:03Z</dcterms:modified>
  <cp:revision>21</cp:revision>
  <dc:subject/>
  <dc:title>Prezentace aplikace PowerPoint</dc:title>
</cp:coreProperties>
</file>