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C221-6DFC-4332-A7B2-2F99C0A92A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A8A-C6DF-4A59-BD0F-88495466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EB1-F721-4DCD-B85E-9C5FBABE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EF8-172B-4E90-BDC5-767E7442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D6A-F581-42EB-8425-8F66FEA2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2BCB-F0B5-435D-9C55-82396568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A037-7D40-4471-85C9-14FBC72E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808B-0807-461B-BC18-21AFDB8F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CA8D-EDCF-465F-B621-44FC26B2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EE88-86CC-41CC-91A7-8C4BF06D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8DC5-2A50-4433-A6A5-67EADF8B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25E4-CB29-432F-8B1E-466793C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4AF-320A-4022-8BB4-4E476AD7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1BAE-1001-4FE1-909F-5BB4AC37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64F9-A404-4034-B3C9-4ED8F42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2F55-15C6-4D35-B772-4BEBD6B6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1FA3-BFB0-4CC6-B6B1-931962B8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ABFD-890E-4522-BA6E-DCD03E6C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D3C-ECDA-4E09-BA1A-7CF85B9C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9F9-3EF6-4A75-803E-2045A688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6A0-8033-4436-884A-82027528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A40-4E68-43D5-B519-A9F237FF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B18-C17C-453B-B3EE-52C7DAAF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708-C00D-4247-8B73-FF8E9431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147-CAF7-45F3-98AD-70898533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3A37-DADE-4BCA-9C7A-3EB87771730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EC69-D382-446F-91D3-B71A2389392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hyperlink" Target="mailto:sopousek@chemi.muni.cz" TargetMode="External"/><Relationship Id="rId3" Type="http://schemas.openxmlformats.org/officeDocument/2006/relationships/hyperlink" Target="mailto:sopousek@chemi.muni.cz" TargetMode="External"/><Relationship Id="rId4" Type="http://schemas.openxmlformats.org/officeDocument/2006/relationships/hyperlink" Target="mailto:sopousek@chemi.muni.cz" TargetMode="External"/><Relationship Id="rId5" Type="http://schemas.openxmlformats.org/officeDocument/2006/relationships/hyperlink" Target="mailto:sopousek@chemi.muni.cz" TargetMode="External"/><Relationship Id="rId6" Type="http://schemas.openxmlformats.org/officeDocument/2006/relationships/hyperlink" Target="mailto:sopousek@chemi.muni.cz" TargetMode="External"/><Relationship Id="rId7" Type="http://schemas.openxmlformats.org/officeDocument/2006/relationships/hyperlink" Target="mailto:sopousek@chemi.muni.cz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1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B975-F694-4963-BE8D-CDC3D071FF2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7" name="7c_zmydelneni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202-FB70-4178-99BC-03A0B676F5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3333ff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362-1E83-42D7-84C5-B8917D6E31E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cat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ff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186" name="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BD6-D1CE-45E8-985D-E01B4E42524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Oscilace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D2A-40EC-462C-9631-BC05C02FEE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Image6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5EA-2E66-4992-BB91-F0A608B0BFF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fig1" descr="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DAE-71E7-40C1-A17E-3E30D3341A9E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opousek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hem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un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c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prokázání schopnosti samostatně řešit modelové    problém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848-F16F-49E8-8D04-CD479ADCE27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semináře: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30 Chemická kine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oužívání software urychlujícího práci (zejména EXC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 Znalost probírané tématiky dle sylabu přednášky C63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EE8-26EB-480A-A7A6-836E81D52E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J. Vohlídal, Chemická kinetika, Karolinum, Praha 2001</a:t>
            </a:r>
            <a:r>
              <a:rPr b="1" lang="cs-CZ" sz="2000" spc="-1" strike="noStrike">
                <a:solidFill>
                  <a:srgbClr val="ffcc00"/>
                </a:solidFill>
                <a:latin typeface="Times New Roman"/>
              </a:rPr>
              <a:t> (scrip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53F-B2F6-4B80-B20F-43BCD80BAE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říkladník z fyzikální chemie VŠChT: http://www.vscht.cz/fch/prikladnik/prikladnik/p.html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D1E-4DBC-47BB-9F33-7C52E930E1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image11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33cc33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56B-11AB-477A-8B32-1CE797BA0DB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619-1597-4D04-B30F-AF8BE6410C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4724280"/>
            <a:ext cx="3794040" cy="77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Figure:  </a:t>
            </a:r>
            <a:r>
              <a:rPr b="1" lang="cs-CZ" sz="1800" spc="-1" strike="noStrike">
                <a:solidFill>
                  <a:srgbClr val="6666ff"/>
                </a:solidFill>
                <a:latin typeface="Times New Roman"/>
              </a:rPr>
              <a:t>Následná nevratná reakce prvního řádu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  A --&gt; B --&gt;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 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57C-E0BB-421A-BEBC-26116C7D04B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02154g1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D50-5FE3-4EAD-AB56-226D1691A75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47:54Z</dcterms:modified>
  <cp:revision>30</cp:revision>
  <dc:subject/>
  <dc:title>Prezentace aplikace PowerPoint</dc:title>
</cp:coreProperties>
</file>