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37D73-019B-4541-B5D5-1C7A11E1B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43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43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20EBA-F1FB-4708-8189-34995EEEC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43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70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43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70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3A861-0D3B-4DA5-9564-AF9EA26CF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43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23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00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43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23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00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76529-6A52-45A6-BD7B-CD8CC820C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7A84C-C84C-4EDC-8B00-82E8F23F2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43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FFC37-61BC-46B3-8ACD-A6D5DD138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43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7F9D5-717B-4475-A3DD-2F4EB37FC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43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70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6F6AF-1688-40B2-A9DF-A3E539527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048A6-6E10-428C-A5BA-CA2674D61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4000" y="609120"/>
            <a:ext cx="80787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C640A-BFF1-4621-B6A3-E04CEA548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43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70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43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60C4F-C0F4-4FFE-AAB3-D396CABA2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43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8B1A4-E7DC-4620-9B05-FF48C000A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43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70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70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BE463-89EE-4236-9D3D-CCFFE66D0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43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70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43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A65EC-347C-4DD7-84A9-9781D51EA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43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43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157AC-5D17-424A-9A26-25A3C34E1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43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70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43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70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2767D-A1DD-4672-B3A7-0C6F4712F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43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23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00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43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23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00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9C042-6BC1-459C-95DD-846C732BD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43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6C3FC-ECD6-4620-9214-4B67518F2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43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70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39007-98D1-4597-BC05-399AE0249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DC75A-5D0F-4B44-858B-C07A4E6BC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4000" y="609120"/>
            <a:ext cx="80787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573FC-969E-40DC-B376-20AE141B8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43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70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43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EF9BF-D59D-4F28-93DB-2D7FA061A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43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70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70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A5661-2DE4-4DA7-9DE8-C08BB0105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43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70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43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FAC36-BA97-425E-A766-61E7262C6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43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4000" y="6365880"/>
            <a:ext cx="4267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6FF7-F1A9-4491-A496-503E847D8637}"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55FC-4306-492E-8253-194E39EFA392}"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2120"/>
            <a:ext cx="7772400" cy="2666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6320 Chemická kinetika:</a:t>
            </a:r>
            <a:br>
              <a:rPr sz="4400"/>
            </a:br>
            <a:br>
              <a:rPr sz="4400"/>
            </a:br>
            <a:r>
              <a:rPr b="0" lang="cs-CZ" sz="4400" spc="-1" strike="noStrike">
                <a:solidFill>
                  <a:srgbClr val="000000"/>
                </a:solidFill>
                <a:latin typeface="Arial"/>
              </a:rPr>
              <a:t>Historie chemické kinetiky</a:t>
            </a: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Sopousek, L01_02 Chemická kinetika</a:t>
            </a:r>
          </a:p>
        </p:txBody>
      </p:sp>
      <p:sp>
        <p:nvSpPr>
          <p:cNvPr id="4" name="PlaceHolder 3"/>
          <p:cNvSpPr>
            <a:spLocks noGrp="1"/>
          </p:cNvSpPr>
          <p:nvPr>
            <p:ph type="sldNum" idx="6"/>
          </p:nvPr>
        </p:nvSpPr>
        <p:spPr/>
        <p:txBody>
          <a:bodyPr/>
          <a:p>
            <a:fld id="{C71739F4-DB9B-4BD1-9A49-EBA054A30A9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Historie chemické kinetiky</a:t>
            </a:r>
            <a:br>
              <a:rPr sz="4400"/>
            </a:br>
            <a:r>
              <a:rPr b="0" lang="cs-CZ" sz="1600" spc="-1" strike="noStrike">
                <a:solidFill>
                  <a:srgbClr val="ff0000"/>
                </a:solidFill>
                <a:latin typeface="ArialNarrow"/>
              </a:rPr>
              <a:t>Ref: "The World of Physical Chemistry," by K. J. Laidler, Oxford Univ. Press, 1993)</a:t>
            </a:r>
            <a:br>
              <a:rPr sz="1600"/>
            </a:br>
            <a:endParaRPr b="0" lang="en-US" sz="1600" spc="-1" strike="noStrike">
              <a:solidFill>
                <a:srgbClr val="000000"/>
              </a:solidFill>
              <a:latin typeface="Arial"/>
            </a:endParaRPr>
          </a:p>
        </p:txBody>
      </p:sp>
      <p:sp>
        <p:nvSpPr>
          <p:cNvPr id="90" name="PlaceHolder 2"/>
          <p:cNvSpPr>
            <a:spLocks noGrp="1"/>
          </p:cNvSpPr>
          <p:nvPr>
            <p:ph/>
          </p:nvPr>
        </p:nvSpPr>
        <p:spPr>
          <a:xfrm>
            <a:off x="684360" y="1980720"/>
            <a:ext cx="7850160" cy="4419720"/>
          </a:xfrm>
          <a:prstGeom prst="rect">
            <a:avLst/>
          </a:prstGeom>
          <a:noFill/>
          <a:ln w="0">
            <a:noFill/>
          </a:ln>
        </p:spPr>
        <p:txBody>
          <a:bodyPr lIns="182520" rIns="182520" tIns="46080" bIns="4608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r>
              <a:rPr b="0" lang="cs-CZ" sz="2000" spc="-1" strike="noStrike">
                <a:solidFill>
                  <a:srgbClr val="000000"/>
                </a:solidFill>
                <a:latin typeface="Arial"/>
              </a:rPr>
              <a:t>1850: Wilhelmy (Germany) studied the rate of inversion of sucrose (hydrolysis into D-(+)-glucose and D-(-)-fructose in the presence of an acid) and found it to be proportional to the concentrations of both the sugar and the acid. (viz experimentální úloha v praktiku fyzikální chemi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r>
              <a:rPr b="0" lang="cs-CZ" sz="2000" spc="-1" strike="noStrike">
                <a:solidFill>
                  <a:srgbClr val="000000"/>
                </a:solidFill>
                <a:latin typeface="Arial"/>
              </a:rPr>
              <a:t>1864: Guldberg and Waage (Norway) formulated their "law of mass action," according to which the reaction "forces" are proportional to the product of the concentrations of the reactants: K=[R]r [S]s/([A]a [B]b) where a, b, r and s are the stoichiometric coefficients in the chemica equation A+B=R+S. So the rate of the forward reaction is proportional to [A]a [B]b and that of the reverse reaction is proportional to {R]r [S]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01CE6C-4441-48C2-A61D-BDF55F15D4AB}" type="slidenum">
              <a:t>2</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457200"/>
            <a:ext cx="7772400" cy="5410080"/>
          </a:xfrm>
          <a:prstGeom prst="rect">
            <a:avLst/>
          </a:prstGeom>
          <a:noFill/>
          <a:ln w="0">
            <a:noFill/>
          </a:ln>
        </p:spPr>
        <p:txBody>
          <a:bodyPr lIns="182520" rIns="182520" tIns="46080" bIns="4608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t>
            </a:r>
            <a:r>
              <a:rPr b="1" lang="cs-CZ" sz="2000" spc="-1" strike="noStrike">
                <a:solidFill>
                  <a:srgbClr val="000000"/>
                </a:solidFill>
                <a:latin typeface="Arial"/>
              </a:rPr>
              <a:t>1865: Harcourt and Esson (UK) analyzed the reactions between H2O2 and HI and between KMnO4 and (COOH)2. They wrote the corresponding differential equations, integrated them and determined the concentration vs. time relationships. They also proposed an equation for the temperature dependence of the reaction rate, k = A T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t>
            </a:r>
            <a:r>
              <a:rPr b="1" lang="cs-CZ" sz="2000" spc="-1" strike="noStrike">
                <a:solidFill>
                  <a:srgbClr val="000000"/>
                </a:solidFill>
                <a:latin typeface="Arial"/>
              </a:rPr>
              <a:t>1884: van't Hoff (The Netherlands) published his "Studies of Chemical Dynamics" (Études de dynamique chimique), in which he generalized and further developed the work of Wilhelm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5611F57-2B29-438B-98FE-5B5453B0C5C1}" type="slidenum">
              <a:t>3</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457200"/>
            <a:ext cx="7772400" cy="5410080"/>
          </a:xfrm>
          <a:prstGeom prst="rect">
            <a:avLst/>
          </a:prstGeom>
          <a:noFill/>
          <a:ln w="0">
            <a:noFill/>
          </a:ln>
        </p:spPr>
        <p:txBody>
          <a:bodyPr lIns="182520" rIns="182520" tIns="46080" bIns="4608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Harcourt and Esson. In particular, he introduced the differential method of analysis. He also analyzed the temperature dependence of the equilibrium constant (now called the "van't Hoff equation") and of forward and reverse reaction rat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t>
            </a:r>
            <a:r>
              <a:rPr b="1" lang="cs-CZ" sz="2000" spc="-1" strike="noStrike">
                <a:solidFill>
                  <a:srgbClr val="000000"/>
                </a:solidFill>
                <a:latin typeface="Arial"/>
              </a:rPr>
              <a:t>1887: Ostwald (Germany; Latvia) introduces the terms "reaction order" and "half-life" in his "Lehrbuch der allgemeinen Chemi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t>
            </a:r>
            <a:r>
              <a:rPr b="1" lang="cs-CZ" sz="2000" spc="-1" strike="noStrike">
                <a:solidFill>
                  <a:srgbClr val="000000"/>
                </a:solidFill>
                <a:latin typeface="Arial"/>
              </a:rPr>
              <a:t>1889: Arrhenius (Sweden) further analyzed the temperature dependence of reaction rate, k = A exp(-B/T), and gave it an "energy barrier" interpretation; this is now called the "Arrhenius equ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B954F7E-CD43-404A-974F-F23676AD0CC7}"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457200"/>
            <a:ext cx="7772400" cy="5410080"/>
          </a:xfrm>
          <a:prstGeom prst="rect">
            <a:avLst/>
          </a:prstGeom>
          <a:noFill/>
          <a:ln w="0">
            <a:noFill/>
          </a:ln>
        </p:spPr>
        <p:txBody>
          <a:bodyPr lIns="182520" rIns="18252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entenová (Maude Lenora Menten, *1879)</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Michaelis-Menten equation (1912), enzymová kinetika (profesorkou v 79-ti letec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Menten" descr=""/>
          <p:cNvPicPr/>
          <p:nvPr/>
        </p:nvPicPr>
        <p:blipFill>
          <a:blip r:embed="rId1"/>
          <a:stretch/>
        </p:blipFill>
        <p:spPr>
          <a:xfrm>
            <a:off x="4572000" y="2133720"/>
            <a:ext cx="3429000" cy="4022640"/>
          </a:xfrm>
          <a:prstGeom prst="rect">
            <a:avLst/>
          </a:prstGeom>
          <a:ln w="0">
            <a:noFill/>
          </a:ln>
        </p:spPr>
      </p:pic>
      <p:sp>
        <p:nvSpPr>
          <p:cNvPr id="3" name="PlaceHolder 2"/>
          <p:cNvSpPr>
            <a:spLocks noGrp="1"/>
          </p:cNvSpPr>
          <p:nvPr>
            <p:ph type="sldNum" idx="3"/>
          </p:nvPr>
        </p:nvSpPr>
        <p:spPr/>
        <p:txBody>
          <a:bodyPr/>
          <a:p>
            <a:fld id="{CE6803CC-5379-4241-BE4E-F7F7CEAC95D8}"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rmodynamika</a:t>
            </a:r>
            <a:endParaRPr b="0" lang="en-US" sz="4400" spc="-1" strike="noStrike">
              <a:solidFill>
                <a:srgbClr val="000000"/>
              </a:solidFill>
              <a:latin typeface="Arial"/>
            </a:endParaRPr>
          </a:p>
        </p:txBody>
      </p:sp>
      <p:pic>
        <p:nvPicPr>
          <p:cNvPr id="96" name="" descr=""/>
          <p:cNvPicPr/>
          <p:nvPr/>
        </p:nvPicPr>
        <p:blipFill>
          <a:blip r:embed="rId1"/>
          <a:stretch/>
        </p:blipFill>
        <p:spPr>
          <a:xfrm>
            <a:off x="380880" y="1523880"/>
            <a:ext cx="8534520" cy="4002120"/>
          </a:xfrm>
          <a:prstGeom prst="rect">
            <a:avLst/>
          </a:prstGeom>
          <a:ln w="0">
            <a:noFill/>
          </a:ln>
        </p:spPr>
      </p:pic>
      <p:sp>
        <p:nvSpPr>
          <p:cNvPr id="3" name="PlaceHolder 2"/>
          <p:cNvSpPr>
            <a:spLocks noGrp="1"/>
          </p:cNvSpPr>
          <p:nvPr>
            <p:ph type="sldNum" idx="3"/>
          </p:nvPr>
        </p:nvSpPr>
        <p:spPr/>
        <p:txBody>
          <a:bodyPr/>
          <a:p>
            <a:fld id="{152BDA7B-C3E5-440A-B085-71E3363285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hrnutí poznatků z historie</a:t>
            </a:r>
            <a:endParaRPr b="0" lang="en-US" sz="4400" spc="-1" strike="noStrike">
              <a:solidFill>
                <a:srgbClr val="000000"/>
              </a:solidFill>
              <a:latin typeface="Arial"/>
            </a:endParaRPr>
          </a:p>
        </p:txBody>
      </p:sp>
      <p:sp>
        <p:nvSpPr>
          <p:cNvPr id="98" name="PlaceHolder 2"/>
          <p:cNvSpPr>
            <a:spLocks noGrp="1"/>
          </p:cNvSpPr>
          <p:nvPr>
            <p:ph/>
          </p:nvPr>
        </p:nvSpPr>
        <p:spPr>
          <a:xfrm>
            <a:off x="684360" y="1981080"/>
            <a:ext cx="7772400" cy="2743200"/>
          </a:xfrm>
          <a:prstGeom prst="rect">
            <a:avLst/>
          </a:prstGeom>
          <a:noFill/>
          <a:ln w="0">
            <a:noFill/>
          </a:ln>
        </p:spPr>
        <p:txBody>
          <a:bodyPr lIns="182520" rIns="182520" tIns="46080" bIns="46080" anchor="t">
            <a:normAutofit fontScale="95000"/>
          </a:bodyPr>
          <a:p>
            <a:pPr marL="325800" indent="-3258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Řada pojmů a představ se kterými se setkáváme v chemické kinetice je již dlouho známých.</a:t>
            </a:r>
            <a:endParaRPr b="0" lang="en-US" sz="2800" spc="-1" strike="noStrike">
              <a:solidFill>
                <a:srgbClr val="000000"/>
              </a:solidFill>
              <a:latin typeface="Times New Roman"/>
            </a:endParaRPr>
          </a:p>
          <a:p>
            <a:pPr marL="325800" indent="-3258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Získání některých kinetických informací je velmi náročné (mechanismy reakcí, reakční koordináta,…)</a:t>
            </a:r>
            <a:endParaRPr b="0" lang="en-US" sz="2800" spc="-1" strike="noStrike">
              <a:solidFill>
                <a:srgbClr val="000000"/>
              </a:solidFill>
              <a:latin typeface="Times New Roman"/>
            </a:endParaRPr>
          </a:p>
          <a:p>
            <a:pPr marL="325800" indent="-3258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Moderní kinetika je interdisciplinární (biochemická kinetika, molekulová dynamika , kvantová chemi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6B1F21-077C-4E92-9354-1766EB34F4C0}"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609120"/>
            <a:ext cx="8078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Literatura</a:t>
            </a:r>
            <a:endParaRPr b="0" lang="en-US" sz="4400" spc="-1" strike="noStrike">
              <a:solidFill>
                <a:srgbClr val="000000"/>
              </a:solidFill>
              <a:latin typeface="Arial"/>
            </a:endParaRPr>
          </a:p>
        </p:txBody>
      </p:sp>
      <p:sp>
        <p:nvSpPr>
          <p:cNvPr id="100" name=""/>
          <p:cNvSpPr/>
          <p:nvPr/>
        </p:nvSpPr>
        <p:spPr>
          <a:xfrm>
            <a:off x="609480" y="182880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ýznamné ženy a muži věd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http://jchemed.chem.wisc.edu/JCEWWW/Features/eChemists/Bios/Menten.htm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505A65E-00F0-46B9-A905-F61E12500C15}"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ušek Jiří</cp:lastModifiedBy>
  <dcterms:modified xsi:type="dcterms:W3CDTF">2010-02-22T13:20:45Z</dcterms:modified>
  <cp:revision>21</cp:revision>
  <dc:subject/>
  <dc:title>Prezentace aplikace PowerPoint</dc:title>
</cp:coreProperties>
</file>