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D1C-AC8B-4B6C-AC52-65E1B6B5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841-9CAA-4F36-A8A9-1A094733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487-AF6A-44EF-BC56-DC620921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A3C-8951-4982-B328-F0B5AA7F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E003-63BD-4AD6-8A9C-87D4272A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F278-1387-49F2-A5F4-90A54917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93B9-F69A-4F0C-899A-A615C7FB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FB33-A210-4586-93DB-033EDAAA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BCC3-D205-4FC3-87D8-DE78C3B0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3A92-2808-40D3-92E7-22AA68B1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2BD-B231-4198-AC57-A7CF2BDA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A42-3909-4AED-8CF2-A8C24A54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F89D-84BF-4AF2-A498-5A4FAF45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D107-30BD-4CC6-82AC-4525CC25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3183-0901-4420-B936-C6652DB3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3429-A096-42FA-90AD-42EB32E5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E069-2430-4776-81A1-CD8FAB6B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893-13BF-4492-A4BB-2B32ECA7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ED0-22FC-45C3-BD82-1E96E28A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8B0-6B6C-48E4-95BB-89908FBF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E8B-630B-4539-94D9-72E987CE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655-7238-461E-B68C-696BB76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FFD-990A-4A1C-AEBF-FB7FD00E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0AA-A56B-4C30-AA90-68FFCC49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DCC6-E2A7-41A3-8962-864FEB6F3798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ECBA-9CFA-45E9-ACFA-934A7C523053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UV-VIS fotometri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etr Zboř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lektronová spektra moleku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ké množ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ých přechod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ranck-Condonů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inc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Obrázek 3" descr="325px-Franck-Condon-diagram.png"/>
          <p:cNvPicPr/>
          <p:nvPr/>
        </p:nvPicPr>
        <p:blipFill>
          <a:blip r:embed="rId1"/>
          <a:stretch/>
        </p:blipFill>
        <p:spPr>
          <a:xfrm>
            <a:off x="4929120" y="1500120"/>
            <a:ext cx="37148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Molekulová spekt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blonskiho diagra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íspěvky vibrací a rotací v moleku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5" descr="vibrace"/>
          <p:cNvPicPr/>
          <p:nvPr/>
        </p:nvPicPr>
        <p:blipFill>
          <a:blip r:embed="rId1"/>
          <a:stretch/>
        </p:blipFill>
        <p:spPr>
          <a:xfrm>
            <a:off x="428760" y="1928880"/>
            <a:ext cx="6624360" cy="328140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4"/>
          <p:cNvSpPr/>
          <p:nvPr/>
        </p:nvSpPr>
        <p:spPr>
          <a:xfrm>
            <a:off x="428760" y="5473800"/>
            <a:ext cx="4572000" cy="14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Resonanční podmínka   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 = h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 =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3b76"/>
                </a:solidFill>
                <a:latin typeface="Arial"/>
              </a:rPr>
              <a:t>el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3b76"/>
                </a:solidFill>
                <a:latin typeface="Arial"/>
              </a:rPr>
              <a:t>vib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3b76"/>
                </a:solidFill>
                <a:latin typeface="Arial"/>
              </a:rPr>
              <a:t>rot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ásová spektra moleku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Zástupný symbol pro obsah 6" descr="franck-condon_absorption_spectra2.png"/>
          <p:cNvPicPr/>
          <p:nvPr/>
        </p:nvPicPr>
        <p:blipFill>
          <a:blip r:embed="rId1"/>
          <a:stretch/>
        </p:blipFill>
        <p:spPr>
          <a:xfrm>
            <a:off x="1143000" y="1428840"/>
            <a:ext cx="7143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nergie a četnost přechod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sice pásu –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E = hc/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7" descr="prechody1"/>
          <p:cNvPicPr/>
          <p:nvPr/>
        </p:nvPicPr>
        <p:blipFill>
          <a:blip r:embed="rId1"/>
          <a:stretch/>
        </p:blipFill>
        <p:spPr>
          <a:xfrm>
            <a:off x="428760" y="2214720"/>
            <a:ext cx="5543280" cy="285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4"/>
          <p:cNvGraphicFramePr/>
          <p:nvPr/>
        </p:nvGraphicFramePr>
        <p:xfrm>
          <a:off x="6286680" y="3286080"/>
          <a:ext cx="2039760" cy="14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6680" y="3286080"/>
                    <a:ext cx="20397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Obdélník 5"/>
          <p:cNvSpPr/>
          <p:nvPr/>
        </p:nvSpPr>
        <p:spPr>
          <a:xfrm>
            <a:off x="75751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07436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717600" y="38577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57120" y="528624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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říklad C-H: vysoké energie ,  125 n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642960" y="55008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67800" y="578628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     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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éně časté, energie,  150 – 250 n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714240" y="60008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nergie a četnost přechod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etnost – velikost absorbce ≈ pravděpodob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aussovský tvar absorbční křiv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9:30:36Z</dcterms:created>
  <dc:creator>Zbořil</dc:creator>
  <dc:description/>
  <dc:language>en-US</dc:language>
  <cp:lastModifiedBy>Zboril</cp:lastModifiedBy>
  <dcterms:modified xsi:type="dcterms:W3CDTF">2011-02-27T21:58:18Z</dcterms:modified>
  <cp:revision>73</cp:revision>
  <dc:subject/>
  <dc:title>Biochemie a moderní trendy v terapii nemocí </dc:title>
</cp:coreProperties>
</file>