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3.jpeg" ContentType="image/jpeg"/>
  <Override PartName="/ppt/media/image22.jpeg" ContentType="image/jpeg"/>
  <Override PartName="/ppt/media/image39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16.png" ContentType="image/png"/>
  <Override PartName="/ppt/media/image15.jpeg" ContentType="image/jpeg"/>
  <Override PartName="/ppt/media/image5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38.png" ContentType="image/png"/>
  <Override PartName="/ppt/media/image20.png" ContentType="image/png"/>
  <Override PartName="/ppt/media/image36.jpeg" ContentType="image/jpeg"/>
  <Override PartName="/ppt/media/image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4.jpeg" ContentType="image/jpeg"/>
  <Override PartName="/ppt/media/image37.png" ContentType="image/png"/>
  <Override PartName="/ppt/media/image41.jpeg" ContentType="image/jpeg"/>
  <Override PartName="/ppt/media/image4.wmf" ContentType="image/x-wmf"/>
  <Override PartName="/ppt/media/image18.png" ContentType="image/png"/>
  <Override PartName="/ppt/media/image6.jpeg" ContentType="image/jpeg"/>
  <Override PartName="/ppt/media/image35.jpeg" ContentType="image/jpeg"/>
  <Override PartName="/ppt/media/image10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31.jpeg" ContentType="image/jpeg"/>
  <Override PartName="/ppt/media/image14.gif" ContentType="image/gif"/>
  <Override PartName="/ppt/media/image17.png" ContentType="image/png"/>
  <Override PartName="/ppt/media/image3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3AFE-518C-4870-A812-9E45F6589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635C-56A2-4C0D-A0B8-A83F374E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0043-9E8C-4AA7-8F77-3CD6DB071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C704-395A-4476-8B9C-F07A3EF17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152A-714C-4D3F-8B76-B727CC56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70E8-F228-4D36-99B1-3C2D814A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ED7E-FFAF-4152-9FA7-4373388F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E5C7-A197-40FF-BB7F-9684ED98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6888-D499-40A5-BB4E-7256B094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39C8-9FAF-4C8E-9750-FD49F23B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635D-0523-4900-AB22-7299D0CA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661D-67DB-42ED-AC4A-59F51EEF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A513-4377-4409-9C2C-2AD8F84E8AF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lektronová spektra moleku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tr Zboř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vlivnění spek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nitřní vlivy – elektronová struk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xidoredu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cidobazické dě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nější vli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terakce s prostředím – polarita, io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RESPIRACE-ETC+Fp-UQ"/>
          <p:cNvPicPr/>
          <p:nvPr/>
        </p:nvPicPr>
        <p:blipFill>
          <a:blip r:embed="rId1"/>
          <a:stretch/>
        </p:blipFill>
        <p:spPr>
          <a:xfrm>
            <a:off x="250920" y="907920"/>
            <a:ext cx="7962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RC-NAD-k20o20"/>
          <p:cNvPicPr/>
          <p:nvPr/>
        </p:nvPicPr>
        <p:blipFill>
          <a:blip r:embed="rId1"/>
          <a:stretch/>
        </p:blipFill>
        <p:spPr>
          <a:xfrm>
            <a:off x="826920" y="549360"/>
            <a:ext cx="7626600" cy="57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rázek 1" descr=""/>
          <p:cNvPicPr/>
          <p:nvPr/>
        </p:nvPicPr>
        <p:blipFill>
          <a:blip r:embed="rId1"/>
          <a:stretch/>
        </p:blipFill>
        <p:spPr>
          <a:xfrm>
            <a:off x="549360" y="1227240"/>
            <a:ext cx="804528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iv polarity na absorpční max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5"/>
          <p:cNvSpPr/>
          <p:nvPr/>
        </p:nvSpPr>
        <p:spPr>
          <a:xfrm>
            <a:off x="4643280" y="1652760"/>
            <a:ext cx="936720" cy="984240"/>
          </a:xfrm>
          <a:custGeom>
            <a:avLst/>
            <a:gdLst/>
            <a:ahLst/>
            <a:rect l="l" t="t" r="r" b="b"/>
            <a:pathLst>
              <a:path w="590" h="620">
                <a:moveTo>
                  <a:pt x="0" y="574"/>
                </a:moveTo>
                <a:cubicBezTo>
                  <a:pt x="79" y="362"/>
                  <a:pt x="159" y="150"/>
                  <a:pt x="227" y="75"/>
                </a:cubicBezTo>
                <a:cubicBezTo>
                  <a:pt x="295" y="0"/>
                  <a:pt x="349" y="30"/>
                  <a:pt x="409" y="121"/>
                </a:cubicBezTo>
                <a:cubicBezTo>
                  <a:pt x="469" y="212"/>
                  <a:pt x="560" y="529"/>
                  <a:pt x="590" y="6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reeform 6"/>
          <p:cNvSpPr/>
          <p:nvPr/>
        </p:nvSpPr>
        <p:spPr>
          <a:xfrm>
            <a:off x="5292720" y="1700280"/>
            <a:ext cx="936720" cy="984240"/>
          </a:xfrm>
          <a:custGeom>
            <a:avLst/>
            <a:gdLst/>
            <a:ahLst/>
            <a:rect l="l" t="t" r="r" b="b"/>
            <a:pathLst>
              <a:path w="590" h="620">
                <a:moveTo>
                  <a:pt x="0" y="574"/>
                </a:moveTo>
                <a:cubicBezTo>
                  <a:pt x="79" y="362"/>
                  <a:pt x="159" y="150"/>
                  <a:pt x="227" y="75"/>
                </a:cubicBezTo>
                <a:cubicBezTo>
                  <a:pt x="295" y="0"/>
                  <a:pt x="349" y="30"/>
                  <a:pt x="409" y="121"/>
                </a:cubicBezTo>
                <a:cubicBezTo>
                  <a:pt x="469" y="212"/>
                  <a:pt x="560" y="529"/>
                  <a:pt x="590" y="62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reeform 7"/>
          <p:cNvSpPr/>
          <p:nvPr/>
        </p:nvSpPr>
        <p:spPr>
          <a:xfrm>
            <a:off x="3995640" y="3284640"/>
            <a:ext cx="936720" cy="984240"/>
          </a:xfrm>
          <a:custGeom>
            <a:avLst/>
            <a:gdLst/>
            <a:ahLst/>
            <a:rect l="l" t="t" r="r" b="b"/>
            <a:pathLst>
              <a:path w="590" h="620">
                <a:moveTo>
                  <a:pt x="0" y="574"/>
                </a:moveTo>
                <a:cubicBezTo>
                  <a:pt x="79" y="362"/>
                  <a:pt x="159" y="150"/>
                  <a:pt x="227" y="75"/>
                </a:cubicBezTo>
                <a:cubicBezTo>
                  <a:pt x="295" y="0"/>
                  <a:pt x="349" y="30"/>
                  <a:pt x="409" y="121"/>
                </a:cubicBezTo>
                <a:cubicBezTo>
                  <a:pt x="469" y="212"/>
                  <a:pt x="560" y="529"/>
                  <a:pt x="590" y="62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8"/>
          <p:cNvSpPr/>
          <p:nvPr/>
        </p:nvSpPr>
        <p:spPr>
          <a:xfrm>
            <a:off x="4643280" y="3213000"/>
            <a:ext cx="936720" cy="984240"/>
          </a:xfrm>
          <a:custGeom>
            <a:avLst/>
            <a:gdLst/>
            <a:ahLst/>
            <a:rect l="l" t="t" r="r" b="b"/>
            <a:pathLst>
              <a:path w="590" h="620">
                <a:moveTo>
                  <a:pt x="0" y="574"/>
                </a:moveTo>
                <a:cubicBezTo>
                  <a:pt x="79" y="362"/>
                  <a:pt x="159" y="150"/>
                  <a:pt x="227" y="75"/>
                </a:cubicBezTo>
                <a:cubicBezTo>
                  <a:pt x="295" y="0"/>
                  <a:pt x="349" y="30"/>
                  <a:pt x="409" y="121"/>
                </a:cubicBezTo>
                <a:cubicBezTo>
                  <a:pt x="469" y="212"/>
                  <a:pt x="560" y="529"/>
                  <a:pt x="590" y="6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732240" y="3589200"/>
            <a:ext cx="326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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odrý po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 polárním prostřed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výšená solvatace n páru snižu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nergii n orbit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1042920" y="378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660600" y="2004840"/>
            <a:ext cx="368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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červený po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 polárním prostřed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výšená solvatace excitovaného stav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nižuje jeho energ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71640" y="2205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znam spektrofotomet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novení koncentrace lá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novení změn koncentrace v č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vantifik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ětelný 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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- prošlé a přicházející svět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éž I a 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amber-Beerův zák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384200" y="171756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. c .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beeranim"/>
          <p:cNvPicPr/>
          <p:nvPr/>
        </p:nvPicPr>
        <p:blipFill>
          <a:blip r:embed="rId1"/>
          <a:stretch/>
        </p:blipFill>
        <p:spPr>
          <a:xfrm>
            <a:off x="3780000" y="1700280"/>
            <a:ext cx="2171520" cy="1209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>
            <a:off x="826920" y="3448080"/>
            <a:ext cx="412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užití pro kvantitativní analýz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znalosti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 c = A/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librační přím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9"/>
          <p:cNvSpPr/>
          <p:nvPr/>
        </p:nvSpPr>
        <p:spPr>
          <a:xfrm>
            <a:off x="3995640" y="573408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0"/>
          <p:cNvSpPr/>
          <p:nvPr/>
        </p:nvSpPr>
        <p:spPr>
          <a:xfrm flipV="1">
            <a:off x="3995640" y="4508640"/>
            <a:ext cx="0" cy="12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1"/>
          <p:cNvSpPr/>
          <p:nvPr/>
        </p:nvSpPr>
        <p:spPr>
          <a:xfrm flipV="1">
            <a:off x="4067280" y="4797000"/>
            <a:ext cx="1584360" cy="86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5776920" y="5753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618000" y="452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strum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fotometr1"/>
          <p:cNvPicPr/>
          <p:nvPr/>
        </p:nvPicPr>
        <p:blipFill>
          <a:blip r:embed="rId1"/>
          <a:stretch/>
        </p:blipFill>
        <p:spPr>
          <a:xfrm>
            <a:off x="1332000" y="1916280"/>
            <a:ext cx="6480000" cy="35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rázek 1" descr=""/>
          <p:cNvPicPr/>
          <p:nvPr/>
        </p:nvPicPr>
        <p:blipFill>
          <a:blip r:embed="rId1"/>
          <a:stretch/>
        </p:blipFill>
        <p:spPr>
          <a:xfrm>
            <a:off x="1270080" y="1778040"/>
            <a:ext cx="660384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deuterium"/>
          <p:cNvPicPr/>
          <p:nvPr/>
        </p:nvPicPr>
        <p:blipFill>
          <a:blip r:embed="rId1"/>
          <a:stretch/>
        </p:blipFill>
        <p:spPr>
          <a:xfrm>
            <a:off x="5292720" y="1700280"/>
            <a:ext cx="2743200" cy="21333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659880" y="1866960"/>
            <a:ext cx="4077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tuťová výbojka – UV spek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alogenová žárovka – viditelné spektr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5290920" y="4005360"/>
            <a:ext cx="32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euteriová lampa – UV spek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9" descr="xenon"/>
          <p:cNvPicPr/>
          <p:nvPr/>
        </p:nvPicPr>
        <p:blipFill>
          <a:blip r:embed="rId2"/>
          <a:stretch/>
        </p:blipFill>
        <p:spPr>
          <a:xfrm>
            <a:off x="684360" y="3933720"/>
            <a:ext cx="2876400" cy="21639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1"/>
          <p:cNvSpPr/>
          <p:nvPr/>
        </p:nvSpPr>
        <p:spPr>
          <a:xfrm>
            <a:off x="660240" y="6114960"/>
            <a:ext cx="44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Xenonová výbojka – UV + viditelné spek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lektronová spektra molek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Zástupný symbol pro obsah 3" descr="325px-Franck-Condon-diagram.png"/>
          <p:cNvPicPr/>
          <p:nvPr/>
        </p:nvPicPr>
        <p:blipFill>
          <a:blip r:embed="rId1"/>
          <a:stretch/>
        </p:blipFill>
        <p:spPr>
          <a:xfrm>
            <a:off x="3924360" y="1557360"/>
            <a:ext cx="3714840" cy="4583160"/>
          </a:xfrm>
          <a:prstGeom prst="rect">
            <a:avLst/>
          </a:prstGeom>
          <a:ln w="0">
            <a:noFill/>
          </a:ln>
        </p:spPr>
      </p:pic>
      <p:sp>
        <p:nvSpPr>
          <p:cNvPr id="45" name="Obdélník 4"/>
          <p:cNvSpPr/>
          <p:nvPr/>
        </p:nvSpPr>
        <p:spPr>
          <a:xfrm>
            <a:off x="250920" y="13413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elké množstv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ožných přechod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ranck-Condonů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inc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deuterium"/>
          <p:cNvPicPr/>
          <p:nvPr/>
        </p:nvPicPr>
        <p:blipFill>
          <a:blip r:embed="rId1"/>
          <a:stretch/>
        </p:blipFill>
        <p:spPr>
          <a:xfrm>
            <a:off x="900000" y="1268280"/>
            <a:ext cx="676908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mercury"/>
          <p:cNvPicPr/>
          <p:nvPr/>
        </p:nvPicPr>
        <p:blipFill>
          <a:blip r:embed="rId1"/>
          <a:stretch/>
        </p:blipFill>
        <p:spPr>
          <a:xfrm>
            <a:off x="2340000" y="1413000"/>
            <a:ext cx="3986280" cy="47527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3564000" y="620640"/>
            <a:ext cx="18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tuťová výboj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xenon lamp"/>
          <p:cNvPicPr/>
          <p:nvPr/>
        </p:nvPicPr>
        <p:blipFill>
          <a:blip r:embed="rId1"/>
          <a:stretch/>
        </p:blipFill>
        <p:spPr>
          <a:xfrm>
            <a:off x="1547640" y="1484280"/>
            <a:ext cx="5811840" cy="43480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2967480" y="71424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Xenonová výboj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ektrofotometrické kyv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kyvplast"/>
          <p:cNvPicPr/>
          <p:nvPr/>
        </p:nvPicPr>
        <p:blipFill>
          <a:blip r:embed="rId1"/>
          <a:stretch/>
        </p:blipFill>
        <p:spPr>
          <a:xfrm>
            <a:off x="2411280" y="3573360"/>
            <a:ext cx="2230560" cy="2492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kyvtransp"/>
          <p:cNvPicPr/>
          <p:nvPr/>
        </p:nvPicPr>
        <p:blipFill>
          <a:blip r:embed="rId2"/>
          <a:stretch/>
        </p:blipFill>
        <p:spPr>
          <a:xfrm>
            <a:off x="5342040" y="1674720"/>
            <a:ext cx="2651040" cy="2035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semikyv"/>
          <p:cNvPicPr/>
          <p:nvPr/>
        </p:nvPicPr>
        <p:blipFill>
          <a:blip r:embed="rId3"/>
          <a:stretch/>
        </p:blipFill>
        <p:spPr>
          <a:xfrm>
            <a:off x="1476360" y="3429000"/>
            <a:ext cx="371520" cy="1162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kyv1"/>
          <p:cNvPicPr/>
          <p:nvPr/>
        </p:nvPicPr>
        <p:blipFill>
          <a:blip r:embed="rId4"/>
          <a:stretch/>
        </p:blipFill>
        <p:spPr>
          <a:xfrm>
            <a:off x="2050920" y="1844640"/>
            <a:ext cx="362160" cy="1200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kyv"/>
          <p:cNvPicPr/>
          <p:nvPr/>
        </p:nvPicPr>
        <p:blipFill>
          <a:blip r:embed="rId5"/>
          <a:stretch/>
        </p:blipFill>
        <p:spPr>
          <a:xfrm>
            <a:off x="1403280" y="1844640"/>
            <a:ext cx="399960" cy="1181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plastkyv"/>
          <p:cNvPicPr/>
          <p:nvPr/>
        </p:nvPicPr>
        <p:blipFill>
          <a:blip r:embed="rId6"/>
          <a:stretch/>
        </p:blipFill>
        <p:spPr>
          <a:xfrm>
            <a:off x="5176800" y="3938760"/>
            <a:ext cx="29797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pouštěd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rozpouštědla"/>
          <p:cNvPicPr/>
          <p:nvPr/>
        </p:nvPicPr>
        <p:blipFill>
          <a:blip r:embed="rId1"/>
          <a:stretch/>
        </p:blipFill>
        <p:spPr>
          <a:xfrm>
            <a:off x="1393920" y="1600200"/>
            <a:ext cx="6356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tek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fotonasobic"/>
          <p:cNvPicPr/>
          <p:nvPr/>
        </p:nvPicPr>
        <p:blipFill>
          <a:blip r:embed="rId1"/>
          <a:stretch/>
        </p:blipFill>
        <p:spPr>
          <a:xfrm>
            <a:off x="1763640" y="2637000"/>
            <a:ext cx="5496120" cy="28382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2033640" y="129060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otonásobi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fotokatoda"/>
          <p:cNvPicPr/>
          <p:nvPr/>
        </p:nvPicPr>
        <p:blipFill>
          <a:blip r:embed="rId1"/>
          <a:stretch/>
        </p:blipFill>
        <p:spPr>
          <a:xfrm>
            <a:off x="826920" y="907920"/>
            <a:ext cx="7371000" cy="51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tometr s diodovým po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fmDiodarray"/>
          <p:cNvPicPr/>
          <p:nvPr/>
        </p:nvPicPr>
        <p:blipFill>
          <a:blip r:embed="rId1"/>
          <a:stretch/>
        </p:blipFill>
        <p:spPr>
          <a:xfrm>
            <a:off x="457200" y="2719440"/>
            <a:ext cx="4475160" cy="2533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diodarray2"/>
          <p:cNvPicPr/>
          <p:nvPr/>
        </p:nvPicPr>
        <p:blipFill>
          <a:blip r:embed="rId2"/>
          <a:stretch/>
        </p:blipFill>
        <p:spPr>
          <a:xfrm>
            <a:off x="5148360" y="2205000"/>
            <a:ext cx="33796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arakteristiky pří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rozlišení1"/>
          <p:cNvPicPr/>
          <p:nvPr/>
        </p:nvPicPr>
        <p:blipFill>
          <a:blip r:embed="rId1"/>
          <a:stretch/>
        </p:blipFill>
        <p:spPr>
          <a:xfrm>
            <a:off x="1403280" y="1844640"/>
            <a:ext cx="5834160" cy="25891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800280" y="4962600"/>
            <a:ext cx="67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pektrální rozlišení – schopnost rozlišit dvě těsně přilehlé vlnové dél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arakteristiky pří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98840" y="1433520"/>
            <a:ext cx="75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pektrální šířka přístroje – šířka pásu světla opouštějícího monochromá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ěřená v polovině výšky píku (SBW), závisí na šířce štěrbin a disperzi mřížk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bvyk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 2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801360" y="2514600"/>
            <a:ext cx="753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irozená šířka pásu vzorku - šířka absorpčního pásu vzorku měřená v polovině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ýšky píku (NBW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rozlišení2"/>
          <p:cNvPicPr/>
          <p:nvPr/>
        </p:nvPicPr>
        <p:blipFill>
          <a:blip r:embed="rId1"/>
          <a:stretch/>
        </p:blipFill>
        <p:spPr>
          <a:xfrm>
            <a:off x="2411280" y="3500280"/>
            <a:ext cx="36734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bdélník 1"/>
          <p:cNvSpPr/>
          <p:nvPr/>
        </p:nvSpPr>
        <p:spPr>
          <a:xfrm>
            <a:off x="909720" y="189000"/>
            <a:ext cx="4572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ablonskiho diagra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íspěvky vibrací a rotací v molek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" descr="vibrace"/>
          <p:cNvPicPr/>
          <p:nvPr/>
        </p:nvPicPr>
        <p:blipFill>
          <a:blip r:embed="rId1"/>
          <a:stretch/>
        </p:blipFill>
        <p:spPr>
          <a:xfrm>
            <a:off x="909720" y="1197000"/>
            <a:ext cx="6624720" cy="3281400"/>
          </a:xfrm>
          <a:prstGeom prst="rect">
            <a:avLst/>
          </a:prstGeom>
          <a:ln w="0">
            <a:noFill/>
          </a:ln>
        </p:spPr>
      </p:pic>
      <p:sp>
        <p:nvSpPr>
          <p:cNvPr id="48" name="Obdélník 3"/>
          <p:cNvSpPr/>
          <p:nvPr/>
        </p:nvSpPr>
        <p:spPr>
          <a:xfrm>
            <a:off x="1403280" y="4781520"/>
            <a:ext cx="4572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esonanční podmínka   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 = h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el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vi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ro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arakteristiky pří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pás"/>
          <p:cNvPicPr/>
          <p:nvPr/>
        </p:nvPicPr>
        <p:blipFill>
          <a:blip r:embed="rId1"/>
          <a:stretch/>
        </p:blipFill>
        <p:spPr>
          <a:xfrm>
            <a:off x="2411280" y="1484280"/>
            <a:ext cx="4392720" cy="29894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1088280" y="47466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esnost měření závisí na poměru SBW/NBW = 0.1 a menší (přesnost 99.5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BW 2 nm postačuje pro NBW 20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yba měř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error"/>
          <p:cNvPicPr/>
          <p:nvPr/>
        </p:nvPicPr>
        <p:blipFill>
          <a:blip r:embed="rId1"/>
          <a:stretch/>
        </p:blipFill>
        <p:spPr>
          <a:xfrm>
            <a:off x="1979640" y="1557360"/>
            <a:ext cx="496872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í bílko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biuret2"/>
          <p:cNvPicPr/>
          <p:nvPr/>
        </p:nvPicPr>
        <p:blipFill>
          <a:blip r:embed="rId1"/>
          <a:stretch/>
        </p:blipFill>
        <p:spPr>
          <a:xfrm>
            <a:off x="468360" y="1844640"/>
            <a:ext cx="4105080" cy="18860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7"/>
          <p:cNvSpPr/>
          <p:nvPr/>
        </p:nvSpPr>
        <p:spPr>
          <a:xfrm>
            <a:off x="4859280" y="1773360"/>
            <a:ext cx="360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Biuretová meto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itlivost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-20 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terference: některé aminokyselin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witerion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4998960" y="3933720"/>
            <a:ext cx="397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Lowryho metoda (595 n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itlivost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0 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dlouhavost (2krok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terference: ruší sulfát amonný., glyci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H reagenty, EDT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0.1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í bílko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bicinchon1"/>
          <p:cNvPicPr/>
          <p:nvPr/>
        </p:nvPicPr>
        <p:blipFill>
          <a:blip r:embed="rId1"/>
          <a:stretch/>
        </p:blipFill>
        <p:spPr>
          <a:xfrm>
            <a:off x="1476360" y="1844640"/>
            <a:ext cx="5400720" cy="16066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1308960" y="4170240"/>
            <a:ext cx="367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icinchoniná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itlivost vysoká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 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acná metoda – 2 kro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terference: ruší EDTA, SH reagen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7289280" y="316224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562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í bílko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coomasai1"/>
          <p:cNvPicPr/>
          <p:nvPr/>
        </p:nvPicPr>
        <p:blipFill>
          <a:blip r:embed="rId1"/>
          <a:stretch/>
        </p:blipFill>
        <p:spPr>
          <a:xfrm>
            <a:off x="1979640" y="2060640"/>
            <a:ext cx="4857840" cy="15429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8"/>
          <p:cNvSpPr/>
          <p:nvPr/>
        </p:nvSpPr>
        <p:spPr>
          <a:xfrm>
            <a:off x="1380960" y="4241880"/>
            <a:ext cx="365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etoda podle Brafordov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itlivost vysoká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 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á metoda (náročná na pečlivo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terference: ruší Triton X-100, SD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ilně bazické puf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6803280" y="2349360"/>
            <a:ext cx="18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sun max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e 465 na 595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í bílko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1381680" y="1649520"/>
            <a:ext cx="419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bsorpce v UV oblasti (Tyr, Try) – 280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itlivost  50 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elmi rychlá metoda, nedestruktivn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terference: ruší NK, zák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1335600" y="3809880"/>
            <a:ext cx="326700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 (mg/ml) = A 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 (mg/ml) = 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8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 (mg/ml) = 1,55.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8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0,76 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5703120" y="351792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ml/m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SA = 0,6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g = 1,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valbumin = 0,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ití spektroskopie pro studium konformace bílko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5"/>
          <p:cNvSpPr/>
          <p:nvPr/>
        </p:nvSpPr>
        <p:spPr>
          <a:xfrm>
            <a:off x="1692360" y="2205000"/>
            <a:ext cx="1752480" cy="1185840"/>
          </a:xfrm>
          <a:custGeom>
            <a:avLst/>
            <a:gdLst/>
            <a:ahLst/>
            <a:rect l="l" t="t" r="r" b="b"/>
            <a:pathLst>
              <a:path w="1104" h="747">
                <a:moveTo>
                  <a:pt x="434" y="279"/>
                </a:moveTo>
                <a:cubicBezTo>
                  <a:pt x="478" y="250"/>
                  <a:pt x="452" y="272"/>
                  <a:pt x="494" y="212"/>
                </a:cubicBezTo>
                <a:cubicBezTo>
                  <a:pt x="502" y="200"/>
                  <a:pt x="519" y="178"/>
                  <a:pt x="519" y="178"/>
                </a:cubicBezTo>
                <a:cubicBezTo>
                  <a:pt x="534" y="135"/>
                  <a:pt x="557" y="110"/>
                  <a:pt x="595" y="84"/>
                </a:cubicBezTo>
                <a:cubicBezTo>
                  <a:pt x="616" y="53"/>
                  <a:pt x="629" y="54"/>
                  <a:pt x="663" y="42"/>
                </a:cubicBezTo>
                <a:cubicBezTo>
                  <a:pt x="737" y="48"/>
                  <a:pt x="765" y="47"/>
                  <a:pt x="824" y="68"/>
                </a:cubicBezTo>
                <a:cubicBezTo>
                  <a:pt x="833" y="96"/>
                  <a:pt x="842" y="123"/>
                  <a:pt x="849" y="152"/>
                </a:cubicBezTo>
                <a:cubicBezTo>
                  <a:pt x="841" y="161"/>
                  <a:pt x="834" y="171"/>
                  <a:pt x="824" y="178"/>
                </a:cubicBezTo>
                <a:cubicBezTo>
                  <a:pt x="817" y="183"/>
                  <a:pt x="805" y="180"/>
                  <a:pt x="799" y="186"/>
                </a:cubicBezTo>
                <a:cubicBezTo>
                  <a:pt x="785" y="200"/>
                  <a:pt x="765" y="237"/>
                  <a:pt x="765" y="237"/>
                </a:cubicBezTo>
                <a:cubicBezTo>
                  <a:pt x="771" y="262"/>
                  <a:pt x="779" y="313"/>
                  <a:pt x="807" y="322"/>
                </a:cubicBezTo>
                <a:cubicBezTo>
                  <a:pt x="824" y="328"/>
                  <a:pt x="841" y="333"/>
                  <a:pt x="858" y="339"/>
                </a:cubicBezTo>
                <a:cubicBezTo>
                  <a:pt x="866" y="342"/>
                  <a:pt x="883" y="347"/>
                  <a:pt x="883" y="347"/>
                </a:cubicBezTo>
                <a:cubicBezTo>
                  <a:pt x="945" y="335"/>
                  <a:pt x="990" y="331"/>
                  <a:pt x="1053" y="339"/>
                </a:cubicBezTo>
                <a:cubicBezTo>
                  <a:pt x="1078" y="364"/>
                  <a:pt x="1085" y="386"/>
                  <a:pt x="1104" y="415"/>
                </a:cubicBezTo>
                <a:cubicBezTo>
                  <a:pt x="1101" y="423"/>
                  <a:pt x="1101" y="434"/>
                  <a:pt x="1095" y="440"/>
                </a:cubicBezTo>
                <a:cubicBezTo>
                  <a:pt x="1092" y="443"/>
                  <a:pt x="1047" y="456"/>
                  <a:pt x="1044" y="457"/>
                </a:cubicBezTo>
                <a:cubicBezTo>
                  <a:pt x="1019" y="465"/>
                  <a:pt x="993" y="474"/>
                  <a:pt x="968" y="483"/>
                </a:cubicBezTo>
                <a:cubicBezTo>
                  <a:pt x="920" y="479"/>
                  <a:pt x="857" y="449"/>
                  <a:pt x="824" y="483"/>
                </a:cubicBezTo>
                <a:cubicBezTo>
                  <a:pt x="782" y="526"/>
                  <a:pt x="857" y="495"/>
                  <a:pt x="790" y="516"/>
                </a:cubicBezTo>
                <a:cubicBezTo>
                  <a:pt x="768" y="587"/>
                  <a:pt x="803" y="653"/>
                  <a:pt x="824" y="720"/>
                </a:cubicBezTo>
                <a:cubicBezTo>
                  <a:pt x="785" y="747"/>
                  <a:pt x="773" y="733"/>
                  <a:pt x="731" y="720"/>
                </a:cubicBezTo>
                <a:cubicBezTo>
                  <a:pt x="691" y="694"/>
                  <a:pt x="656" y="665"/>
                  <a:pt x="612" y="644"/>
                </a:cubicBezTo>
                <a:cubicBezTo>
                  <a:pt x="575" y="587"/>
                  <a:pt x="612" y="532"/>
                  <a:pt x="655" y="491"/>
                </a:cubicBezTo>
                <a:cubicBezTo>
                  <a:pt x="681" y="411"/>
                  <a:pt x="631" y="394"/>
                  <a:pt x="570" y="372"/>
                </a:cubicBezTo>
                <a:cubicBezTo>
                  <a:pt x="556" y="375"/>
                  <a:pt x="540" y="373"/>
                  <a:pt x="528" y="381"/>
                </a:cubicBezTo>
                <a:cubicBezTo>
                  <a:pt x="522" y="385"/>
                  <a:pt x="504" y="459"/>
                  <a:pt x="502" y="466"/>
                </a:cubicBezTo>
                <a:cubicBezTo>
                  <a:pt x="487" y="517"/>
                  <a:pt x="445" y="584"/>
                  <a:pt x="392" y="601"/>
                </a:cubicBezTo>
                <a:cubicBezTo>
                  <a:pt x="357" y="638"/>
                  <a:pt x="349" y="637"/>
                  <a:pt x="299" y="627"/>
                </a:cubicBezTo>
                <a:cubicBezTo>
                  <a:pt x="270" y="608"/>
                  <a:pt x="243" y="586"/>
                  <a:pt x="214" y="567"/>
                </a:cubicBezTo>
                <a:cubicBezTo>
                  <a:pt x="178" y="515"/>
                  <a:pt x="203" y="453"/>
                  <a:pt x="223" y="398"/>
                </a:cubicBezTo>
                <a:cubicBezTo>
                  <a:pt x="199" y="288"/>
                  <a:pt x="137" y="249"/>
                  <a:pt x="36" y="228"/>
                </a:cubicBezTo>
                <a:cubicBezTo>
                  <a:pt x="0" y="176"/>
                  <a:pt x="30" y="159"/>
                  <a:pt x="79" y="144"/>
                </a:cubicBezTo>
                <a:cubicBezTo>
                  <a:pt x="139" y="150"/>
                  <a:pt x="188" y="161"/>
                  <a:pt x="240" y="127"/>
                </a:cubicBezTo>
                <a:cubicBezTo>
                  <a:pt x="256" y="75"/>
                  <a:pt x="237" y="44"/>
                  <a:pt x="21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3419640" y="2781360"/>
            <a:ext cx="360360" cy="216000"/>
          </a:xfrm>
          <a:prstGeom prst="hexagon">
            <a:avLst>
              <a:gd name="adj" fmla="val 41708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7"/>
          <p:cNvSpPr/>
          <p:nvPr/>
        </p:nvSpPr>
        <p:spPr>
          <a:xfrm>
            <a:off x="4716360" y="2205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4716360" y="342900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reeform 9"/>
          <p:cNvSpPr/>
          <p:nvPr/>
        </p:nvSpPr>
        <p:spPr>
          <a:xfrm>
            <a:off x="5076720" y="2397240"/>
            <a:ext cx="503280" cy="1031760"/>
          </a:xfrm>
          <a:custGeom>
            <a:avLst/>
            <a:gdLst/>
            <a:ahLst/>
            <a:rect l="l" t="t" r="r" b="b"/>
            <a:pathLst>
              <a:path w="317" h="650">
                <a:moveTo>
                  <a:pt x="0" y="650"/>
                </a:moveTo>
                <a:cubicBezTo>
                  <a:pt x="49" y="385"/>
                  <a:pt x="98" y="120"/>
                  <a:pt x="136" y="60"/>
                </a:cubicBezTo>
                <a:cubicBezTo>
                  <a:pt x="174" y="0"/>
                  <a:pt x="196" y="189"/>
                  <a:pt x="226" y="287"/>
                </a:cubicBezTo>
                <a:cubicBezTo>
                  <a:pt x="256" y="385"/>
                  <a:pt x="302" y="590"/>
                  <a:pt x="317" y="6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4337280" y="2154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6497640" y="35226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1738800" y="3954600"/>
            <a:ext cx="51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ce Try, Tyr – 280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ávislost spektra na polaritě prostředí (červený posu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ití spektroskopie pro studium konformace bílko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"/>
          <p:cNvSpPr/>
          <p:nvPr/>
        </p:nvSpPr>
        <p:spPr>
          <a:xfrm>
            <a:off x="1692360" y="2205000"/>
            <a:ext cx="1752480" cy="1185840"/>
          </a:xfrm>
          <a:custGeom>
            <a:avLst/>
            <a:gdLst/>
            <a:ahLst/>
            <a:rect l="l" t="t" r="r" b="b"/>
            <a:pathLst>
              <a:path w="1104" h="747">
                <a:moveTo>
                  <a:pt x="434" y="279"/>
                </a:moveTo>
                <a:cubicBezTo>
                  <a:pt x="478" y="250"/>
                  <a:pt x="452" y="272"/>
                  <a:pt x="494" y="212"/>
                </a:cubicBezTo>
                <a:cubicBezTo>
                  <a:pt x="502" y="200"/>
                  <a:pt x="519" y="178"/>
                  <a:pt x="519" y="178"/>
                </a:cubicBezTo>
                <a:cubicBezTo>
                  <a:pt x="534" y="135"/>
                  <a:pt x="557" y="110"/>
                  <a:pt x="595" y="84"/>
                </a:cubicBezTo>
                <a:cubicBezTo>
                  <a:pt x="616" y="53"/>
                  <a:pt x="629" y="54"/>
                  <a:pt x="663" y="42"/>
                </a:cubicBezTo>
                <a:cubicBezTo>
                  <a:pt x="737" y="48"/>
                  <a:pt x="765" y="47"/>
                  <a:pt x="824" y="68"/>
                </a:cubicBezTo>
                <a:cubicBezTo>
                  <a:pt x="833" y="96"/>
                  <a:pt x="842" y="123"/>
                  <a:pt x="849" y="152"/>
                </a:cubicBezTo>
                <a:cubicBezTo>
                  <a:pt x="841" y="161"/>
                  <a:pt x="834" y="171"/>
                  <a:pt x="824" y="178"/>
                </a:cubicBezTo>
                <a:cubicBezTo>
                  <a:pt x="817" y="183"/>
                  <a:pt x="805" y="180"/>
                  <a:pt x="799" y="186"/>
                </a:cubicBezTo>
                <a:cubicBezTo>
                  <a:pt x="785" y="200"/>
                  <a:pt x="765" y="237"/>
                  <a:pt x="765" y="237"/>
                </a:cubicBezTo>
                <a:cubicBezTo>
                  <a:pt x="771" y="262"/>
                  <a:pt x="779" y="313"/>
                  <a:pt x="807" y="322"/>
                </a:cubicBezTo>
                <a:cubicBezTo>
                  <a:pt x="824" y="328"/>
                  <a:pt x="841" y="333"/>
                  <a:pt x="858" y="339"/>
                </a:cubicBezTo>
                <a:cubicBezTo>
                  <a:pt x="866" y="342"/>
                  <a:pt x="883" y="347"/>
                  <a:pt x="883" y="347"/>
                </a:cubicBezTo>
                <a:cubicBezTo>
                  <a:pt x="945" y="335"/>
                  <a:pt x="990" y="331"/>
                  <a:pt x="1053" y="339"/>
                </a:cubicBezTo>
                <a:cubicBezTo>
                  <a:pt x="1078" y="364"/>
                  <a:pt x="1085" y="386"/>
                  <a:pt x="1104" y="415"/>
                </a:cubicBezTo>
                <a:cubicBezTo>
                  <a:pt x="1101" y="423"/>
                  <a:pt x="1101" y="434"/>
                  <a:pt x="1095" y="440"/>
                </a:cubicBezTo>
                <a:cubicBezTo>
                  <a:pt x="1092" y="443"/>
                  <a:pt x="1047" y="456"/>
                  <a:pt x="1044" y="457"/>
                </a:cubicBezTo>
                <a:cubicBezTo>
                  <a:pt x="1019" y="465"/>
                  <a:pt x="993" y="474"/>
                  <a:pt x="968" y="483"/>
                </a:cubicBezTo>
                <a:cubicBezTo>
                  <a:pt x="920" y="479"/>
                  <a:pt x="857" y="449"/>
                  <a:pt x="824" y="483"/>
                </a:cubicBezTo>
                <a:cubicBezTo>
                  <a:pt x="782" y="526"/>
                  <a:pt x="857" y="495"/>
                  <a:pt x="790" y="516"/>
                </a:cubicBezTo>
                <a:cubicBezTo>
                  <a:pt x="768" y="587"/>
                  <a:pt x="803" y="653"/>
                  <a:pt x="824" y="720"/>
                </a:cubicBezTo>
                <a:cubicBezTo>
                  <a:pt x="785" y="747"/>
                  <a:pt x="773" y="733"/>
                  <a:pt x="731" y="720"/>
                </a:cubicBezTo>
                <a:cubicBezTo>
                  <a:pt x="691" y="694"/>
                  <a:pt x="656" y="665"/>
                  <a:pt x="612" y="644"/>
                </a:cubicBezTo>
                <a:cubicBezTo>
                  <a:pt x="575" y="587"/>
                  <a:pt x="612" y="532"/>
                  <a:pt x="655" y="491"/>
                </a:cubicBezTo>
                <a:cubicBezTo>
                  <a:pt x="681" y="411"/>
                  <a:pt x="631" y="394"/>
                  <a:pt x="570" y="372"/>
                </a:cubicBezTo>
                <a:cubicBezTo>
                  <a:pt x="556" y="375"/>
                  <a:pt x="540" y="373"/>
                  <a:pt x="528" y="381"/>
                </a:cubicBezTo>
                <a:cubicBezTo>
                  <a:pt x="522" y="385"/>
                  <a:pt x="504" y="459"/>
                  <a:pt x="502" y="466"/>
                </a:cubicBezTo>
                <a:cubicBezTo>
                  <a:pt x="487" y="517"/>
                  <a:pt x="445" y="584"/>
                  <a:pt x="392" y="601"/>
                </a:cubicBezTo>
                <a:cubicBezTo>
                  <a:pt x="357" y="638"/>
                  <a:pt x="349" y="637"/>
                  <a:pt x="299" y="627"/>
                </a:cubicBezTo>
                <a:cubicBezTo>
                  <a:pt x="270" y="608"/>
                  <a:pt x="243" y="586"/>
                  <a:pt x="214" y="567"/>
                </a:cubicBezTo>
                <a:cubicBezTo>
                  <a:pt x="178" y="515"/>
                  <a:pt x="203" y="453"/>
                  <a:pt x="223" y="398"/>
                </a:cubicBezTo>
                <a:cubicBezTo>
                  <a:pt x="199" y="288"/>
                  <a:pt x="137" y="249"/>
                  <a:pt x="36" y="228"/>
                </a:cubicBezTo>
                <a:cubicBezTo>
                  <a:pt x="0" y="176"/>
                  <a:pt x="30" y="159"/>
                  <a:pt x="79" y="144"/>
                </a:cubicBezTo>
                <a:cubicBezTo>
                  <a:pt x="139" y="150"/>
                  <a:pt x="188" y="161"/>
                  <a:pt x="240" y="127"/>
                </a:cubicBezTo>
                <a:cubicBezTo>
                  <a:pt x="256" y="75"/>
                  <a:pt x="237" y="44"/>
                  <a:pt x="21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3059280" y="2781360"/>
            <a:ext cx="360360" cy="216000"/>
          </a:xfrm>
          <a:prstGeom prst="hexagon">
            <a:avLst>
              <a:gd name="adj" fmla="val 41708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4716360" y="2205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6"/>
          <p:cNvSpPr/>
          <p:nvPr/>
        </p:nvSpPr>
        <p:spPr>
          <a:xfrm>
            <a:off x="4716360" y="342900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5076720" y="2397240"/>
            <a:ext cx="503280" cy="1031760"/>
          </a:xfrm>
          <a:custGeom>
            <a:avLst/>
            <a:gdLst/>
            <a:ahLst/>
            <a:rect l="l" t="t" r="r" b="b"/>
            <a:pathLst>
              <a:path w="317" h="650">
                <a:moveTo>
                  <a:pt x="0" y="650"/>
                </a:moveTo>
                <a:cubicBezTo>
                  <a:pt x="49" y="385"/>
                  <a:pt x="98" y="120"/>
                  <a:pt x="136" y="60"/>
                </a:cubicBezTo>
                <a:cubicBezTo>
                  <a:pt x="174" y="0"/>
                  <a:pt x="196" y="189"/>
                  <a:pt x="226" y="287"/>
                </a:cubicBezTo>
                <a:cubicBezTo>
                  <a:pt x="256" y="385"/>
                  <a:pt x="302" y="590"/>
                  <a:pt x="317" y="6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4337280" y="2154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6497640" y="35226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1738440" y="3954600"/>
            <a:ext cx="516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ce Try, Tyr – 280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ávislost spektra na polaritě prostředí (červený posu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 nepolárním prostřed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reeform 11"/>
          <p:cNvSpPr/>
          <p:nvPr/>
        </p:nvSpPr>
        <p:spPr>
          <a:xfrm>
            <a:off x="5292720" y="2421000"/>
            <a:ext cx="503280" cy="1031760"/>
          </a:xfrm>
          <a:custGeom>
            <a:avLst/>
            <a:gdLst/>
            <a:ahLst/>
            <a:rect l="l" t="t" r="r" b="b"/>
            <a:pathLst>
              <a:path w="317" h="650">
                <a:moveTo>
                  <a:pt x="0" y="650"/>
                </a:moveTo>
                <a:cubicBezTo>
                  <a:pt x="49" y="385"/>
                  <a:pt x="98" y="120"/>
                  <a:pt x="136" y="60"/>
                </a:cubicBezTo>
                <a:cubicBezTo>
                  <a:pt x="174" y="0"/>
                  <a:pt x="196" y="189"/>
                  <a:pt x="226" y="287"/>
                </a:cubicBezTo>
                <a:cubicBezTo>
                  <a:pt x="256" y="385"/>
                  <a:pt x="302" y="590"/>
                  <a:pt x="317" y="650"/>
                </a:cubicBezTo>
              </a:path>
            </a:pathLst>
          </a:custGeom>
          <a:noFill/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voupaprskový fotometr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double-be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doubleBeam"/>
          <p:cNvPicPr/>
          <p:nvPr/>
        </p:nvPicPr>
        <p:blipFill>
          <a:blip r:embed="rId1"/>
          <a:stretch/>
        </p:blipFill>
        <p:spPr>
          <a:xfrm>
            <a:off x="1908000" y="1844640"/>
            <a:ext cx="540072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ferenční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4068720" y="5084640"/>
            <a:ext cx="576360" cy="13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7"/>
          <p:cNvSpPr/>
          <p:nvPr/>
        </p:nvSpPr>
        <p:spPr>
          <a:xfrm>
            <a:off x="4140360" y="5589720"/>
            <a:ext cx="360360" cy="35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8"/>
          <p:cNvSpPr/>
          <p:nvPr/>
        </p:nvSpPr>
        <p:spPr>
          <a:xfrm>
            <a:off x="4140360" y="2492280"/>
            <a:ext cx="502920" cy="852480"/>
          </a:xfrm>
          <a:custGeom>
            <a:avLst/>
            <a:gdLst/>
            <a:ahLst/>
            <a:rect l="l" t="t" r="r" b="b"/>
            <a:pathLst>
              <a:path w="317" h="537">
                <a:moveTo>
                  <a:pt x="0" y="537"/>
                </a:moveTo>
                <a:cubicBezTo>
                  <a:pt x="45" y="306"/>
                  <a:pt x="91" y="76"/>
                  <a:pt x="136" y="38"/>
                </a:cubicBezTo>
                <a:cubicBezTo>
                  <a:pt x="181" y="0"/>
                  <a:pt x="242" y="227"/>
                  <a:pt x="272" y="310"/>
                </a:cubicBezTo>
                <a:cubicBezTo>
                  <a:pt x="302" y="393"/>
                  <a:pt x="310" y="499"/>
                  <a:pt x="317" y="5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3995640" y="335772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3995640" y="206064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3402360" y="1938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5128920" y="337824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Obdélník 1"/>
          <p:cNvSpPr/>
          <p:nvPr/>
        </p:nvSpPr>
        <p:spPr>
          <a:xfrm>
            <a:off x="2499120" y="549360"/>
            <a:ext cx="405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ásová spektra molek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Zástupný symbol pro obsah 6" descr="franck-condon_absorption_spectra2.png"/>
          <p:cNvPicPr/>
          <p:nvPr/>
        </p:nvPicPr>
        <p:blipFill>
          <a:blip r:embed="rId1"/>
          <a:stretch/>
        </p:blipFill>
        <p:spPr>
          <a:xfrm>
            <a:off x="1143000" y="1428840"/>
            <a:ext cx="71438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ferenční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4068720" y="5084640"/>
            <a:ext cx="576360" cy="13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4"/>
          <p:cNvSpPr/>
          <p:nvPr/>
        </p:nvSpPr>
        <p:spPr>
          <a:xfrm>
            <a:off x="4140360" y="5589720"/>
            <a:ext cx="360360" cy="358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5"/>
          <p:cNvSpPr/>
          <p:nvPr/>
        </p:nvSpPr>
        <p:spPr>
          <a:xfrm rot="10800000">
            <a:off x="4140000" y="3357720"/>
            <a:ext cx="502920" cy="852480"/>
          </a:xfrm>
          <a:custGeom>
            <a:avLst/>
            <a:gdLst/>
            <a:ahLst/>
            <a:rect l="l" t="t" r="r" b="b"/>
            <a:pathLst>
              <a:path w="317" h="537">
                <a:moveTo>
                  <a:pt x="0" y="537"/>
                </a:moveTo>
                <a:cubicBezTo>
                  <a:pt x="45" y="306"/>
                  <a:pt x="91" y="76"/>
                  <a:pt x="136" y="38"/>
                </a:cubicBezTo>
                <a:cubicBezTo>
                  <a:pt x="181" y="0"/>
                  <a:pt x="242" y="227"/>
                  <a:pt x="272" y="310"/>
                </a:cubicBezTo>
                <a:cubicBezTo>
                  <a:pt x="302" y="393"/>
                  <a:pt x="310" y="499"/>
                  <a:pt x="317" y="5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3995640" y="335772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7"/>
          <p:cNvSpPr/>
          <p:nvPr/>
        </p:nvSpPr>
        <p:spPr>
          <a:xfrm>
            <a:off x="3995640" y="206064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3402360" y="1938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5128920" y="337824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reeform 12"/>
          <p:cNvSpPr/>
          <p:nvPr/>
        </p:nvSpPr>
        <p:spPr>
          <a:xfrm>
            <a:off x="3995640" y="1447920"/>
            <a:ext cx="863640" cy="1909800"/>
          </a:xfrm>
          <a:custGeom>
            <a:avLst/>
            <a:gdLst/>
            <a:ahLst/>
            <a:rect l="l" t="t" r="r" b="b"/>
            <a:pathLst>
              <a:path w="544" h="1203">
                <a:moveTo>
                  <a:pt x="0" y="1203"/>
                </a:moveTo>
                <a:cubicBezTo>
                  <a:pt x="38" y="760"/>
                  <a:pt x="76" y="318"/>
                  <a:pt x="136" y="159"/>
                </a:cubicBezTo>
                <a:cubicBezTo>
                  <a:pt x="196" y="0"/>
                  <a:pt x="295" y="76"/>
                  <a:pt x="363" y="250"/>
                </a:cubicBezTo>
                <a:cubicBezTo>
                  <a:pt x="431" y="424"/>
                  <a:pt x="514" y="1044"/>
                  <a:pt x="544" y="1203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ferenční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4068720" y="5084640"/>
            <a:ext cx="576360" cy="13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4"/>
          <p:cNvSpPr/>
          <p:nvPr/>
        </p:nvSpPr>
        <p:spPr>
          <a:xfrm>
            <a:off x="4140360" y="5589720"/>
            <a:ext cx="360360" cy="358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6"/>
          <p:cNvSpPr/>
          <p:nvPr/>
        </p:nvSpPr>
        <p:spPr>
          <a:xfrm>
            <a:off x="3995640" y="335772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3995640" y="206064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3402360" y="1938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5128920" y="337824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reeform 10"/>
          <p:cNvSpPr/>
          <p:nvPr/>
        </p:nvSpPr>
        <p:spPr>
          <a:xfrm>
            <a:off x="3995640" y="2349360"/>
            <a:ext cx="1008000" cy="1008360"/>
          </a:xfrm>
          <a:custGeom>
            <a:avLst/>
            <a:gdLst/>
            <a:ahLst/>
            <a:rect l="l" t="t" r="r" b="b"/>
            <a:pathLst>
              <a:path w="544" h="1203">
                <a:moveTo>
                  <a:pt x="0" y="1203"/>
                </a:moveTo>
                <a:cubicBezTo>
                  <a:pt x="38" y="760"/>
                  <a:pt x="76" y="318"/>
                  <a:pt x="136" y="159"/>
                </a:cubicBezTo>
                <a:cubicBezTo>
                  <a:pt x="196" y="0"/>
                  <a:pt x="295" y="76"/>
                  <a:pt x="363" y="250"/>
                </a:cubicBezTo>
                <a:cubicBezTo>
                  <a:pt x="431" y="424"/>
                  <a:pt x="514" y="1044"/>
                  <a:pt x="544" y="1203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Line 4"/>
          <p:cNvSpPr/>
          <p:nvPr/>
        </p:nvSpPr>
        <p:spPr>
          <a:xfrm>
            <a:off x="3635280" y="1484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3635280" y="270828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reeform 6"/>
          <p:cNvSpPr/>
          <p:nvPr/>
        </p:nvSpPr>
        <p:spPr>
          <a:xfrm>
            <a:off x="3995640" y="1676520"/>
            <a:ext cx="503280" cy="1031760"/>
          </a:xfrm>
          <a:custGeom>
            <a:avLst/>
            <a:gdLst/>
            <a:ahLst/>
            <a:rect l="l" t="t" r="r" b="b"/>
            <a:pathLst>
              <a:path w="317" h="650">
                <a:moveTo>
                  <a:pt x="0" y="650"/>
                </a:moveTo>
                <a:cubicBezTo>
                  <a:pt x="49" y="385"/>
                  <a:pt x="98" y="120"/>
                  <a:pt x="136" y="60"/>
                </a:cubicBezTo>
                <a:cubicBezTo>
                  <a:pt x="174" y="0"/>
                  <a:pt x="196" y="189"/>
                  <a:pt x="226" y="287"/>
                </a:cubicBezTo>
                <a:cubicBezTo>
                  <a:pt x="256" y="385"/>
                  <a:pt x="302" y="590"/>
                  <a:pt x="317" y="6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256200" y="1433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5416200" y="2801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reeform 9"/>
          <p:cNvSpPr/>
          <p:nvPr/>
        </p:nvSpPr>
        <p:spPr>
          <a:xfrm>
            <a:off x="4211640" y="1700280"/>
            <a:ext cx="503280" cy="1031760"/>
          </a:xfrm>
          <a:custGeom>
            <a:avLst/>
            <a:gdLst/>
            <a:ahLst/>
            <a:rect l="l" t="t" r="r" b="b"/>
            <a:pathLst>
              <a:path w="317" h="650">
                <a:moveTo>
                  <a:pt x="0" y="650"/>
                </a:moveTo>
                <a:cubicBezTo>
                  <a:pt x="49" y="385"/>
                  <a:pt x="98" y="120"/>
                  <a:pt x="136" y="60"/>
                </a:cubicBezTo>
                <a:cubicBezTo>
                  <a:pt x="174" y="0"/>
                  <a:pt x="196" y="189"/>
                  <a:pt x="226" y="287"/>
                </a:cubicBezTo>
                <a:cubicBezTo>
                  <a:pt x="256" y="385"/>
                  <a:pt x="302" y="590"/>
                  <a:pt x="317" y="65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22"/>
          <p:cNvSpPr/>
          <p:nvPr/>
        </p:nvSpPr>
        <p:spPr>
          <a:xfrm>
            <a:off x="3728880" y="355140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23"/>
          <p:cNvSpPr/>
          <p:nvPr/>
        </p:nvSpPr>
        <p:spPr>
          <a:xfrm>
            <a:off x="3728880" y="477504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Freeform 24"/>
          <p:cNvSpPr/>
          <p:nvPr/>
        </p:nvSpPr>
        <p:spPr>
          <a:xfrm rot="10800000">
            <a:off x="3995280" y="4797360"/>
            <a:ext cx="360360" cy="409680"/>
          </a:xfrm>
          <a:custGeom>
            <a:avLst/>
            <a:gdLst/>
            <a:ahLst/>
            <a:rect l="l" t="t" r="r" b="b"/>
            <a:pathLst>
              <a:path w="317" h="650">
                <a:moveTo>
                  <a:pt x="0" y="650"/>
                </a:moveTo>
                <a:cubicBezTo>
                  <a:pt x="49" y="385"/>
                  <a:pt x="98" y="120"/>
                  <a:pt x="136" y="60"/>
                </a:cubicBezTo>
                <a:cubicBezTo>
                  <a:pt x="174" y="0"/>
                  <a:pt x="196" y="189"/>
                  <a:pt x="226" y="287"/>
                </a:cubicBezTo>
                <a:cubicBezTo>
                  <a:pt x="256" y="385"/>
                  <a:pt x="302" y="590"/>
                  <a:pt x="317" y="6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5"/>
          <p:cNvSpPr/>
          <p:nvPr/>
        </p:nvSpPr>
        <p:spPr>
          <a:xfrm>
            <a:off x="3133800" y="3500280"/>
            <a:ext cx="4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6"/>
          <p:cNvSpPr/>
          <p:nvPr/>
        </p:nvSpPr>
        <p:spPr>
          <a:xfrm>
            <a:off x="5510160" y="4869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Freeform 27"/>
          <p:cNvSpPr/>
          <p:nvPr/>
        </p:nvSpPr>
        <p:spPr>
          <a:xfrm>
            <a:off x="4356000" y="4292640"/>
            <a:ext cx="360360" cy="506520"/>
          </a:xfrm>
          <a:custGeom>
            <a:avLst/>
            <a:gdLst/>
            <a:ahLst/>
            <a:rect l="l" t="t" r="r" b="b"/>
            <a:pathLst>
              <a:path w="317" h="650">
                <a:moveTo>
                  <a:pt x="0" y="650"/>
                </a:moveTo>
                <a:cubicBezTo>
                  <a:pt x="49" y="385"/>
                  <a:pt x="98" y="120"/>
                  <a:pt x="136" y="60"/>
                </a:cubicBezTo>
                <a:cubicBezTo>
                  <a:pt x="174" y="0"/>
                  <a:pt x="196" y="189"/>
                  <a:pt x="226" y="287"/>
                </a:cubicBezTo>
                <a:cubicBezTo>
                  <a:pt x="256" y="385"/>
                  <a:pt x="302" y="590"/>
                  <a:pt x="317" y="65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8"/>
          <p:cNvSpPr/>
          <p:nvPr/>
        </p:nvSpPr>
        <p:spPr>
          <a:xfrm>
            <a:off x="3995640" y="278136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30"/>
          <p:cNvSpPr/>
          <p:nvPr/>
        </p:nvSpPr>
        <p:spPr>
          <a:xfrm>
            <a:off x="4356000" y="2133720"/>
            <a:ext cx="0" cy="2663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31"/>
          <p:cNvSpPr/>
          <p:nvPr/>
        </p:nvSpPr>
        <p:spPr>
          <a:xfrm>
            <a:off x="4211640" y="1773360"/>
            <a:ext cx="0" cy="3384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34"/>
          <p:cNvSpPr/>
          <p:nvPr/>
        </p:nvSpPr>
        <p:spPr>
          <a:xfrm flipV="1">
            <a:off x="4500720" y="177336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35"/>
          <p:cNvSpPr/>
          <p:nvPr/>
        </p:nvSpPr>
        <p:spPr>
          <a:xfrm>
            <a:off x="4716360" y="2708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6"/>
          <p:cNvSpPr/>
          <p:nvPr/>
        </p:nvSpPr>
        <p:spPr>
          <a:xfrm>
            <a:off x="3255840" y="64152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iferenční spek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7"/>
          <p:cNvSpPr/>
          <p:nvPr/>
        </p:nvSpPr>
        <p:spPr>
          <a:xfrm>
            <a:off x="3976560" y="1362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8"/>
          <p:cNvSpPr/>
          <p:nvPr/>
        </p:nvSpPr>
        <p:spPr>
          <a:xfrm>
            <a:off x="4357440" y="141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9"/>
          <p:cNvSpPr/>
          <p:nvPr/>
        </p:nvSpPr>
        <p:spPr>
          <a:xfrm>
            <a:off x="4068720" y="3645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žití spektroskopie pro studium konformace bílkov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diference"/>
          <p:cNvPicPr/>
          <p:nvPr/>
        </p:nvPicPr>
        <p:blipFill>
          <a:blip r:embed="rId1"/>
          <a:stretch/>
        </p:blipFill>
        <p:spPr>
          <a:xfrm>
            <a:off x="468360" y="1700280"/>
            <a:ext cx="5327640" cy="442908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7"/>
          <p:cNvSpPr/>
          <p:nvPr/>
        </p:nvSpPr>
        <p:spPr>
          <a:xfrm>
            <a:off x="6064920" y="1938240"/>
            <a:ext cx="85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 – 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 – Ty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 - P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7380360" y="220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7380360" y="2492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8030520" y="2060640"/>
            <a:ext cx="83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o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M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064200" y="3594240"/>
            <a:ext cx="24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 – Absorpční spek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 – diferenční spek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tematické ope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rivace spek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nalýza překryv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nergie a četnost přechod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5"/>
          <p:cNvGraphicFramePr/>
          <p:nvPr/>
        </p:nvGraphicFramePr>
        <p:xfrm>
          <a:off x="826920" y="2276640"/>
          <a:ext cx="1019520" cy="70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76640"/>
                    <a:ext cx="1019520" cy="70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Picture 7" descr="prechody1"/>
          <p:cNvPicPr/>
          <p:nvPr/>
        </p:nvPicPr>
        <p:blipFill>
          <a:blip r:embed="rId3"/>
          <a:stretch/>
        </p:blipFill>
        <p:spPr>
          <a:xfrm>
            <a:off x="2843280" y="2060640"/>
            <a:ext cx="5543640" cy="28573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971640" y="249228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757800" y="2205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133380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bdélník 1"/>
          <p:cNvSpPr/>
          <p:nvPr/>
        </p:nvSpPr>
        <p:spPr>
          <a:xfrm>
            <a:off x="987480" y="5445000"/>
            <a:ext cx="42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ice pásu –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E = hc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nergie přech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879480" y="1720800"/>
            <a:ext cx="70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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íklad C-H: vysoké energie ,  125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6"/>
          <p:cNvSpPr/>
          <p:nvPr/>
        </p:nvSpPr>
        <p:spPr>
          <a:xfrm>
            <a:off x="1187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24000" y="393372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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ejobvyklejší případ 200 – 700 nm  Mol.abs. koef.= 10 – 100 L.mol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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ol. abs. Koef = 1000- 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L.mol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873360" y="2581200"/>
            <a:ext cx="43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     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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éně časté, energie 150 – 250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9"/>
          <p:cNvSpPr/>
          <p:nvPr/>
        </p:nvSpPr>
        <p:spPr>
          <a:xfrm>
            <a:off x="1187280" y="278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2"/>
          <p:cNvSpPr/>
          <p:nvPr/>
        </p:nvSpPr>
        <p:spPr>
          <a:xfrm>
            <a:off x="611280" y="41497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4"/>
          <p:cNvSpPr/>
          <p:nvPr/>
        </p:nvSpPr>
        <p:spPr>
          <a:xfrm>
            <a:off x="611280" y="4437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663480" y="5322960"/>
            <a:ext cx="80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harge transfer přechody – anorganické komplexy, interakce mezi elektron. Donorem a akceptorem – vysoký Mol.abs. koe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6" descr="prechody1"/>
          <p:cNvPicPr/>
          <p:nvPr/>
        </p:nvPicPr>
        <p:blipFill>
          <a:blip r:embed="rId1"/>
          <a:stretch/>
        </p:blipFill>
        <p:spPr>
          <a:xfrm>
            <a:off x="5796000" y="1700280"/>
            <a:ext cx="305424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Obdélník 2"/>
          <p:cNvSpPr/>
          <p:nvPr/>
        </p:nvSpPr>
        <p:spPr>
          <a:xfrm>
            <a:off x="520560" y="6206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onjugované systémy – štěpení hlad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" descr="MO"/>
          <p:cNvPicPr/>
          <p:nvPr/>
        </p:nvPicPr>
        <p:blipFill>
          <a:blip r:embed="rId1"/>
          <a:stretch/>
        </p:blipFill>
        <p:spPr>
          <a:xfrm>
            <a:off x="2001960" y="1268280"/>
            <a:ext cx="5143320" cy="33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Gaussovský tvar absorbční křiv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etnost přechodů – velikost absorbce ≈ pravděpodob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rázek 3" descr=""/>
          <p:cNvPicPr/>
          <p:nvPr/>
        </p:nvPicPr>
        <p:blipFill>
          <a:blip r:embed="rId1"/>
          <a:stretch/>
        </p:blipFill>
        <p:spPr>
          <a:xfrm>
            <a:off x="-23760" y="3016080"/>
            <a:ext cx="2779560" cy="2524320"/>
          </a:xfrm>
          <a:prstGeom prst="rect">
            <a:avLst/>
          </a:prstGeom>
          <a:ln w="0">
            <a:noFill/>
          </a:ln>
        </p:spPr>
      </p:pic>
      <p:pic>
        <p:nvPicPr>
          <p:cNvPr id="74" name="Obrázek 4" descr=""/>
          <p:cNvPicPr/>
          <p:nvPr/>
        </p:nvPicPr>
        <p:blipFill>
          <a:blip r:embed="rId2"/>
          <a:stretch/>
        </p:blipFill>
        <p:spPr>
          <a:xfrm>
            <a:off x="3348000" y="2979720"/>
            <a:ext cx="2752920" cy="2597040"/>
          </a:xfrm>
          <a:prstGeom prst="rect">
            <a:avLst/>
          </a:prstGeom>
          <a:ln w="0">
            <a:noFill/>
          </a:ln>
        </p:spPr>
      </p:pic>
      <p:pic>
        <p:nvPicPr>
          <p:cNvPr id="75" name="Obrázek 5" descr=""/>
          <p:cNvPicPr/>
          <p:nvPr/>
        </p:nvPicPr>
        <p:blipFill>
          <a:blip r:embed="rId3"/>
          <a:stretch/>
        </p:blipFill>
        <p:spPr>
          <a:xfrm>
            <a:off x="6227640" y="3016080"/>
            <a:ext cx="270684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iochemicky významné chromof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chromofory1"/>
          <p:cNvPicPr/>
          <p:nvPr/>
        </p:nvPicPr>
        <p:blipFill>
          <a:blip r:embed="rId1"/>
          <a:stretch/>
        </p:blipFill>
        <p:spPr>
          <a:xfrm>
            <a:off x="2411280" y="816120"/>
            <a:ext cx="4179960" cy="60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5T15:08:23Z</dcterms:created>
  <dc:creator>Mikeš</dc:creator>
  <dc:description/>
  <dc:language>en-US</dc:language>
  <cp:lastModifiedBy>Zbořil</cp:lastModifiedBy>
  <dcterms:modified xsi:type="dcterms:W3CDTF">2011-03-02T09:25:08Z</dcterms:modified>
  <cp:revision>30</cp:revision>
  <dc:subject/>
  <dc:title>Elektronová absorpční spektra</dc:title>
</cp:coreProperties>
</file>