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14.gif" ContentType="image/gif"/>
  <Override PartName="/ppt/media/image62.jpeg" ContentType="image/jpeg"/>
  <Override PartName="/ppt/media/image19.png" ContentType="image/png"/>
  <Override PartName="/ppt/media/image61.png" ContentType="image/png"/>
  <Override PartName="/ppt/media/image21.png" ContentType="image/png"/>
  <Override PartName="/ppt/media/image69.png" ContentType="image/png"/>
  <Override PartName="/ppt/media/image67.jpeg" ContentType="image/jpeg"/>
  <Override PartName="/ppt/media/image22.png" ContentType="image/png"/>
  <Override PartName="/ppt/media/image23.png" ContentType="image/png"/>
  <Override PartName="/ppt/media/image63.wmf" ContentType="image/x-wmf"/>
  <Override PartName="/ppt/media/image30.png" ContentType="image/png"/>
  <Override PartName="/ppt/media/image60.jpeg" ContentType="image/jpeg"/>
  <Override PartName="/ppt/media/image64.png" ContentType="image/png"/>
  <Override PartName="/ppt/media/image15.jpeg" ContentType="image/jpeg"/>
  <Override PartName="/ppt/media/image77.gif" ContentType="image/gif"/>
  <Override PartName="/ppt/media/image3.png" ContentType="image/png"/>
  <Override PartName="/ppt/media/image33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5.wmf" ContentType="image/x-wmf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jpeg" ContentType="image/jpeg"/>
  <Override PartName="/ppt/media/image31.png" ContentType="image/png"/>
  <Override PartName="/ppt/media/image66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17.jpeg" ContentType="image/jpeg"/>
  <Override PartName="/ppt/media/image27.png" ContentType="image/png"/>
  <Override PartName="/ppt/media/image7.jpeg" ContentType="image/jpeg"/>
  <Override PartName="/ppt/media/image16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49.png" ContentType="image/png"/>
  <Override PartName="/ppt/media/image35.png" ContentType="image/png"/>
  <Override PartName="/ppt/media/image3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B0E8-B557-41E3-9A6A-4DB5EFE0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453-74DD-412B-9126-F3E1CC56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AF4-16B8-4751-9413-4750B1E2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936-BDBB-4ED1-A672-BAC2FA2C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223-15A8-4E4F-B679-1DFFFE67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7ED-2251-4440-8762-F77ADE97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888-4973-49A8-A027-4F77F0EA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3FD-6F48-4D49-BB1E-A1039657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1D5-A732-4DDE-96D7-EC4F06CF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4E6-2E41-4AC4-8BF4-F5DBED8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0FB-9A7C-467A-B377-01B0B084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31D-990F-4F15-A345-FA05910F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E729-D12B-4355-BC7D-9AE4BB8200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excitace1"/>
          <p:cNvPicPr/>
          <p:nvPr/>
        </p:nvPicPr>
        <p:blipFill>
          <a:blip r:embed="rId1"/>
          <a:stretch/>
        </p:blipFill>
        <p:spPr>
          <a:xfrm>
            <a:off x="1476360" y="1197000"/>
            <a:ext cx="6197760" cy="3141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130428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6600ff"/>
                </a:solidFill>
                <a:latin typeface="Times New Roman"/>
              </a:rPr>
              <a:t>k2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913840" y="3068640"/>
            <a:ext cx="317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,6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ininsulfá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– 40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D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,5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200560" y="157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88080" y="1916280"/>
            <a:ext cx="109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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chemicky významné fluorof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fluorofory"/>
          <p:cNvPicPr/>
          <p:nvPr/>
        </p:nvPicPr>
        <p:blipFill>
          <a:blip r:embed="rId1"/>
          <a:stretch/>
        </p:blipFill>
        <p:spPr>
          <a:xfrm>
            <a:off x="1692360" y="1628640"/>
            <a:ext cx="5689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schémaflu"/>
          <p:cNvPicPr/>
          <p:nvPr/>
        </p:nvPicPr>
        <p:blipFill>
          <a:blip r:embed="rId1"/>
          <a:stretch/>
        </p:blipFill>
        <p:spPr>
          <a:xfrm>
            <a:off x="1763640" y="1557360"/>
            <a:ext cx="55450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mercury"/>
          <p:cNvPicPr/>
          <p:nvPr/>
        </p:nvPicPr>
        <p:blipFill>
          <a:blip r:embed="rId1"/>
          <a:stretch/>
        </p:blipFill>
        <p:spPr>
          <a:xfrm>
            <a:off x="6588000" y="765000"/>
            <a:ext cx="1886040" cy="2248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xenon lamp"/>
          <p:cNvPicPr/>
          <p:nvPr/>
        </p:nvPicPr>
        <p:blipFill>
          <a:blip r:embed="rId2"/>
          <a:stretch/>
        </p:blipFill>
        <p:spPr>
          <a:xfrm>
            <a:off x="826920" y="3573360"/>
            <a:ext cx="3529080" cy="2640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33520" y="1268280"/>
            <a:ext cx="57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roj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enonová lamp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tuťová výboj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větelné diody - LED (430, 450, 505, 592, 612 and 637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2" descr="lasery_a_barviva"/>
          <p:cNvPicPr/>
          <p:nvPr/>
        </p:nvPicPr>
        <p:blipFill>
          <a:blip r:embed="rId3"/>
          <a:stretch/>
        </p:blipFill>
        <p:spPr>
          <a:xfrm>
            <a:off x="4859280" y="3500280"/>
            <a:ext cx="3673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bandpass"/>
          <p:cNvPicPr/>
          <p:nvPr/>
        </p:nvPicPr>
        <p:blipFill>
          <a:blip r:embed="rId1"/>
          <a:stretch/>
        </p:blipFill>
        <p:spPr>
          <a:xfrm>
            <a:off x="4932360" y="3933720"/>
            <a:ext cx="3095640" cy="2070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735840" y="1433520"/>
            <a:ext cx="166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nochromá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říž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iltr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shorpass"/>
          <p:cNvPicPr/>
          <p:nvPr/>
        </p:nvPicPr>
        <p:blipFill>
          <a:blip r:embed="rId2"/>
          <a:stretch/>
        </p:blipFill>
        <p:spPr>
          <a:xfrm>
            <a:off x="4932360" y="1413000"/>
            <a:ext cx="30193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chemafluo"/>
          <p:cNvPicPr/>
          <p:nvPr/>
        </p:nvPicPr>
        <p:blipFill>
          <a:blip r:embed="rId1"/>
          <a:stretch/>
        </p:blipFill>
        <p:spPr>
          <a:xfrm>
            <a:off x="1979640" y="2349360"/>
            <a:ext cx="460836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Shimadzu"/>
          <p:cNvPicPr/>
          <p:nvPr/>
        </p:nvPicPr>
        <p:blipFill>
          <a:blip r:embed="rId1"/>
          <a:stretch/>
        </p:blipFill>
        <p:spPr>
          <a:xfrm>
            <a:off x="1936800" y="2084400"/>
            <a:ext cx="5270400" cy="3556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1043280" y="12682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F-5301PC – spektrofluorimetr Shimadz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89320" y="186696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í střední doby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mereni_lifetime"/>
          <p:cNvPicPr/>
          <p:nvPr/>
        </p:nvPicPr>
        <p:blipFill>
          <a:blip r:embed="rId1"/>
          <a:stretch/>
        </p:blipFill>
        <p:spPr>
          <a:xfrm>
            <a:off x="2268360" y="2637000"/>
            <a:ext cx="3880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Zástupný symbol pro obsah 3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2378160" cy="177156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4" descr=""/>
          <p:cNvPicPr/>
          <p:nvPr/>
        </p:nvPicPr>
        <p:blipFill>
          <a:blip r:embed="rId2"/>
          <a:stretch/>
        </p:blipFill>
        <p:spPr>
          <a:xfrm>
            <a:off x="5292720" y="2266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Obdélník 5"/>
          <p:cNvSpPr/>
          <p:nvPr/>
        </p:nvSpPr>
        <p:spPr>
          <a:xfrm>
            <a:off x="1698480" y="4941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enolftale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bdélník 6"/>
          <p:cNvSpPr/>
          <p:nvPr/>
        </p:nvSpPr>
        <p:spPr>
          <a:xfrm>
            <a:off x="6075360" y="49417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luoresce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olarita1"/>
          <p:cNvPicPr/>
          <p:nvPr/>
        </p:nvPicPr>
        <p:blipFill>
          <a:blip r:embed="rId1"/>
          <a:stretch/>
        </p:blipFill>
        <p:spPr>
          <a:xfrm>
            <a:off x="457200" y="2795760"/>
            <a:ext cx="4038480" cy="2135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515880" y="17938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na polaritě a viskozit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8" descr="polarita"/>
          <p:cNvPicPr/>
          <p:nvPr/>
        </p:nvPicPr>
        <p:blipFill>
          <a:blip r:embed="rId2"/>
          <a:stretch/>
        </p:blipFill>
        <p:spPr>
          <a:xfrm>
            <a:off x="5100480" y="2400480"/>
            <a:ext cx="3133800" cy="2923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447480" y="237024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itrobenzoxadiaz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415480" y="17226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kles polarity 6 – 1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excitace"/>
          <p:cNvPicPr/>
          <p:nvPr/>
        </p:nvPicPr>
        <p:blipFill>
          <a:blip r:embed="rId1"/>
          <a:stretch/>
        </p:blipFill>
        <p:spPr>
          <a:xfrm>
            <a:off x="1835280" y="2205000"/>
            <a:ext cx="5248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16240" y="186696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fluorescence na teplot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183528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835280" y="580536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255600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363528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1835280" y="3500280"/>
            <a:ext cx="27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835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1835280" y="45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309760" y="57546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                40               °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166400" y="2801880"/>
            <a:ext cx="7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90040" y="1722600"/>
            <a:ext cx="31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bilita fluorescenčního signál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ininsulfát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1835280" y="292428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835280" y="580536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255600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363528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1835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2"/>
          <p:cNvSpPr/>
          <p:nvPr/>
        </p:nvSpPr>
        <p:spPr>
          <a:xfrm>
            <a:off x="1835280" y="45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309040" y="57546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                80              m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166400" y="2801880"/>
            <a:ext cx="7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1835280" y="3429000"/>
            <a:ext cx="2016000" cy="360360"/>
          </a:xfrm>
          <a:custGeom>
            <a:avLst/>
            <a:gdLst/>
            <a:ahLst/>
            <a:rect l="l" t="t" r="r" b="b"/>
            <a:pathLst>
              <a:path w="1270" h="227">
                <a:moveTo>
                  <a:pt x="0" y="0"/>
                </a:moveTo>
                <a:cubicBezTo>
                  <a:pt x="121" y="49"/>
                  <a:pt x="242" y="98"/>
                  <a:pt x="454" y="136"/>
                </a:cubicBezTo>
                <a:cubicBezTo>
                  <a:pt x="666" y="174"/>
                  <a:pt x="1134" y="212"/>
                  <a:pt x="1270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"/>
          <p:cNvSpPr/>
          <p:nvPr/>
        </p:nvSpPr>
        <p:spPr>
          <a:xfrm>
            <a:off x="1692360" y="1389240"/>
            <a:ext cx="2232000" cy="3732120"/>
          </a:xfrm>
          <a:custGeom>
            <a:avLst/>
            <a:gdLst/>
            <a:ahLst/>
            <a:rect l="l" t="t" r="r" b="b"/>
            <a:pathLst>
              <a:path w="1406" h="2351">
                <a:moveTo>
                  <a:pt x="0" y="2056"/>
                </a:moveTo>
                <a:cubicBezTo>
                  <a:pt x="7" y="1995"/>
                  <a:pt x="15" y="1935"/>
                  <a:pt x="45" y="1648"/>
                </a:cubicBezTo>
                <a:cubicBezTo>
                  <a:pt x="75" y="1361"/>
                  <a:pt x="136" y="559"/>
                  <a:pt x="181" y="332"/>
                </a:cubicBezTo>
                <a:cubicBezTo>
                  <a:pt x="226" y="105"/>
                  <a:pt x="272" y="0"/>
                  <a:pt x="317" y="287"/>
                </a:cubicBezTo>
                <a:cubicBezTo>
                  <a:pt x="362" y="574"/>
                  <a:pt x="415" y="1761"/>
                  <a:pt x="453" y="2056"/>
                </a:cubicBezTo>
                <a:cubicBezTo>
                  <a:pt x="491" y="2351"/>
                  <a:pt x="529" y="2071"/>
                  <a:pt x="544" y="2056"/>
                </a:cubicBezTo>
                <a:cubicBezTo>
                  <a:pt x="559" y="2041"/>
                  <a:pt x="537" y="1965"/>
                  <a:pt x="544" y="1965"/>
                </a:cubicBezTo>
                <a:cubicBezTo>
                  <a:pt x="551" y="1965"/>
                  <a:pt x="574" y="2018"/>
                  <a:pt x="589" y="2056"/>
                </a:cubicBezTo>
                <a:cubicBezTo>
                  <a:pt x="604" y="2094"/>
                  <a:pt x="597" y="2275"/>
                  <a:pt x="635" y="2192"/>
                </a:cubicBezTo>
                <a:cubicBezTo>
                  <a:pt x="673" y="2109"/>
                  <a:pt x="763" y="1632"/>
                  <a:pt x="816" y="1557"/>
                </a:cubicBezTo>
                <a:cubicBezTo>
                  <a:pt x="869" y="1482"/>
                  <a:pt x="899" y="1633"/>
                  <a:pt x="952" y="1739"/>
                </a:cubicBezTo>
                <a:cubicBezTo>
                  <a:pt x="1005" y="1845"/>
                  <a:pt x="1081" y="2132"/>
                  <a:pt x="1134" y="2192"/>
                </a:cubicBezTo>
                <a:cubicBezTo>
                  <a:pt x="1187" y="2252"/>
                  <a:pt x="1240" y="2108"/>
                  <a:pt x="1270" y="2101"/>
                </a:cubicBezTo>
                <a:cubicBezTo>
                  <a:pt x="1300" y="2094"/>
                  <a:pt x="1292" y="2132"/>
                  <a:pt x="1315" y="2147"/>
                </a:cubicBezTo>
                <a:cubicBezTo>
                  <a:pt x="1338" y="2162"/>
                  <a:pt x="1399" y="2185"/>
                  <a:pt x="1406" y="2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621320" y="15778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Rayleighův rozptyl (Tyndalův rozpty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Fluorescenční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Ramanův rozpty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888920" y="359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393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896920" y="41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407480" y="323388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ace 4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887480" y="51069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ní spektr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888560" y="1146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752200" y="3378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60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3492360" y="4292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81840" y="1866960"/>
            <a:ext cx="50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intenzity fluorescence na koncentraci látk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 (I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e c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I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2,3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.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3276720" y="4149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3276720" y="609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3276720" y="4857840"/>
            <a:ext cx="2663640" cy="1235160"/>
          </a:xfrm>
          <a:custGeom>
            <a:avLst/>
            <a:gdLst/>
            <a:ahLst/>
            <a:rect l="l" t="t" r="r" b="b"/>
            <a:pathLst>
              <a:path w="1678" h="778">
                <a:moveTo>
                  <a:pt x="0" y="778"/>
                </a:moveTo>
                <a:cubicBezTo>
                  <a:pt x="200" y="547"/>
                  <a:pt x="400" y="317"/>
                  <a:pt x="589" y="189"/>
                </a:cubicBezTo>
                <a:cubicBezTo>
                  <a:pt x="778" y="61"/>
                  <a:pt x="953" y="0"/>
                  <a:pt x="1134" y="7"/>
                </a:cubicBezTo>
                <a:cubicBezTo>
                  <a:pt x="1315" y="14"/>
                  <a:pt x="1587" y="196"/>
                  <a:pt x="1678" y="2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752920" y="409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633640" y="6186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aminy"/>
          <p:cNvPicPr/>
          <p:nvPr/>
        </p:nvPicPr>
        <p:blipFill>
          <a:blip r:embed="rId1"/>
          <a:stretch/>
        </p:blipFill>
        <p:spPr>
          <a:xfrm>
            <a:off x="5038560" y="1628640"/>
            <a:ext cx="4105440" cy="45259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92760" y="1341360"/>
            <a:ext cx="355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novení koncentrace aminokysel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90/464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40/455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50/5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CBCQA-protein"/>
          <p:cNvPicPr/>
          <p:nvPr/>
        </p:nvPicPr>
        <p:blipFill>
          <a:blip r:embed="rId1"/>
          <a:stretch/>
        </p:blipFill>
        <p:spPr>
          <a:xfrm>
            <a:off x="1476360" y="3141720"/>
            <a:ext cx="3171960" cy="3276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592200" y="172260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novení bílkov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BCQ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CBCQA"/>
          <p:cNvPicPr/>
          <p:nvPr/>
        </p:nvPicPr>
        <p:blipFill>
          <a:blip r:embed="rId2"/>
          <a:stretch/>
        </p:blipFill>
        <p:spPr>
          <a:xfrm>
            <a:off x="5410080" y="3157560"/>
            <a:ext cx="2514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586800" y="1722600"/>
            <a:ext cx="673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kce bílkovin v gel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barevně: Coomasie blue, stříbrné barvení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imetricky: SYPRO Orange (Molecular probes) – citlivost 1 – 2 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ethidium"/>
          <p:cNvPicPr/>
          <p:nvPr/>
        </p:nvPicPr>
        <p:blipFill>
          <a:blip r:embed="rId1"/>
          <a:stretch/>
        </p:blipFill>
        <p:spPr>
          <a:xfrm>
            <a:off x="684360" y="3141720"/>
            <a:ext cx="2361960" cy="1571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682920" y="1557360"/>
            <a:ext cx="27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kce nukleových kysel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thidium brom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detekceDNA"/>
          <p:cNvPicPr/>
          <p:nvPr/>
        </p:nvPicPr>
        <p:blipFill>
          <a:blip r:embed="rId2"/>
          <a:stretch/>
        </p:blipFill>
        <p:spPr>
          <a:xfrm>
            <a:off x="4716360" y="1700280"/>
            <a:ext cx="2400480" cy="3238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4766400" y="524988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RNA 16 a 23s barvená SYBR Green 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ecular Prob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galaktosidasy"/>
          <p:cNvPicPr/>
          <p:nvPr/>
        </p:nvPicPr>
        <p:blipFill>
          <a:blip r:embed="rId1"/>
          <a:stretch/>
        </p:blipFill>
        <p:spPr>
          <a:xfrm>
            <a:off x="900000" y="3645000"/>
            <a:ext cx="3657600" cy="1619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galatosidasy1"/>
          <p:cNvPicPr/>
          <p:nvPr/>
        </p:nvPicPr>
        <p:blipFill>
          <a:blip r:embed="rId2"/>
          <a:stretch/>
        </p:blipFill>
        <p:spPr>
          <a:xfrm>
            <a:off x="1187280" y="1844640"/>
            <a:ext cx="2448000" cy="1314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4626360" y="17938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alaktosid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405320" y="243684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-methylumbelliferyl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galakto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766760" y="402588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-digalakto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peroxidase"/>
          <p:cNvPicPr/>
          <p:nvPr/>
        </p:nvPicPr>
        <p:blipFill>
          <a:blip r:embed="rId1"/>
          <a:stretch/>
        </p:blipFill>
        <p:spPr>
          <a:xfrm>
            <a:off x="684360" y="299736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resorufin"/>
          <p:cNvPicPr/>
          <p:nvPr/>
        </p:nvPicPr>
        <p:blipFill>
          <a:blip r:embed="rId2"/>
          <a:stretch/>
        </p:blipFill>
        <p:spPr>
          <a:xfrm>
            <a:off x="5688000" y="3573360"/>
            <a:ext cx="3456000" cy="25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660960" y="136224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roxidasy – amplex red, vznik resorufin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706120" y="2924280"/>
            <a:ext cx="36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uore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sfore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lumini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peptidasy1"/>
          <p:cNvPicPr/>
          <p:nvPr/>
        </p:nvPicPr>
        <p:blipFill>
          <a:blip r:embed="rId1"/>
          <a:stretch/>
        </p:blipFill>
        <p:spPr>
          <a:xfrm>
            <a:off x="1258920" y="2997360"/>
            <a:ext cx="6265800" cy="1182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515880" y="1649520"/>
            <a:ext cx="45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teinasy, peptid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 proteinů a peptid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8" descr="peptidasy"/>
          <p:cNvPicPr/>
          <p:nvPr/>
        </p:nvPicPr>
        <p:blipFill>
          <a:blip r:embed="rId2"/>
          <a:stretch/>
        </p:blipFill>
        <p:spPr>
          <a:xfrm>
            <a:off x="1116000" y="5157720"/>
            <a:ext cx="26859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PLA"/>
          <p:cNvPicPr/>
          <p:nvPr/>
        </p:nvPicPr>
        <p:blipFill>
          <a:blip r:embed="rId1"/>
          <a:stretch/>
        </p:blipFill>
        <p:spPr>
          <a:xfrm>
            <a:off x="2050920" y="2781360"/>
            <a:ext cx="4381560" cy="2295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1404720" y="1628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osfolipasa 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81760" y="1793880"/>
            <a:ext cx="83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rozené fluorofory (Tyr, Try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fluorescence závislá na polaritě prostředí obklopujíc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of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763640" y="256536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1763640" y="5950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3348000" y="4365720"/>
            <a:ext cx="1368360" cy="1536480"/>
          </a:xfrm>
          <a:custGeom>
            <a:avLst/>
            <a:gdLst/>
            <a:ahLst/>
            <a:rect l="l" t="t" r="r" b="b"/>
            <a:pathLst>
              <a:path w="862" h="2148">
                <a:moveTo>
                  <a:pt x="0" y="2148"/>
                </a:moveTo>
                <a:cubicBezTo>
                  <a:pt x="113" y="1316"/>
                  <a:pt x="226" y="484"/>
                  <a:pt x="317" y="242"/>
                </a:cubicBezTo>
                <a:cubicBezTo>
                  <a:pt x="408" y="0"/>
                  <a:pt x="453" y="378"/>
                  <a:pt x="544" y="696"/>
                </a:cubicBezTo>
                <a:cubicBezTo>
                  <a:pt x="635" y="1014"/>
                  <a:pt x="809" y="1906"/>
                  <a:pt x="862" y="2148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2556000" y="2492280"/>
            <a:ext cx="1368360" cy="3409920"/>
          </a:xfrm>
          <a:custGeom>
            <a:avLst/>
            <a:gdLst/>
            <a:ahLst/>
            <a:rect l="l" t="t" r="r" b="b"/>
            <a:pathLst>
              <a:path w="862" h="2148">
                <a:moveTo>
                  <a:pt x="0" y="2148"/>
                </a:moveTo>
                <a:cubicBezTo>
                  <a:pt x="113" y="1316"/>
                  <a:pt x="226" y="484"/>
                  <a:pt x="317" y="242"/>
                </a:cubicBezTo>
                <a:cubicBezTo>
                  <a:pt x="408" y="0"/>
                  <a:pt x="453" y="378"/>
                  <a:pt x="544" y="696"/>
                </a:cubicBezTo>
                <a:cubicBezTo>
                  <a:pt x="635" y="1014"/>
                  <a:pt x="809" y="1906"/>
                  <a:pt x="862" y="2148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4557600" y="2741760"/>
            <a:ext cx="1603440" cy="1069920"/>
          </a:xfrm>
          <a:custGeom>
            <a:avLst/>
            <a:gdLst/>
            <a:ahLst/>
            <a:rect l="l" t="t" r="r" b="b"/>
            <a:pathLst>
              <a:path w="1010" h="674">
                <a:moveTo>
                  <a:pt x="0" y="231"/>
                </a:moveTo>
                <a:cubicBezTo>
                  <a:pt x="14" y="192"/>
                  <a:pt x="33" y="155"/>
                  <a:pt x="62" y="125"/>
                </a:cubicBezTo>
                <a:cubicBezTo>
                  <a:pt x="86" y="54"/>
                  <a:pt x="50" y="141"/>
                  <a:pt x="98" y="81"/>
                </a:cubicBezTo>
                <a:cubicBezTo>
                  <a:pt x="104" y="74"/>
                  <a:pt x="99" y="61"/>
                  <a:pt x="106" y="54"/>
                </a:cubicBezTo>
                <a:cubicBezTo>
                  <a:pt x="113" y="47"/>
                  <a:pt x="124" y="49"/>
                  <a:pt x="133" y="45"/>
                </a:cubicBezTo>
                <a:cubicBezTo>
                  <a:pt x="143" y="40"/>
                  <a:pt x="150" y="32"/>
                  <a:pt x="160" y="28"/>
                </a:cubicBezTo>
                <a:cubicBezTo>
                  <a:pt x="177" y="21"/>
                  <a:pt x="213" y="10"/>
                  <a:pt x="213" y="10"/>
                </a:cubicBezTo>
                <a:cubicBezTo>
                  <a:pt x="542" y="20"/>
                  <a:pt x="422" y="0"/>
                  <a:pt x="585" y="54"/>
                </a:cubicBezTo>
                <a:cubicBezTo>
                  <a:pt x="606" y="116"/>
                  <a:pt x="577" y="49"/>
                  <a:pt x="620" y="98"/>
                </a:cubicBezTo>
                <a:cubicBezTo>
                  <a:pt x="634" y="114"/>
                  <a:pt x="644" y="134"/>
                  <a:pt x="656" y="152"/>
                </a:cubicBezTo>
                <a:cubicBezTo>
                  <a:pt x="662" y="161"/>
                  <a:pt x="668" y="169"/>
                  <a:pt x="674" y="178"/>
                </a:cubicBezTo>
                <a:cubicBezTo>
                  <a:pt x="680" y="187"/>
                  <a:pt x="691" y="205"/>
                  <a:pt x="691" y="205"/>
                </a:cubicBezTo>
                <a:cubicBezTo>
                  <a:pt x="703" y="254"/>
                  <a:pt x="711" y="308"/>
                  <a:pt x="727" y="355"/>
                </a:cubicBezTo>
                <a:cubicBezTo>
                  <a:pt x="726" y="371"/>
                  <a:pt x="728" y="521"/>
                  <a:pt x="700" y="550"/>
                </a:cubicBezTo>
                <a:cubicBezTo>
                  <a:pt x="653" y="599"/>
                  <a:pt x="572" y="654"/>
                  <a:pt x="505" y="674"/>
                </a:cubicBezTo>
                <a:cubicBezTo>
                  <a:pt x="437" y="671"/>
                  <a:pt x="369" y="671"/>
                  <a:pt x="301" y="666"/>
                </a:cubicBezTo>
                <a:cubicBezTo>
                  <a:pt x="270" y="664"/>
                  <a:pt x="213" y="639"/>
                  <a:pt x="213" y="639"/>
                </a:cubicBezTo>
                <a:cubicBezTo>
                  <a:pt x="182" y="593"/>
                  <a:pt x="177" y="581"/>
                  <a:pt x="160" y="533"/>
                </a:cubicBezTo>
                <a:cubicBezTo>
                  <a:pt x="170" y="441"/>
                  <a:pt x="178" y="384"/>
                  <a:pt x="257" y="329"/>
                </a:cubicBezTo>
                <a:cubicBezTo>
                  <a:pt x="281" y="257"/>
                  <a:pt x="420" y="215"/>
                  <a:pt x="488" y="205"/>
                </a:cubicBezTo>
                <a:cubicBezTo>
                  <a:pt x="615" y="209"/>
                  <a:pt x="705" y="197"/>
                  <a:pt x="815" y="231"/>
                </a:cubicBezTo>
                <a:cubicBezTo>
                  <a:pt x="847" y="252"/>
                  <a:pt x="886" y="290"/>
                  <a:pt x="922" y="302"/>
                </a:cubicBezTo>
                <a:cubicBezTo>
                  <a:pt x="951" y="322"/>
                  <a:pt x="963" y="345"/>
                  <a:pt x="993" y="364"/>
                </a:cubicBezTo>
                <a:cubicBezTo>
                  <a:pt x="1002" y="394"/>
                  <a:pt x="1010" y="421"/>
                  <a:pt x="1010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6"/>
          <p:cNvSpPr/>
          <p:nvPr/>
        </p:nvSpPr>
        <p:spPr>
          <a:xfrm>
            <a:off x="5364000" y="3357720"/>
            <a:ext cx="358920" cy="287280"/>
          </a:xfrm>
          <a:prstGeom prst="flowChartPreparation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5350320" y="388296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18"/>
          <p:cNvSpPr/>
          <p:nvPr/>
        </p:nvSpPr>
        <p:spPr>
          <a:xfrm>
            <a:off x="6718320" y="2741760"/>
            <a:ext cx="1603440" cy="1069920"/>
          </a:xfrm>
          <a:custGeom>
            <a:avLst/>
            <a:gdLst/>
            <a:ahLst/>
            <a:rect l="l" t="t" r="r" b="b"/>
            <a:pathLst>
              <a:path w="1010" h="674">
                <a:moveTo>
                  <a:pt x="0" y="231"/>
                </a:moveTo>
                <a:cubicBezTo>
                  <a:pt x="14" y="192"/>
                  <a:pt x="33" y="155"/>
                  <a:pt x="62" y="125"/>
                </a:cubicBezTo>
                <a:cubicBezTo>
                  <a:pt x="86" y="54"/>
                  <a:pt x="50" y="141"/>
                  <a:pt x="98" y="81"/>
                </a:cubicBezTo>
                <a:cubicBezTo>
                  <a:pt x="104" y="74"/>
                  <a:pt x="99" y="61"/>
                  <a:pt x="106" y="54"/>
                </a:cubicBezTo>
                <a:cubicBezTo>
                  <a:pt x="113" y="47"/>
                  <a:pt x="124" y="49"/>
                  <a:pt x="133" y="45"/>
                </a:cubicBezTo>
                <a:cubicBezTo>
                  <a:pt x="143" y="40"/>
                  <a:pt x="150" y="32"/>
                  <a:pt x="160" y="28"/>
                </a:cubicBezTo>
                <a:cubicBezTo>
                  <a:pt x="177" y="21"/>
                  <a:pt x="213" y="10"/>
                  <a:pt x="213" y="10"/>
                </a:cubicBezTo>
                <a:cubicBezTo>
                  <a:pt x="542" y="20"/>
                  <a:pt x="422" y="0"/>
                  <a:pt x="585" y="54"/>
                </a:cubicBezTo>
                <a:cubicBezTo>
                  <a:pt x="606" y="116"/>
                  <a:pt x="577" y="49"/>
                  <a:pt x="620" y="98"/>
                </a:cubicBezTo>
                <a:cubicBezTo>
                  <a:pt x="634" y="114"/>
                  <a:pt x="644" y="134"/>
                  <a:pt x="656" y="152"/>
                </a:cubicBezTo>
                <a:cubicBezTo>
                  <a:pt x="662" y="161"/>
                  <a:pt x="668" y="169"/>
                  <a:pt x="674" y="178"/>
                </a:cubicBezTo>
                <a:cubicBezTo>
                  <a:pt x="680" y="187"/>
                  <a:pt x="691" y="205"/>
                  <a:pt x="691" y="205"/>
                </a:cubicBezTo>
                <a:cubicBezTo>
                  <a:pt x="703" y="254"/>
                  <a:pt x="711" y="308"/>
                  <a:pt x="727" y="355"/>
                </a:cubicBezTo>
                <a:cubicBezTo>
                  <a:pt x="726" y="371"/>
                  <a:pt x="728" y="521"/>
                  <a:pt x="700" y="550"/>
                </a:cubicBezTo>
                <a:cubicBezTo>
                  <a:pt x="653" y="599"/>
                  <a:pt x="572" y="654"/>
                  <a:pt x="505" y="674"/>
                </a:cubicBezTo>
                <a:cubicBezTo>
                  <a:pt x="437" y="671"/>
                  <a:pt x="369" y="671"/>
                  <a:pt x="301" y="666"/>
                </a:cubicBezTo>
                <a:cubicBezTo>
                  <a:pt x="270" y="664"/>
                  <a:pt x="213" y="639"/>
                  <a:pt x="213" y="639"/>
                </a:cubicBezTo>
                <a:cubicBezTo>
                  <a:pt x="182" y="593"/>
                  <a:pt x="177" y="581"/>
                  <a:pt x="160" y="533"/>
                </a:cubicBezTo>
                <a:cubicBezTo>
                  <a:pt x="170" y="441"/>
                  <a:pt x="178" y="384"/>
                  <a:pt x="257" y="329"/>
                </a:cubicBezTo>
                <a:cubicBezTo>
                  <a:pt x="281" y="257"/>
                  <a:pt x="420" y="215"/>
                  <a:pt x="488" y="205"/>
                </a:cubicBezTo>
                <a:cubicBezTo>
                  <a:pt x="615" y="209"/>
                  <a:pt x="705" y="197"/>
                  <a:pt x="815" y="231"/>
                </a:cubicBezTo>
                <a:cubicBezTo>
                  <a:pt x="847" y="252"/>
                  <a:pt x="886" y="290"/>
                  <a:pt x="922" y="302"/>
                </a:cubicBezTo>
                <a:cubicBezTo>
                  <a:pt x="951" y="322"/>
                  <a:pt x="963" y="345"/>
                  <a:pt x="993" y="364"/>
                </a:cubicBezTo>
                <a:cubicBezTo>
                  <a:pt x="1002" y="394"/>
                  <a:pt x="1010" y="421"/>
                  <a:pt x="1010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7667640" y="3645000"/>
            <a:ext cx="358920" cy="287280"/>
          </a:xfrm>
          <a:prstGeom prst="flowChartPreparat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7511040" y="388296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124164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5202000" y="6041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1547640" y="60930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ní spektr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843280" y="2708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843280" y="5516640"/>
            <a:ext cx="44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2865600" y="3573360"/>
            <a:ext cx="3031920" cy="1041480"/>
          </a:xfrm>
          <a:custGeom>
            <a:avLst/>
            <a:gdLst/>
            <a:ahLst/>
            <a:rect l="l" t="t" r="r" b="b"/>
            <a:pathLst>
              <a:path w="1910" h="656">
                <a:moveTo>
                  <a:pt x="0" y="5"/>
                </a:moveTo>
                <a:cubicBezTo>
                  <a:pt x="96" y="38"/>
                  <a:pt x="201" y="0"/>
                  <a:pt x="297" y="34"/>
                </a:cubicBezTo>
                <a:cubicBezTo>
                  <a:pt x="382" y="6"/>
                  <a:pt x="335" y="13"/>
                  <a:pt x="441" y="24"/>
                </a:cubicBezTo>
                <a:cubicBezTo>
                  <a:pt x="533" y="54"/>
                  <a:pt x="479" y="45"/>
                  <a:pt x="605" y="34"/>
                </a:cubicBezTo>
                <a:cubicBezTo>
                  <a:pt x="649" y="4"/>
                  <a:pt x="658" y="15"/>
                  <a:pt x="701" y="43"/>
                </a:cubicBezTo>
                <a:cubicBezTo>
                  <a:pt x="735" y="20"/>
                  <a:pt x="748" y="11"/>
                  <a:pt x="787" y="24"/>
                </a:cubicBezTo>
                <a:cubicBezTo>
                  <a:pt x="806" y="30"/>
                  <a:pt x="845" y="43"/>
                  <a:pt x="845" y="43"/>
                </a:cubicBezTo>
                <a:cubicBezTo>
                  <a:pt x="925" y="17"/>
                  <a:pt x="825" y="40"/>
                  <a:pt x="893" y="53"/>
                </a:cubicBezTo>
                <a:cubicBezTo>
                  <a:pt x="903" y="55"/>
                  <a:pt x="912" y="46"/>
                  <a:pt x="921" y="43"/>
                </a:cubicBezTo>
                <a:cubicBezTo>
                  <a:pt x="961" y="5"/>
                  <a:pt x="919" y="34"/>
                  <a:pt x="969" y="34"/>
                </a:cubicBezTo>
                <a:cubicBezTo>
                  <a:pt x="979" y="34"/>
                  <a:pt x="988" y="27"/>
                  <a:pt x="998" y="24"/>
                </a:cubicBezTo>
                <a:cubicBezTo>
                  <a:pt x="1011" y="27"/>
                  <a:pt x="1027" y="26"/>
                  <a:pt x="1037" y="34"/>
                </a:cubicBezTo>
                <a:cubicBezTo>
                  <a:pt x="1045" y="40"/>
                  <a:pt x="1045" y="53"/>
                  <a:pt x="1046" y="63"/>
                </a:cubicBezTo>
                <a:cubicBezTo>
                  <a:pt x="1052" y="172"/>
                  <a:pt x="1051" y="280"/>
                  <a:pt x="1056" y="389"/>
                </a:cubicBezTo>
                <a:cubicBezTo>
                  <a:pt x="1058" y="433"/>
                  <a:pt x="1058" y="554"/>
                  <a:pt x="1104" y="591"/>
                </a:cubicBezTo>
                <a:cubicBezTo>
                  <a:pt x="1131" y="613"/>
                  <a:pt x="1215" y="616"/>
                  <a:pt x="1238" y="619"/>
                </a:cubicBezTo>
                <a:cubicBezTo>
                  <a:pt x="1281" y="634"/>
                  <a:pt x="1309" y="641"/>
                  <a:pt x="1353" y="629"/>
                </a:cubicBezTo>
                <a:cubicBezTo>
                  <a:pt x="1392" y="592"/>
                  <a:pt x="1352" y="619"/>
                  <a:pt x="1401" y="619"/>
                </a:cubicBezTo>
                <a:cubicBezTo>
                  <a:pt x="1411" y="619"/>
                  <a:pt x="1420" y="613"/>
                  <a:pt x="1430" y="610"/>
                </a:cubicBezTo>
                <a:cubicBezTo>
                  <a:pt x="1465" y="633"/>
                  <a:pt x="1477" y="643"/>
                  <a:pt x="1517" y="629"/>
                </a:cubicBezTo>
                <a:cubicBezTo>
                  <a:pt x="1576" y="650"/>
                  <a:pt x="1637" y="645"/>
                  <a:pt x="1689" y="610"/>
                </a:cubicBezTo>
                <a:cubicBezTo>
                  <a:pt x="1726" y="619"/>
                  <a:pt x="1749" y="637"/>
                  <a:pt x="1785" y="648"/>
                </a:cubicBezTo>
                <a:cubicBezTo>
                  <a:pt x="1898" y="638"/>
                  <a:pt x="1860" y="656"/>
                  <a:pt x="1910" y="6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351840" y="5610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 (mi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974600" y="280188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500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194000" y="2298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strá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loud"/>
          <p:cNvSpPr/>
          <p:nvPr/>
        </p:nvSpPr>
        <p:spPr>
          <a:xfrm>
            <a:off x="6516720" y="1844640"/>
            <a:ext cx="1440000" cy="965160"/>
          </a:xfrm>
          <a:custGeom>
            <a:avLst/>
            <a:gdLst>
              <a:gd name="textAreaLeft" fmla="*/ 198360 w 1440000"/>
              <a:gd name="textAreaRight" fmla="*/ 1139400 w 1440000"/>
              <a:gd name="textAreaTop" fmla="*/ 145800 h 965160"/>
              <a:gd name="textAreaBottom" fmla="*/ 774720 h 965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7885080" y="2565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6"/>
          <p:cNvSpPr/>
          <p:nvPr/>
        </p:nvSpPr>
        <p:spPr>
          <a:xfrm>
            <a:off x="7164360" y="2565360"/>
            <a:ext cx="216000" cy="216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-0.05255 E">
                                      <p:cBhvr>
                                        <p:cTn id="6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00799 0.02107 E">
                                      <p:cBhvr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fluosceinspek"/>
          <p:cNvPicPr/>
          <p:nvPr/>
        </p:nvPicPr>
        <p:blipFill>
          <a:blip r:embed="rId1"/>
          <a:stretch/>
        </p:blipFill>
        <p:spPr>
          <a:xfrm>
            <a:off x="3203640" y="2852640"/>
            <a:ext cx="297792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fluopH"/>
          <p:cNvPicPr/>
          <p:nvPr/>
        </p:nvPicPr>
        <p:blipFill>
          <a:blip r:embed="rId2"/>
          <a:stretch/>
        </p:blipFill>
        <p:spPr>
          <a:xfrm>
            <a:off x="6084720" y="2781360"/>
            <a:ext cx="2373480" cy="2187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53928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468360" y="3645000"/>
            <a:ext cx="22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rboxyfluorescein –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494/52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3904200" y="50338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/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pH 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7434360" y="3809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6661800" y="3573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284160" y="510840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F-karboxyfluoresce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G oregon gre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17" descr="oregongreen"/>
          <p:cNvPicPr/>
          <p:nvPr/>
        </p:nvPicPr>
        <p:blipFill>
          <a:blip r:embed="rId3"/>
          <a:stretch/>
        </p:blipFill>
        <p:spPr>
          <a:xfrm>
            <a:off x="684360" y="4437000"/>
            <a:ext cx="2114280" cy="15051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9"/>
          <p:cNvSpPr/>
          <p:nvPr/>
        </p:nvSpPr>
        <p:spPr>
          <a:xfrm>
            <a:off x="375120" y="58262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regon Green - (496/524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1" descr="karoxyfluo"/>
          <p:cNvPicPr/>
          <p:nvPr/>
        </p:nvPicPr>
        <p:blipFill>
          <a:blip r:embed="rId4"/>
          <a:stretch/>
        </p:blipFill>
        <p:spPr>
          <a:xfrm>
            <a:off x="971640" y="2060640"/>
            <a:ext cx="15732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tetrametrhod"/>
          <p:cNvPicPr/>
          <p:nvPr/>
        </p:nvPicPr>
        <p:blipFill>
          <a:blip r:embed="rId1"/>
          <a:stretch/>
        </p:blipFill>
        <p:spPr>
          <a:xfrm>
            <a:off x="539640" y="2421000"/>
            <a:ext cx="2886120" cy="2104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tetrametrhodspek"/>
          <p:cNvPicPr/>
          <p:nvPr/>
        </p:nvPicPr>
        <p:blipFill>
          <a:blip r:embed="rId2"/>
          <a:stretch/>
        </p:blipFill>
        <p:spPr>
          <a:xfrm>
            <a:off x="4788000" y="2060640"/>
            <a:ext cx="29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kumarrin"/>
          <p:cNvPicPr/>
          <p:nvPr/>
        </p:nvPicPr>
        <p:blipFill>
          <a:blip r:embed="rId3"/>
          <a:stretch/>
        </p:blipFill>
        <p:spPr>
          <a:xfrm>
            <a:off x="468360" y="5157720"/>
            <a:ext cx="3143160" cy="14860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39492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537120" y="198900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ramethylrhodamin – 545/58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16" descr="kumarinspek"/>
          <p:cNvPicPr/>
          <p:nvPr/>
        </p:nvPicPr>
        <p:blipFill>
          <a:blip r:embed="rId4"/>
          <a:stretch/>
        </p:blipFill>
        <p:spPr>
          <a:xfrm>
            <a:off x="4643280" y="4365720"/>
            <a:ext cx="2971800" cy="21873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8"/>
          <p:cNvSpPr/>
          <p:nvPr/>
        </p:nvSpPr>
        <p:spPr>
          <a:xfrm>
            <a:off x="734760" y="44578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mariny – 350/45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dansyl"/>
          <p:cNvPicPr/>
          <p:nvPr/>
        </p:nvPicPr>
        <p:blipFill>
          <a:blip r:embed="rId1"/>
          <a:stretch/>
        </p:blipFill>
        <p:spPr>
          <a:xfrm>
            <a:off x="1805040" y="2063880"/>
            <a:ext cx="1342800" cy="1257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dansylspek"/>
          <p:cNvPicPr/>
          <p:nvPr/>
        </p:nvPicPr>
        <p:blipFill>
          <a:blip r:embed="rId2"/>
          <a:stretch/>
        </p:blipFill>
        <p:spPr>
          <a:xfrm>
            <a:off x="4500720" y="1844640"/>
            <a:ext cx="29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benzoxadiazol"/>
          <p:cNvPicPr/>
          <p:nvPr/>
        </p:nvPicPr>
        <p:blipFill>
          <a:blip r:embed="rId3"/>
          <a:stretch/>
        </p:blipFill>
        <p:spPr>
          <a:xfrm>
            <a:off x="1395360" y="4146480"/>
            <a:ext cx="2162160" cy="1771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39492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2" descr="bezoxadiazolspek"/>
          <p:cNvPicPr/>
          <p:nvPr/>
        </p:nvPicPr>
        <p:blipFill>
          <a:blip r:embed="rId4"/>
          <a:stretch/>
        </p:blipFill>
        <p:spPr>
          <a:xfrm>
            <a:off x="4643280" y="4221000"/>
            <a:ext cx="2971800" cy="21877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4"/>
          <p:cNvSpPr/>
          <p:nvPr/>
        </p:nvSpPr>
        <p:spPr>
          <a:xfrm>
            <a:off x="1673280" y="3233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nsy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454760" y="582624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nzoxadiazol –N-sukcinim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konjugace"/>
          <p:cNvPicPr/>
          <p:nvPr/>
        </p:nvPicPr>
        <p:blipFill>
          <a:blip r:embed="rId1"/>
          <a:stretch/>
        </p:blipFill>
        <p:spPr>
          <a:xfrm>
            <a:off x="826920" y="2492280"/>
            <a:ext cx="4897440" cy="3660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684000" y="1773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7" descr="konjug"/>
          <p:cNvPicPr/>
          <p:nvPr/>
        </p:nvPicPr>
        <p:blipFill>
          <a:blip r:embed="rId2"/>
          <a:stretch/>
        </p:blipFill>
        <p:spPr>
          <a:xfrm>
            <a:off x="6084720" y="4941720"/>
            <a:ext cx="2689560" cy="12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53120" y="24922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 s ligand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1620720" y="33228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1620720" y="605952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9" descr="polarita"/>
          <p:cNvPicPr/>
          <p:nvPr/>
        </p:nvPicPr>
        <p:blipFill>
          <a:blip r:embed="rId1"/>
          <a:stretch/>
        </p:blipFill>
        <p:spPr>
          <a:xfrm>
            <a:off x="5940360" y="1700280"/>
            <a:ext cx="2737080" cy="2554200"/>
          </a:xfrm>
          <a:prstGeom prst="rect">
            <a:avLst/>
          </a:prstGeom>
          <a:ln w="0">
            <a:noFill/>
          </a:ln>
        </p:spPr>
      </p:pic>
      <p:sp>
        <p:nvSpPr>
          <p:cNvPr id="305" name="Freeform 12"/>
          <p:cNvSpPr/>
          <p:nvPr/>
        </p:nvSpPr>
        <p:spPr>
          <a:xfrm>
            <a:off x="1620720" y="4870440"/>
            <a:ext cx="3240360" cy="1044720"/>
          </a:xfrm>
          <a:custGeom>
            <a:avLst/>
            <a:gdLst/>
            <a:ahLst/>
            <a:rect l="l" t="t" r="r" b="b"/>
            <a:pathLst>
              <a:path w="2041" h="658">
                <a:moveTo>
                  <a:pt x="0" y="658"/>
                </a:moveTo>
                <a:cubicBezTo>
                  <a:pt x="272" y="461"/>
                  <a:pt x="544" y="265"/>
                  <a:pt x="771" y="159"/>
                </a:cubicBezTo>
                <a:cubicBezTo>
                  <a:pt x="998" y="53"/>
                  <a:pt x="1149" y="46"/>
                  <a:pt x="1361" y="23"/>
                </a:cubicBezTo>
                <a:cubicBezTo>
                  <a:pt x="1573" y="0"/>
                  <a:pt x="1928" y="23"/>
                  <a:pt x="2041" y="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954360" y="334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4335120" y="615312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centrace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540000" y="53737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 voln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708360" y="44370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 vázan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2183040" y="1357200"/>
            <a:ext cx="1679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 + M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L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d = L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/L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973520" y="2225520"/>
            <a:ext cx="251748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Cf 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(C-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Cb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o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b = (F – Fo)/ 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144760" y="2133720"/>
            <a:ext cx="384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f, Fb – fluorescence volné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 frak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–kvant. Výtěžek fluorescenc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ho, volného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b,Cf – koncentrace vázaného, volnéh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– celková koncentrace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– celková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10720" y="1647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citace a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emise"/>
          <p:cNvPicPr/>
          <p:nvPr/>
        </p:nvPicPr>
        <p:blipFill>
          <a:blip r:embed="rId1"/>
          <a:stretch/>
        </p:blipFill>
        <p:spPr>
          <a:xfrm>
            <a:off x="0" y="2349360"/>
            <a:ext cx="3533760" cy="321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4719600" y="270828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s rozpouštědl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gletový excitovaný stav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27800" y="49608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gletový základní stav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parinar"/>
          <p:cNvPicPr/>
          <p:nvPr/>
        </p:nvPicPr>
        <p:blipFill>
          <a:blip r:embed="rId1"/>
          <a:stretch/>
        </p:blipFill>
        <p:spPr>
          <a:xfrm>
            <a:off x="395280" y="2349360"/>
            <a:ext cx="3419640" cy="1009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AOC16"/>
          <p:cNvPicPr/>
          <p:nvPr/>
        </p:nvPicPr>
        <p:blipFill>
          <a:blip r:embed="rId2"/>
          <a:stretch/>
        </p:blipFill>
        <p:spPr>
          <a:xfrm>
            <a:off x="826920" y="4005360"/>
            <a:ext cx="2114640" cy="11811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465480" y="1484280"/>
            <a:ext cx="33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 s ligand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fluorescenčních analog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9" descr="FluorescPL"/>
          <p:cNvPicPr/>
          <p:nvPr/>
        </p:nvPicPr>
        <p:blipFill>
          <a:blip r:embed="rId3"/>
          <a:stretch/>
        </p:blipFill>
        <p:spPr>
          <a:xfrm>
            <a:off x="4572000" y="2133720"/>
            <a:ext cx="2898720" cy="18079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1"/>
          <p:cNvSpPr/>
          <p:nvPr/>
        </p:nvSpPr>
        <p:spPr>
          <a:xfrm>
            <a:off x="1023840" y="330660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ys. cis-parinarov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879120" y="532296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hroyloxypalmitá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5488920" y="453060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-P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loud"/>
          <p:cNvSpPr/>
          <p:nvPr/>
        </p:nvSpPr>
        <p:spPr>
          <a:xfrm>
            <a:off x="6516720" y="1844640"/>
            <a:ext cx="1440000" cy="965160"/>
          </a:xfrm>
          <a:custGeom>
            <a:avLst/>
            <a:gdLst>
              <a:gd name="textAreaLeft" fmla="*/ 198360 w 1440000"/>
              <a:gd name="textAreaRight" fmla="*/ 1139400 w 1440000"/>
              <a:gd name="textAreaTop" fmla="*/ 145800 h 965160"/>
              <a:gd name="textAreaBottom" fmla="*/ 774720 h 965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6"/>
          <p:cNvSpPr/>
          <p:nvPr/>
        </p:nvSpPr>
        <p:spPr>
          <a:xfrm>
            <a:off x="7308720" y="2421000"/>
            <a:ext cx="358920" cy="216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8101080" y="2637000"/>
            <a:ext cx="216000" cy="21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2195640" y="206064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10"/>
          <p:cNvSpPr/>
          <p:nvPr/>
        </p:nvSpPr>
        <p:spPr>
          <a:xfrm>
            <a:off x="2195640" y="2637000"/>
            <a:ext cx="4392360" cy="2052360"/>
          </a:xfrm>
          <a:custGeom>
            <a:avLst/>
            <a:gdLst/>
            <a:ahLst/>
            <a:rect l="l" t="t" r="r" b="b"/>
            <a:pathLst>
              <a:path w="2767" h="1293">
                <a:moveTo>
                  <a:pt x="0" y="0"/>
                </a:moveTo>
                <a:cubicBezTo>
                  <a:pt x="204" y="329"/>
                  <a:pt x="408" y="658"/>
                  <a:pt x="771" y="862"/>
                </a:cubicBezTo>
                <a:cubicBezTo>
                  <a:pt x="1134" y="1066"/>
                  <a:pt x="1844" y="1157"/>
                  <a:pt x="2177" y="1225"/>
                </a:cubicBezTo>
                <a:cubicBezTo>
                  <a:pt x="2510" y="1293"/>
                  <a:pt x="2669" y="1263"/>
                  <a:pt x="2767" y="1270"/>
                </a:cubicBezTo>
              </a:path>
            </a:pathLst>
          </a:custGeom>
          <a:noFill/>
          <a:ln w="93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2195640" y="5445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805680" y="121752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značené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 značené bílkovin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602000" y="244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5416200" y="5610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centrace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luorescence a cyto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Zástupný symbol pro obsah 3" descr=""/>
          <p:cNvPicPr/>
          <p:nvPr/>
        </p:nvPicPr>
        <p:blipFill>
          <a:blip r:embed="rId1"/>
          <a:stretch/>
        </p:blipFill>
        <p:spPr>
          <a:xfrm>
            <a:off x="2637000" y="2460600"/>
            <a:ext cx="38700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Försterův př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transfer2"/>
          <p:cNvPicPr/>
          <p:nvPr/>
        </p:nvPicPr>
        <p:blipFill>
          <a:blip r:embed="rId1"/>
          <a:stretch/>
        </p:blipFill>
        <p:spPr>
          <a:xfrm>
            <a:off x="611280" y="1628640"/>
            <a:ext cx="4465440" cy="27100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7"/>
          <p:cNvSpPr/>
          <p:nvPr/>
        </p:nvSpPr>
        <p:spPr>
          <a:xfrm>
            <a:off x="4568400" y="1557360"/>
            <a:ext cx="440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zářivý přenos energie z donoru na 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1 – 1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39" name="Line 7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9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10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50" name="Line 4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6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7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13"/>
          <p:cNvSpPr/>
          <p:nvPr/>
        </p:nvSpPr>
        <p:spPr>
          <a:xfrm>
            <a:off x="5867280" y="299736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14"/>
          <p:cNvSpPr/>
          <p:nvPr/>
        </p:nvSpPr>
        <p:spPr>
          <a:xfrm>
            <a:off x="6516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158520" y="2492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64" name="Line 4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13"/>
          <p:cNvSpPr/>
          <p:nvPr/>
        </p:nvSpPr>
        <p:spPr>
          <a:xfrm>
            <a:off x="5867280" y="299736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3399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14"/>
          <p:cNvSpPr/>
          <p:nvPr/>
        </p:nvSpPr>
        <p:spPr>
          <a:xfrm>
            <a:off x="6516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6158520" y="2492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183528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0"/>
          <p:cNvSpPr/>
          <p:nvPr/>
        </p:nvSpPr>
        <p:spPr>
          <a:xfrm>
            <a:off x="183528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2484360" y="213372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3"/>
          <p:cNvSpPr/>
          <p:nvPr/>
        </p:nvSpPr>
        <p:spPr>
          <a:xfrm>
            <a:off x="3276720" y="213372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14"/>
          <p:cNvSpPr/>
          <p:nvPr/>
        </p:nvSpPr>
        <p:spPr>
          <a:xfrm>
            <a:off x="3276720" y="3716280"/>
            <a:ext cx="934920" cy="109224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1241640" y="215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512892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2752920" y="3162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3473640" y="17938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545280" y="330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2918160" y="1484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5993280" y="22939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1 – F/F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2" descr="transfer1"/>
          <p:cNvPicPr/>
          <p:nvPr/>
        </p:nvPicPr>
        <p:blipFill>
          <a:blip r:embed="rId1"/>
          <a:stretch/>
        </p:blipFill>
        <p:spPr>
          <a:xfrm>
            <a:off x="468360" y="4076640"/>
            <a:ext cx="4038480" cy="188928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1046520" y="1938240"/>
            <a:ext cx="28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(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      1,66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J/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692360" y="2421000"/>
            <a:ext cx="7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 flipV="1">
            <a:off x="1763640" y="2349360"/>
            <a:ext cx="73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1835280" y="2349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5556960" y="1717560"/>
            <a:ext cx="31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života exc.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 – překryvový integrá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 – refraktivní index rozp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emise donor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16" descr="7"/>
          <p:cNvPicPr/>
          <p:nvPr/>
        </p:nvPicPr>
        <p:blipFill>
          <a:blip r:embed="rId2"/>
          <a:stretch/>
        </p:blipFill>
        <p:spPr>
          <a:xfrm>
            <a:off x="5292720" y="3789360"/>
            <a:ext cx="2448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367200" y="1866960"/>
            <a:ext cx="63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– změření vzdálenosti mezi dvěma molekulami v bílkovin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ryptofan (290/340) vs. NADH (340/450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0" descr="priklad_transfer"/>
          <p:cNvPicPr/>
          <p:nvPr/>
        </p:nvPicPr>
        <p:blipFill>
          <a:blip r:embed="rId1"/>
          <a:stretch/>
        </p:blipFill>
        <p:spPr>
          <a:xfrm>
            <a:off x="826920" y="3860640"/>
            <a:ext cx="4772160" cy="2133720"/>
          </a:xfrm>
          <a:prstGeom prst="rect">
            <a:avLst/>
          </a:prstGeom>
          <a:ln w="0">
            <a:noFill/>
          </a:ln>
        </p:spPr>
      </p:pic>
      <p:sp>
        <p:nvSpPr>
          <p:cNvPr id="400" name="Oval 12"/>
          <p:cNvSpPr/>
          <p:nvPr/>
        </p:nvSpPr>
        <p:spPr>
          <a:xfrm>
            <a:off x="6156360" y="2565360"/>
            <a:ext cx="1800360" cy="16556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49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6659640" y="3789360"/>
            <a:ext cx="360360" cy="36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7524720" y="3645000"/>
            <a:ext cx="216000" cy="215640"/>
          </a:xfrm>
          <a:prstGeom prst="pentag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7667640" y="3500280"/>
            <a:ext cx="289080" cy="2890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17"/>
          <p:cNvSpPr/>
          <p:nvPr/>
        </p:nvSpPr>
        <p:spPr>
          <a:xfrm>
            <a:off x="7048440" y="3727440"/>
            <a:ext cx="379440" cy="127080"/>
          </a:xfrm>
          <a:custGeom>
            <a:avLst/>
            <a:gdLst/>
            <a:ahLst/>
            <a:rect l="l" t="t" r="r" b="b"/>
            <a:pathLst>
              <a:path w="239" h="80">
                <a:moveTo>
                  <a:pt x="0" y="80"/>
                </a:moveTo>
                <a:cubicBezTo>
                  <a:pt x="3" y="69"/>
                  <a:pt x="6" y="31"/>
                  <a:pt x="35" y="45"/>
                </a:cubicBezTo>
                <a:cubicBezTo>
                  <a:pt x="43" y="49"/>
                  <a:pt x="41" y="62"/>
                  <a:pt x="44" y="71"/>
                </a:cubicBezTo>
                <a:cubicBezTo>
                  <a:pt x="73" y="30"/>
                  <a:pt x="90" y="32"/>
                  <a:pt x="106" y="80"/>
                </a:cubicBezTo>
                <a:cubicBezTo>
                  <a:pt x="132" y="41"/>
                  <a:pt x="138" y="27"/>
                  <a:pt x="168" y="71"/>
                </a:cubicBezTo>
                <a:cubicBezTo>
                  <a:pt x="192" y="55"/>
                  <a:pt x="239" y="0"/>
                  <a:pt x="239" y="7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58440" y="164952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ockesův posun – ztráty energie po dobu excitovaného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1763640" y="292428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>
            <a:off x="1763640" y="595008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850000" y="6113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"/>
          <p:cNvSpPr/>
          <p:nvPr/>
        </p:nvSpPr>
        <p:spPr>
          <a:xfrm>
            <a:off x="2627280" y="3284640"/>
            <a:ext cx="1008000" cy="2654280"/>
          </a:xfrm>
          <a:custGeom>
            <a:avLst/>
            <a:gdLst/>
            <a:ahLst/>
            <a:rect l="l" t="t" r="r" b="b"/>
            <a:pathLst>
              <a:path w="635" h="1672">
                <a:moveTo>
                  <a:pt x="0" y="1672"/>
                </a:moveTo>
                <a:cubicBezTo>
                  <a:pt x="57" y="965"/>
                  <a:pt x="114" y="258"/>
                  <a:pt x="182" y="129"/>
                </a:cubicBezTo>
                <a:cubicBezTo>
                  <a:pt x="250" y="0"/>
                  <a:pt x="332" y="643"/>
                  <a:pt x="408" y="900"/>
                </a:cubicBezTo>
                <a:cubicBezTo>
                  <a:pt x="484" y="1157"/>
                  <a:pt x="597" y="1543"/>
                  <a:pt x="635" y="167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10"/>
          <p:cNvSpPr/>
          <p:nvPr/>
        </p:nvSpPr>
        <p:spPr>
          <a:xfrm>
            <a:off x="3492360" y="3284640"/>
            <a:ext cx="863640" cy="2665440"/>
          </a:xfrm>
          <a:custGeom>
            <a:avLst/>
            <a:gdLst/>
            <a:ahLst/>
            <a:rect l="l" t="t" r="r" b="b"/>
            <a:pathLst>
              <a:path w="544" h="1316">
                <a:moveTo>
                  <a:pt x="544" y="1316"/>
                </a:moveTo>
                <a:cubicBezTo>
                  <a:pt x="442" y="749"/>
                  <a:pt x="340" y="182"/>
                  <a:pt x="272" y="91"/>
                </a:cubicBezTo>
                <a:cubicBezTo>
                  <a:pt x="204" y="0"/>
                  <a:pt x="181" y="567"/>
                  <a:pt x="136" y="771"/>
                </a:cubicBezTo>
                <a:cubicBezTo>
                  <a:pt x="91" y="975"/>
                  <a:pt x="23" y="1225"/>
                  <a:pt x="0" y="1316"/>
                </a:cubicBez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2916360" y="32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112920" y="265284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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241280" y="2801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052720" y="4581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564720" y="47242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prikladtransfer2"/>
          <p:cNvPicPr/>
          <p:nvPr/>
        </p:nvPicPr>
        <p:blipFill>
          <a:blip r:embed="rId1"/>
          <a:stretch/>
        </p:blipFill>
        <p:spPr>
          <a:xfrm>
            <a:off x="2050920" y="2492280"/>
            <a:ext cx="43815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ET - vy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Zástupný symbol pro obsah 3" descr=""/>
          <p:cNvPicPr/>
          <p:nvPr/>
        </p:nvPicPr>
        <p:blipFill>
          <a:blip r:embed="rId1"/>
          <a:stretch/>
        </p:blipFill>
        <p:spPr>
          <a:xfrm>
            <a:off x="1717560" y="1836720"/>
            <a:ext cx="57088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ET - vy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3" descr=""/>
          <p:cNvPicPr/>
          <p:nvPr/>
        </p:nvPicPr>
        <p:blipFill>
          <a:blip r:embed="rId1"/>
          <a:stretch/>
        </p:blipFill>
        <p:spPr>
          <a:xfrm>
            <a:off x="2031840" y="2319480"/>
            <a:ext cx="5080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5" descr="polar_princip"/>
          <p:cNvPicPr/>
          <p:nvPr/>
        </p:nvPicPr>
        <p:blipFill>
          <a:blip r:embed="rId1"/>
          <a:stretch/>
        </p:blipFill>
        <p:spPr>
          <a:xfrm>
            <a:off x="1979640" y="2276640"/>
            <a:ext cx="492444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polarf"/>
          <p:cNvPicPr/>
          <p:nvPr/>
        </p:nvPicPr>
        <p:blipFill>
          <a:blip r:embed="rId1"/>
          <a:stretch/>
        </p:blipFill>
        <p:spPr>
          <a:xfrm>
            <a:off x="3200400" y="24908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7"/>
          <p:cNvSpPr/>
          <p:nvPr/>
        </p:nvSpPr>
        <p:spPr>
          <a:xfrm>
            <a:off x="734040" y="13622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larizační filt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polar2"/>
          <p:cNvPicPr/>
          <p:nvPr/>
        </p:nvPicPr>
        <p:blipFill>
          <a:blip r:embed="rId1"/>
          <a:stretch/>
        </p:blipFill>
        <p:spPr>
          <a:xfrm>
            <a:off x="1547640" y="1916280"/>
            <a:ext cx="6409080" cy="35668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8"/>
          <p:cNvSpPr/>
          <p:nvPr/>
        </p:nvSpPr>
        <p:spPr>
          <a:xfrm>
            <a:off x="7093080" y="2924280"/>
            <a:ext cx="1366560" cy="32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polarizace"/>
          <p:cNvPicPr/>
          <p:nvPr/>
        </p:nvPicPr>
        <p:blipFill>
          <a:blip r:embed="rId1"/>
          <a:stretch/>
        </p:blipFill>
        <p:spPr>
          <a:xfrm>
            <a:off x="2268360" y="2492280"/>
            <a:ext cx="4842000" cy="247356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1"/>
          <p:cNvGrpSpPr/>
          <p:nvPr/>
        </p:nvGrpSpPr>
        <p:grpSpPr>
          <a:xfrm>
            <a:off x="2844720" y="2205000"/>
            <a:ext cx="433440" cy="576360"/>
            <a:chOff x="2844720" y="2205000"/>
            <a:chExt cx="433440" cy="576360"/>
          </a:xfrm>
        </p:grpSpPr>
        <p:sp>
          <p:nvSpPr>
            <p:cNvPr id="422" name="Line 7"/>
            <p:cNvSpPr/>
            <p:nvPr/>
          </p:nvSpPr>
          <p:spPr>
            <a:xfrm>
              <a:off x="284472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>
              <a:off x="298908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313344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>
              <a:off x="327816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2"/>
          <p:cNvGrpSpPr/>
          <p:nvPr/>
        </p:nvGrpSpPr>
        <p:grpSpPr>
          <a:xfrm>
            <a:off x="5005440" y="2133720"/>
            <a:ext cx="433440" cy="576000"/>
            <a:chOff x="5005440" y="2133720"/>
            <a:chExt cx="433440" cy="576000"/>
          </a:xfrm>
        </p:grpSpPr>
        <p:sp>
          <p:nvSpPr>
            <p:cNvPr id="427" name="Line 13"/>
            <p:cNvSpPr/>
            <p:nvPr/>
          </p:nvSpPr>
          <p:spPr>
            <a:xfrm>
              <a:off x="500544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>
              <a:off x="514980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529416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543888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Line 17"/>
          <p:cNvSpPr/>
          <p:nvPr/>
        </p:nvSpPr>
        <p:spPr>
          <a:xfrm>
            <a:off x="4932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8"/>
          <p:cNvSpPr/>
          <p:nvPr/>
        </p:nvSpPr>
        <p:spPr>
          <a:xfrm>
            <a:off x="500544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9"/>
          <p:cNvSpPr/>
          <p:nvPr/>
        </p:nvSpPr>
        <p:spPr>
          <a:xfrm>
            <a:off x="522144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0"/>
          <p:cNvSpPr/>
          <p:nvPr/>
        </p:nvSpPr>
        <p:spPr>
          <a:xfrm>
            <a:off x="5292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2916360" y="4726080"/>
            <a:ext cx="433440" cy="576000"/>
            <a:chOff x="2916360" y="4726080"/>
            <a:chExt cx="433440" cy="576000"/>
          </a:xfrm>
        </p:grpSpPr>
        <p:sp>
          <p:nvSpPr>
            <p:cNvPr id="436" name="Line 22"/>
            <p:cNvSpPr/>
            <p:nvPr/>
          </p:nvSpPr>
          <p:spPr>
            <a:xfrm>
              <a:off x="2916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>
              <a:off x="3060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>
              <a:off x="320508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>
              <a:off x="334980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26"/>
          <p:cNvGrpSpPr/>
          <p:nvPr/>
        </p:nvGrpSpPr>
        <p:grpSpPr>
          <a:xfrm>
            <a:off x="5292720" y="4797360"/>
            <a:ext cx="433440" cy="576360"/>
            <a:chOff x="5292720" y="4797360"/>
            <a:chExt cx="433440" cy="576360"/>
          </a:xfrm>
        </p:grpSpPr>
        <p:sp>
          <p:nvSpPr>
            <p:cNvPr id="441" name="Line 27"/>
            <p:cNvSpPr/>
            <p:nvPr/>
          </p:nvSpPr>
          <p:spPr>
            <a:xfrm>
              <a:off x="529272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>
              <a:off x="543708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9"/>
            <p:cNvSpPr/>
            <p:nvPr/>
          </p:nvSpPr>
          <p:spPr>
            <a:xfrm>
              <a:off x="558144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572616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590400" y="215424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tační relaxační č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533400" y="1577880"/>
            <a:ext cx="3928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anizotropie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– I</a:t>
            </a:r>
            <a:r>
              <a:rPr b="1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 = 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2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616200" y="31575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5360040" y="2992320"/>
            <a:ext cx="38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rotační relaxační čas 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 – anizotropie nepohyblivé molekuly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16920" y="41655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5344200" y="40258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obj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iskozi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635640" y="5084640"/>
            <a:ext cx="20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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V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12"/>
          <p:cNvSpPr/>
          <p:nvPr/>
        </p:nvSpPr>
        <p:spPr>
          <a:xfrm rot="20159400">
            <a:off x="899640" y="3933720"/>
            <a:ext cx="503280" cy="5032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"/>
          <p:cNvSpPr/>
          <p:nvPr/>
        </p:nvSpPr>
        <p:spPr>
          <a:xfrm>
            <a:off x="161928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 flipV="1">
            <a:off x="1042920" y="364500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17"/>
          <p:cNvSpPr/>
          <p:nvPr/>
        </p:nvSpPr>
        <p:spPr>
          <a:xfrm>
            <a:off x="2050920" y="3933720"/>
            <a:ext cx="503280" cy="503280"/>
          </a:xfrm>
          <a:prstGeom prst="flowChartPreparat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8"/>
          <p:cNvSpPr/>
          <p:nvPr/>
        </p:nvSpPr>
        <p:spPr>
          <a:xfrm flipV="1">
            <a:off x="1979640" y="378900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1195920" y="4792680"/>
            <a:ext cx="183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(3 co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-1)/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0"/>
          <p:cNvSpPr/>
          <p:nvPr/>
        </p:nvSpPr>
        <p:spPr>
          <a:xfrm flipV="1">
            <a:off x="1979640" y="364500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2249280" y="3444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1332360" y="34783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excita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72960" y="16495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ití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y s ligand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"/>
          <p:cNvSpPr/>
          <p:nvPr/>
        </p:nvSpPr>
        <p:spPr>
          <a:xfrm>
            <a:off x="2050920" y="285264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7"/>
          <p:cNvSpPr/>
          <p:nvPr/>
        </p:nvSpPr>
        <p:spPr>
          <a:xfrm>
            <a:off x="205092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9"/>
          <p:cNvSpPr/>
          <p:nvPr/>
        </p:nvSpPr>
        <p:spPr>
          <a:xfrm>
            <a:off x="2050920" y="3703680"/>
            <a:ext cx="3889440" cy="301680"/>
          </a:xfrm>
          <a:custGeom>
            <a:avLst/>
            <a:gdLst/>
            <a:ahLst/>
            <a:rect l="l" t="t" r="r" b="b"/>
            <a:pathLst>
              <a:path w="2450" h="190">
                <a:moveTo>
                  <a:pt x="0" y="190"/>
                </a:moveTo>
                <a:cubicBezTo>
                  <a:pt x="79" y="137"/>
                  <a:pt x="159" y="84"/>
                  <a:pt x="454" y="54"/>
                </a:cubicBezTo>
                <a:cubicBezTo>
                  <a:pt x="749" y="24"/>
                  <a:pt x="1436" y="16"/>
                  <a:pt x="1769" y="8"/>
                </a:cubicBezTo>
                <a:cubicBezTo>
                  <a:pt x="2102" y="0"/>
                  <a:pt x="2337" y="15"/>
                  <a:pt x="245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145764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5651280" y="61657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g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12"/>
          <p:cNvSpPr/>
          <p:nvPr/>
        </p:nvSpPr>
        <p:spPr>
          <a:xfrm>
            <a:off x="2050920" y="3789360"/>
            <a:ext cx="4033800" cy="2160720"/>
          </a:xfrm>
          <a:custGeom>
            <a:avLst/>
            <a:gdLst/>
            <a:ahLst/>
            <a:rect l="l" t="t" r="r" b="b"/>
            <a:pathLst>
              <a:path w="2541" h="1361">
                <a:moveTo>
                  <a:pt x="0" y="1361"/>
                </a:moveTo>
                <a:cubicBezTo>
                  <a:pt x="46" y="1190"/>
                  <a:pt x="92" y="1020"/>
                  <a:pt x="273" y="816"/>
                </a:cubicBezTo>
                <a:cubicBezTo>
                  <a:pt x="454" y="612"/>
                  <a:pt x="711" y="272"/>
                  <a:pt x="1089" y="136"/>
                </a:cubicBezTo>
                <a:cubicBezTo>
                  <a:pt x="1467" y="0"/>
                  <a:pt x="2299" y="23"/>
                  <a:pt x="2541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456920" y="3233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4" descr="polarizace"/>
          <p:cNvPicPr/>
          <p:nvPr/>
        </p:nvPicPr>
        <p:blipFill>
          <a:blip r:embed="rId1"/>
          <a:stretch/>
        </p:blipFill>
        <p:spPr>
          <a:xfrm>
            <a:off x="5219640" y="1197000"/>
            <a:ext cx="35006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375480" y="164952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ití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í viskozity prostřed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684720" y="2637000"/>
            <a:ext cx="20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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V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K/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Object 7"/>
          <p:cNvGraphicFramePr/>
          <p:nvPr/>
        </p:nvGraphicFramePr>
        <p:xfrm>
          <a:off x="5292720" y="1700280"/>
          <a:ext cx="230364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23036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Text Box 9"/>
          <p:cNvSpPr/>
          <p:nvPr/>
        </p:nvSpPr>
        <p:spPr>
          <a:xfrm>
            <a:off x="5055840" y="294156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= 2,4r/(0,362 – 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2700360" y="3716280"/>
            <a:ext cx="388764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1"/>
          <p:cNvSpPr/>
          <p:nvPr/>
        </p:nvSpPr>
        <p:spPr>
          <a:xfrm>
            <a:off x="341964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>
            <a:off x="428472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514980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601488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2700360" y="3933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2700360" y="4508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2700360" y="501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700360" y="5518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2700360" y="6022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21"/>
          <p:cNvSpPr/>
          <p:nvPr/>
        </p:nvSpPr>
        <p:spPr>
          <a:xfrm>
            <a:off x="2700360" y="4280040"/>
            <a:ext cx="3600360" cy="1741320"/>
          </a:xfrm>
          <a:custGeom>
            <a:avLst/>
            <a:gdLst/>
            <a:ahLst/>
            <a:rect l="l" t="t" r="r" b="b"/>
            <a:pathLst>
              <a:path w="2268" h="1097">
                <a:moveTo>
                  <a:pt x="0" y="54"/>
                </a:moveTo>
                <a:cubicBezTo>
                  <a:pt x="158" y="46"/>
                  <a:pt x="317" y="39"/>
                  <a:pt x="544" y="54"/>
                </a:cubicBezTo>
                <a:cubicBezTo>
                  <a:pt x="771" y="69"/>
                  <a:pt x="1179" y="0"/>
                  <a:pt x="1360" y="144"/>
                </a:cubicBezTo>
                <a:cubicBezTo>
                  <a:pt x="1541" y="288"/>
                  <a:pt x="1550" y="765"/>
                  <a:pt x="1633" y="916"/>
                </a:cubicBezTo>
                <a:cubicBezTo>
                  <a:pt x="1716" y="1067"/>
                  <a:pt x="1753" y="1022"/>
                  <a:pt x="1859" y="1052"/>
                </a:cubicBezTo>
                <a:cubicBezTo>
                  <a:pt x="1965" y="1082"/>
                  <a:pt x="2200" y="1090"/>
                  <a:pt x="2268" y="10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2104920" y="4025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3045960" y="630864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           30            40           50    °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108000" y="515772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. anizotropie DP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ho v liposome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PP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"/>
          <p:cNvPicPr/>
          <p:nvPr/>
        </p:nvPicPr>
        <p:blipFill>
          <a:blip r:embed="rId1"/>
          <a:stretch/>
        </p:blipFill>
        <p:spPr>
          <a:xfrm>
            <a:off x="755640" y="1700280"/>
            <a:ext cx="4753080" cy="2705040"/>
          </a:xfrm>
          <a:prstGeom prst="rect">
            <a:avLst/>
          </a:prstGeom>
          <a:ln w="0">
            <a:noFill/>
          </a:ln>
        </p:spPr>
      </p:pic>
      <p:sp>
        <p:nvSpPr>
          <p:cNvPr id="74" name="Line 8"/>
          <p:cNvSpPr/>
          <p:nvPr/>
        </p:nvSpPr>
        <p:spPr>
          <a:xfrm>
            <a:off x="6083280" y="421956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08328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6083280" y="40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6083280" y="321156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608328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608328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6083280" y="2995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6083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6083280" y="2851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6083280" y="2779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6083280" y="27068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6083280" y="2635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7020000" y="350028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1"/>
          <p:cNvSpPr/>
          <p:nvPr/>
        </p:nvSpPr>
        <p:spPr>
          <a:xfrm>
            <a:off x="702000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702000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3"/>
          <p:cNvSpPr/>
          <p:nvPr/>
        </p:nvSpPr>
        <p:spPr>
          <a:xfrm>
            <a:off x="702000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702000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02000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6"/>
          <p:cNvSpPr/>
          <p:nvPr/>
        </p:nvSpPr>
        <p:spPr>
          <a:xfrm>
            <a:off x="7020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20000" y="2995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702000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7020000" y="422100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7020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702000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3"/>
          <p:cNvSpPr/>
          <p:nvPr/>
        </p:nvSpPr>
        <p:spPr>
          <a:xfrm>
            <a:off x="6583320" y="2716200"/>
            <a:ext cx="687600" cy="438120"/>
          </a:xfrm>
          <a:custGeom>
            <a:avLst/>
            <a:gdLst/>
            <a:ahLst/>
            <a:rect l="l" t="t" r="r" b="b"/>
            <a:pathLst>
              <a:path w="433" h="276">
                <a:moveTo>
                  <a:pt x="0" y="123"/>
                </a:moveTo>
                <a:cubicBezTo>
                  <a:pt x="51" y="105"/>
                  <a:pt x="97" y="81"/>
                  <a:pt x="144" y="55"/>
                </a:cubicBezTo>
                <a:cubicBezTo>
                  <a:pt x="244" y="0"/>
                  <a:pt x="165" y="30"/>
                  <a:pt x="231" y="7"/>
                </a:cubicBezTo>
                <a:cubicBezTo>
                  <a:pt x="279" y="10"/>
                  <a:pt x="328" y="9"/>
                  <a:pt x="375" y="17"/>
                </a:cubicBezTo>
                <a:cubicBezTo>
                  <a:pt x="405" y="22"/>
                  <a:pt x="423" y="94"/>
                  <a:pt x="423" y="94"/>
                </a:cubicBezTo>
                <a:cubicBezTo>
                  <a:pt x="433" y="244"/>
                  <a:pt x="432" y="183"/>
                  <a:pt x="432" y="2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4"/>
          <p:cNvSpPr/>
          <p:nvPr/>
        </p:nvSpPr>
        <p:spPr>
          <a:xfrm flipV="1">
            <a:off x="6300720" y="285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5"/>
          <p:cNvSpPr/>
          <p:nvPr/>
        </p:nvSpPr>
        <p:spPr>
          <a:xfrm>
            <a:off x="7885080" y="371628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788508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7"/>
          <p:cNvSpPr/>
          <p:nvPr/>
        </p:nvSpPr>
        <p:spPr>
          <a:xfrm>
            <a:off x="78850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8"/>
          <p:cNvSpPr/>
          <p:nvPr/>
        </p:nvSpPr>
        <p:spPr>
          <a:xfrm>
            <a:off x="7885080" y="35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9"/>
          <p:cNvSpPr/>
          <p:nvPr/>
        </p:nvSpPr>
        <p:spPr>
          <a:xfrm>
            <a:off x="788508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0"/>
          <p:cNvSpPr/>
          <p:nvPr/>
        </p:nvSpPr>
        <p:spPr>
          <a:xfrm>
            <a:off x="7885080" y="3355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41"/>
          <p:cNvSpPr/>
          <p:nvPr/>
        </p:nvSpPr>
        <p:spPr>
          <a:xfrm>
            <a:off x="788508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2"/>
          <p:cNvSpPr/>
          <p:nvPr/>
        </p:nvSpPr>
        <p:spPr>
          <a:xfrm>
            <a:off x="7885080" y="3211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3"/>
          <p:cNvSpPr/>
          <p:nvPr/>
        </p:nvSpPr>
        <p:spPr>
          <a:xfrm>
            <a:off x="788508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4"/>
          <p:cNvSpPr/>
          <p:nvPr/>
        </p:nvSpPr>
        <p:spPr>
          <a:xfrm>
            <a:off x="7956720" y="422100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45"/>
          <p:cNvSpPr/>
          <p:nvPr/>
        </p:nvSpPr>
        <p:spPr>
          <a:xfrm>
            <a:off x="795672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6"/>
          <p:cNvSpPr/>
          <p:nvPr/>
        </p:nvSpPr>
        <p:spPr>
          <a:xfrm>
            <a:off x="795672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47"/>
          <p:cNvSpPr/>
          <p:nvPr/>
        </p:nvSpPr>
        <p:spPr>
          <a:xfrm>
            <a:off x="7635960" y="3002040"/>
            <a:ext cx="584280" cy="411120"/>
          </a:xfrm>
          <a:custGeom>
            <a:avLst/>
            <a:gdLst/>
            <a:ahLst/>
            <a:rect l="l" t="t" r="r" b="b"/>
            <a:pathLst>
              <a:path w="368" h="259">
                <a:moveTo>
                  <a:pt x="0" y="125"/>
                </a:moveTo>
                <a:cubicBezTo>
                  <a:pt x="44" y="57"/>
                  <a:pt x="19" y="80"/>
                  <a:pt x="67" y="48"/>
                </a:cubicBezTo>
                <a:cubicBezTo>
                  <a:pt x="95" y="6"/>
                  <a:pt x="105" y="13"/>
                  <a:pt x="153" y="0"/>
                </a:cubicBezTo>
                <a:cubicBezTo>
                  <a:pt x="200" y="7"/>
                  <a:pt x="234" y="14"/>
                  <a:pt x="278" y="29"/>
                </a:cubicBezTo>
                <a:cubicBezTo>
                  <a:pt x="306" y="57"/>
                  <a:pt x="326" y="87"/>
                  <a:pt x="355" y="115"/>
                </a:cubicBezTo>
                <a:cubicBezTo>
                  <a:pt x="368" y="201"/>
                  <a:pt x="364" y="153"/>
                  <a:pt x="364" y="2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9"/>
          <p:cNvSpPr/>
          <p:nvPr/>
        </p:nvSpPr>
        <p:spPr>
          <a:xfrm>
            <a:off x="831708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6302520" y="43610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1"/>
          <p:cNvSpPr/>
          <p:nvPr/>
        </p:nvSpPr>
        <p:spPr>
          <a:xfrm>
            <a:off x="7094880" y="43610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2"/>
          <p:cNvSpPr/>
          <p:nvPr/>
        </p:nvSpPr>
        <p:spPr>
          <a:xfrm>
            <a:off x="8102880" y="45086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excitace1"/>
          <p:cNvPicPr/>
          <p:nvPr/>
        </p:nvPicPr>
        <p:blipFill>
          <a:blip r:embed="rId1"/>
          <a:stretch/>
        </p:blipFill>
        <p:spPr>
          <a:xfrm>
            <a:off x="971640" y="1341360"/>
            <a:ext cx="5472000" cy="277344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4"/>
          <p:cNvSpPr/>
          <p:nvPr/>
        </p:nvSpPr>
        <p:spPr>
          <a:xfrm>
            <a:off x="130428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2                                  </a:t>
            </a:r>
            <a:r>
              <a:rPr b="1" lang="cs-CZ" sz="1800" spc="-1" strike="noStrike">
                <a:solidFill>
                  <a:srgbClr val="6600ff"/>
                </a:solidFill>
                <a:latin typeface="Times New Roman"/>
              </a:rPr>
              <a:t>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5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12" descr="singlet"/>
          <p:cNvPicPr/>
          <p:nvPr/>
        </p:nvPicPr>
        <p:blipFill>
          <a:blip r:embed="rId2"/>
          <a:stretch/>
        </p:blipFill>
        <p:spPr>
          <a:xfrm>
            <a:off x="6804000" y="4797360"/>
            <a:ext cx="1830240" cy="9352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4"/>
          <p:cNvSpPr/>
          <p:nvPr/>
        </p:nvSpPr>
        <p:spPr>
          <a:xfrm>
            <a:off x="7092720" y="3500280"/>
            <a:ext cx="126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ultiplici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 = 2S +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fosfo1"/>
          <p:cNvPicPr/>
          <p:nvPr/>
        </p:nvPicPr>
        <p:blipFill>
          <a:blip r:embed="rId1"/>
          <a:stretch/>
        </p:blipFill>
        <p:spPr>
          <a:xfrm>
            <a:off x="676440" y="2386080"/>
            <a:ext cx="3600360" cy="29527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683640" y="15732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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100 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8" descr="tryptofan"/>
          <p:cNvPicPr/>
          <p:nvPr/>
        </p:nvPicPr>
        <p:blipFill>
          <a:blip r:embed="rId2"/>
          <a:stretch/>
        </p:blipFill>
        <p:spPr>
          <a:xfrm>
            <a:off x="5292720" y="3141720"/>
            <a:ext cx="17146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949680" y="1433520"/>
            <a:ext cx="317088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ový výtěžek 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3/(k3 + k2 + k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2/(k3 + k2 + k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k2/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29780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6600ff"/>
                </a:solidFill>
                <a:latin typeface="Times New Roman"/>
              </a:rPr>
              <a:t>k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5076720" y="1700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5"/>
          <p:cNvSpPr/>
          <p:nvPr/>
        </p:nvSpPr>
        <p:spPr>
          <a:xfrm>
            <a:off x="500364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4482000" y="1789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20"/>
          <p:cNvSpPr/>
          <p:nvPr/>
        </p:nvSpPr>
        <p:spPr>
          <a:xfrm>
            <a:off x="5076720" y="29005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22"/>
          <p:cNvSpPr/>
          <p:nvPr/>
        </p:nvSpPr>
        <p:spPr>
          <a:xfrm>
            <a:off x="5940360" y="2060640"/>
            <a:ext cx="1584360" cy="887400"/>
          </a:xfrm>
          <a:custGeom>
            <a:avLst/>
            <a:gdLst/>
            <a:ahLst/>
            <a:rect l="l" t="t" r="r" b="b"/>
            <a:pathLst>
              <a:path w="998" h="559">
                <a:moveTo>
                  <a:pt x="0" y="529"/>
                </a:moveTo>
                <a:cubicBezTo>
                  <a:pt x="83" y="544"/>
                  <a:pt x="167" y="559"/>
                  <a:pt x="227" y="484"/>
                </a:cubicBezTo>
                <a:cubicBezTo>
                  <a:pt x="287" y="409"/>
                  <a:pt x="235" y="152"/>
                  <a:pt x="363" y="76"/>
                </a:cubicBezTo>
                <a:cubicBezTo>
                  <a:pt x="491" y="0"/>
                  <a:pt x="892" y="38"/>
                  <a:pt x="998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25"/>
          <p:cNvSpPr/>
          <p:nvPr/>
        </p:nvSpPr>
        <p:spPr>
          <a:xfrm>
            <a:off x="5940360" y="2913120"/>
            <a:ext cx="1871640" cy="1092240"/>
          </a:xfrm>
          <a:custGeom>
            <a:avLst/>
            <a:gdLst/>
            <a:ahLst/>
            <a:rect l="l" t="t" r="r" b="b"/>
            <a:pathLst>
              <a:path w="1179" h="688">
                <a:moveTo>
                  <a:pt x="0" y="7"/>
                </a:moveTo>
                <a:cubicBezTo>
                  <a:pt x="102" y="3"/>
                  <a:pt x="204" y="0"/>
                  <a:pt x="272" y="98"/>
                </a:cubicBezTo>
                <a:cubicBezTo>
                  <a:pt x="340" y="196"/>
                  <a:pt x="257" y="506"/>
                  <a:pt x="408" y="597"/>
                </a:cubicBezTo>
                <a:cubicBezTo>
                  <a:pt x="559" y="688"/>
                  <a:pt x="1051" y="635"/>
                  <a:pt x="1179" y="6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6"/>
          <p:cNvSpPr/>
          <p:nvPr/>
        </p:nvSpPr>
        <p:spPr>
          <a:xfrm>
            <a:off x="5724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372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8"/>
          <p:cNvSpPr/>
          <p:nvPr/>
        </p:nvSpPr>
        <p:spPr>
          <a:xfrm>
            <a:off x="7164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5286960" y="400536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0       200        300    °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6567840" y="16495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6588720" y="33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chémaflu"/>
          <p:cNvPicPr/>
          <p:nvPr/>
        </p:nvPicPr>
        <p:blipFill>
          <a:blip r:embed="rId1"/>
          <a:stretch/>
        </p:blipFill>
        <p:spPr>
          <a:xfrm>
            <a:off x="2124000" y="2421000"/>
            <a:ext cx="42768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10"/>
          <p:cNvGrpSpPr/>
          <p:nvPr/>
        </p:nvGrpSpPr>
        <p:grpSpPr>
          <a:xfrm>
            <a:off x="4284720" y="3284640"/>
            <a:ext cx="358200" cy="360000"/>
            <a:chOff x="4284720" y="3284640"/>
            <a:chExt cx="358200" cy="360000"/>
          </a:xfrm>
        </p:grpSpPr>
        <p:sp>
          <p:nvSpPr>
            <p:cNvPr id="533" name="Rectangle 8"/>
            <p:cNvSpPr/>
            <p:nvPr/>
          </p:nvSpPr>
          <p:spPr>
            <a:xfrm>
              <a:off x="4284720" y="3284640"/>
              <a:ext cx="358200" cy="36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9"/>
            <p:cNvSpPr/>
            <p:nvPr/>
          </p:nvSpPr>
          <p:spPr>
            <a:xfrm>
              <a:off x="4375440" y="3284640"/>
              <a:ext cx="90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Text Box 11"/>
          <p:cNvSpPr/>
          <p:nvPr/>
        </p:nvSpPr>
        <p:spPr>
          <a:xfrm>
            <a:off x="538200" y="11970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ální uspořádán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Group 12"/>
          <p:cNvGrpSpPr/>
          <p:nvPr/>
        </p:nvGrpSpPr>
        <p:grpSpPr>
          <a:xfrm>
            <a:off x="7020000" y="3500280"/>
            <a:ext cx="935640" cy="1222200"/>
            <a:chOff x="7020000" y="3500280"/>
            <a:chExt cx="935640" cy="1222200"/>
          </a:xfrm>
        </p:grpSpPr>
        <p:sp>
          <p:nvSpPr>
            <p:cNvPr id="537" name="Rectangle 13"/>
            <p:cNvSpPr/>
            <p:nvPr/>
          </p:nvSpPr>
          <p:spPr>
            <a:xfrm>
              <a:off x="7020000" y="3500280"/>
              <a:ext cx="935640" cy="122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4"/>
            <p:cNvSpPr/>
            <p:nvPr/>
          </p:nvSpPr>
          <p:spPr>
            <a:xfrm>
              <a:off x="7256880" y="3500280"/>
              <a:ext cx="235440" cy="12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6948360" y="2349360"/>
            <a:ext cx="1008360" cy="1008360"/>
            <a:chOff x="6948360" y="2349360"/>
            <a:chExt cx="1008360" cy="1008360"/>
          </a:xfrm>
        </p:grpSpPr>
        <p:sp>
          <p:nvSpPr>
            <p:cNvPr id="540" name="Oval 15"/>
            <p:cNvSpPr/>
            <p:nvPr/>
          </p:nvSpPr>
          <p:spPr>
            <a:xfrm>
              <a:off x="6948360" y="2349360"/>
              <a:ext cx="1008360" cy="10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7308720" y="2349360"/>
              <a:ext cx="28764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7"/>
            <p:cNvSpPr/>
            <p:nvPr/>
          </p:nvSpPr>
          <p:spPr>
            <a:xfrm>
              <a:off x="7020000" y="2421000"/>
              <a:ext cx="863640" cy="86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Arc 22"/>
          <p:cNvSpPr/>
          <p:nvPr/>
        </p:nvSpPr>
        <p:spPr>
          <a:xfrm flipH="1">
            <a:off x="6807240" y="1700280"/>
            <a:ext cx="1285920" cy="718920"/>
          </a:xfrm>
          <a:custGeom>
            <a:avLst/>
            <a:gdLst/>
            <a:ahLst/>
            <a:rect l="l" t="t" r="r" b="b"/>
            <a:pathLst>
              <a:path fill="none" w="42799" h="21600">
                <a:moveTo>
                  <a:pt x="0" y="17457"/>
                </a:moveTo>
                <a:cubicBezTo>
                  <a:pt x="1981" y="7316"/>
                  <a:pt x="10866" y="-1"/>
                  <a:pt x="21199" y="0"/>
                </a:cubicBezTo>
                <a:cubicBezTo>
                  <a:pt x="33128" y="0"/>
                  <a:pt x="42799" y="9670"/>
                  <a:pt x="42799" y="21600"/>
                </a:cubicBezTo>
              </a:path>
              <a:path stroke="0" w="42799" h="21600">
                <a:moveTo>
                  <a:pt x="0" y="17457"/>
                </a:moveTo>
                <a:cubicBezTo>
                  <a:pt x="1981" y="7316"/>
                  <a:pt x="10866" y="-1"/>
                  <a:pt x="21199" y="0"/>
                </a:cubicBezTo>
                <a:cubicBezTo>
                  <a:pt x="33128" y="0"/>
                  <a:pt x="42799" y="9670"/>
                  <a:pt x="42799" y="21600"/>
                </a:cubicBezTo>
                <a:lnTo>
                  <a:pt x="21199" y="21600"/>
                </a:lnTo>
                <a:lnTo>
                  <a:pt x="0" y="1745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9"/>
          <p:cNvGrpSpPr/>
          <p:nvPr/>
        </p:nvGrpSpPr>
        <p:grpSpPr>
          <a:xfrm>
            <a:off x="3059280" y="5157720"/>
            <a:ext cx="72720" cy="936720"/>
            <a:chOff x="3059280" y="5157720"/>
            <a:chExt cx="72720" cy="936720"/>
          </a:xfrm>
        </p:grpSpPr>
        <p:sp>
          <p:nvSpPr>
            <p:cNvPr id="546" name="Line 20"/>
            <p:cNvSpPr/>
            <p:nvPr/>
          </p:nvSpPr>
          <p:spPr>
            <a:xfrm>
              <a:off x="305928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1"/>
            <p:cNvSpPr/>
            <p:nvPr/>
          </p:nvSpPr>
          <p:spPr>
            <a:xfrm>
              <a:off x="313200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22"/>
          <p:cNvGrpSpPr/>
          <p:nvPr/>
        </p:nvGrpSpPr>
        <p:grpSpPr>
          <a:xfrm>
            <a:off x="3276720" y="5157720"/>
            <a:ext cx="73080" cy="936720"/>
            <a:chOff x="3276720" y="5157720"/>
            <a:chExt cx="73080" cy="936720"/>
          </a:xfrm>
        </p:grpSpPr>
        <p:sp>
          <p:nvSpPr>
            <p:cNvPr id="549" name="Line 23"/>
            <p:cNvSpPr/>
            <p:nvPr/>
          </p:nvSpPr>
          <p:spPr>
            <a:xfrm>
              <a:off x="327672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4"/>
            <p:cNvSpPr/>
            <p:nvPr/>
          </p:nvSpPr>
          <p:spPr>
            <a:xfrm>
              <a:off x="334980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1" name="AutoShape 25"/>
          <p:cNvCxnSpPr/>
          <p:nvPr/>
        </p:nvCxnSpPr>
        <p:spPr>
          <a:xfrm rot="5400000">
            <a:off x="3239280" y="4905360"/>
            <a:ext cx="289440" cy="216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AutoShape 26"/>
          <p:cNvCxnSpPr/>
          <p:nvPr/>
        </p:nvCxnSpPr>
        <p:spPr>
          <a:xfrm rot="5400000">
            <a:off x="3346560" y="4869720"/>
            <a:ext cx="289440" cy="288000"/>
          </a:xfrm>
          <a:prstGeom prst="curvedConnector5">
            <a:avLst>
              <a:gd name="adj1" fmla="val 49937"/>
              <a:gd name="adj2" fmla="val 49937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3" name="AutoShape 27"/>
          <p:cNvCxnSpPr>
            <a:endCxn id="547" idx="0"/>
          </p:cNvCxnSpPr>
          <p:nvPr/>
        </p:nvCxnSpPr>
        <p:spPr>
          <a:xfrm flipH="1" rot="16200000">
            <a:off x="2879640" y="4906080"/>
            <a:ext cx="288000" cy="216360"/>
          </a:xfrm>
          <a:prstGeom prst="curvedConnector5">
            <a:avLst>
              <a:gd name="adj1" fmla="val 49687"/>
              <a:gd name="adj2" fmla="val 50000"/>
              <a:gd name="adj3" fmla="val 496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4" name="AutoShape 28"/>
          <p:cNvCxnSpPr>
            <a:endCxn id="546" idx="0"/>
          </p:cNvCxnSpPr>
          <p:nvPr/>
        </p:nvCxnSpPr>
        <p:spPr>
          <a:xfrm flipH="1" rot="16200000">
            <a:off x="2770920" y="4870080"/>
            <a:ext cx="288000" cy="288360"/>
          </a:xfrm>
          <a:prstGeom prst="curvedConnector5">
            <a:avLst>
              <a:gd name="adj1" fmla="val 49687"/>
              <a:gd name="adj2" fmla="val 50000"/>
              <a:gd name="adj3" fmla="val 496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5" name="AutoShape 29"/>
          <p:cNvCxnSpPr>
            <a:stCxn id="547" idx="1"/>
          </p:cNvCxnSpPr>
          <p:nvPr/>
        </p:nvCxnSpPr>
        <p:spPr>
          <a:xfrm flipH="1" flipV="1" rot="5400000">
            <a:off x="3203280" y="6021000"/>
            <a:ext cx="2160" cy="145440"/>
          </a:xfrm>
          <a:prstGeom prst="curvedConnector5">
            <a:avLst>
              <a:gd name="adj1" fmla="val -14400000"/>
              <a:gd name="adj2" fmla="val 45409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6" name="Line 34"/>
          <p:cNvSpPr/>
          <p:nvPr/>
        </p:nvSpPr>
        <p:spPr>
          <a:xfrm>
            <a:off x="30592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6"/>
          <p:cNvSpPr/>
          <p:nvPr/>
        </p:nvSpPr>
        <p:spPr>
          <a:xfrm>
            <a:off x="3348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8" name="AutoShape 38"/>
          <p:cNvCxnSpPr>
            <a:stCxn id="557" idx="0"/>
            <a:endCxn id="546" idx="1"/>
          </p:cNvCxnSpPr>
          <p:nvPr/>
        </p:nvCxnSpPr>
        <p:spPr>
          <a:xfrm flipV="1" rot="16200000">
            <a:off x="3131640" y="6020640"/>
            <a:ext cx="143640" cy="289440"/>
          </a:xfrm>
          <a:prstGeom prst="curvedConnector5">
            <a:avLst>
              <a:gd name="adj1" fmla="val -159798"/>
              <a:gd name="adj2" fmla="val 49937"/>
              <a:gd name="adj3" fmla="val -1597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Rectangle 39"/>
          <p:cNvSpPr/>
          <p:nvPr/>
        </p:nvSpPr>
        <p:spPr>
          <a:xfrm>
            <a:off x="3492360" y="2708280"/>
            <a:ext cx="14292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0"/>
          <p:cNvSpPr/>
          <p:nvPr/>
        </p:nvSpPr>
        <p:spPr>
          <a:xfrm>
            <a:off x="2771640" y="2708280"/>
            <a:ext cx="14472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41"/>
          <p:cNvSpPr/>
          <p:nvPr/>
        </p:nvSpPr>
        <p:spPr>
          <a:xfrm>
            <a:off x="2916360" y="306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2"/>
          <p:cNvSpPr/>
          <p:nvPr/>
        </p:nvSpPr>
        <p:spPr>
          <a:xfrm>
            <a:off x="1893960" y="35942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43"/>
          <p:cNvSpPr/>
          <p:nvPr/>
        </p:nvSpPr>
        <p:spPr>
          <a:xfrm>
            <a:off x="3203640" y="2205000"/>
            <a:ext cx="73080" cy="39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4"/>
          <p:cNvSpPr/>
          <p:nvPr/>
        </p:nvSpPr>
        <p:spPr>
          <a:xfrm>
            <a:off x="2896920" y="1649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ore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4834440" y="2225520"/>
            <a:ext cx="41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po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igidní skla bez krystal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ethanol, metanol, voda:ethylenglykol., at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663120" y="17226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plikace 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6" descr="fosf_latky"/>
          <p:cNvPicPr/>
          <p:nvPr/>
        </p:nvPicPr>
        <p:blipFill>
          <a:blip r:embed="rId1"/>
          <a:stretch/>
        </p:blipFill>
        <p:spPr>
          <a:xfrm>
            <a:off x="3276720" y="2205000"/>
            <a:ext cx="39272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fosfatasa"/>
          <p:cNvPicPr/>
          <p:nvPr/>
        </p:nvPicPr>
        <p:blipFill>
          <a:blip r:embed="rId1"/>
          <a:stretch/>
        </p:blipFill>
        <p:spPr>
          <a:xfrm>
            <a:off x="3708360" y="2565360"/>
            <a:ext cx="4545000" cy="30304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33320" y="1433520"/>
            <a:ext cx="33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sforescence alkalické fosfat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Try, pouze Try 109 fosforeskuj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– nativní enzy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– enzym po odstranění Z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7289640" y="352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7002360" y="453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luminol"/>
          <p:cNvPicPr/>
          <p:nvPr/>
        </p:nvPicPr>
        <p:blipFill>
          <a:blip r:embed="rId1"/>
          <a:stretch/>
        </p:blipFill>
        <p:spPr>
          <a:xfrm>
            <a:off x="395280" y="2492280"/>
            <a:ext cx="4038480" cy="1042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luminol1"/>
          <p:cNvPicPr/>
          <p:nvPr/>
        </p:nvPicPr>
        <p:blipFill>
          <a:blip r:embed="rId2"/>
          <a:stretch/>
        </p:blipFill>
        <p:spPr>
          <a:xfrm>
            <a:off x="5186520" y="1625760"/>
            <a:ext cx="2962080" cy="21333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5"/>
          <p:cNvSpPr/>
          <p:nvPr/>
        </p:nvSpPr>
        <p:spPr>
          <a:xfrm>
            <a:off x="665280" y="129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umi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0" descr="luminol2"/>
          <p:cNvPicPr/>
          <p:nvPr/>
        </p:nvPicPr>
        <p:blipFill>
          <a:blip r:embed="rId3"/>
          <a:stretch/>
        </p:blipFill>
        <p:spPr>
          <a:xfrm>
            <a:off x="5137200" y="3938760"/>
            <a:ext cx="3058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520200" y="18669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ucifer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6" descr="luciferin"/>
          <p:cNvPicPr/>
          <p:nvPr/>
        </p:nvPicPr>
        <p:blipFill>
          <a:blip r:embed="rId1"/>
          <a:stretch/>
        </p:blipFill>
        <p:spPr>
          <a:xfrm>
            <a:off x="1187280" y="2637000"/>
            <a:ext cx="63374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6" descr="aequorea"/>
          <p:cNvPicPr/>
          <p:nvPr/>
        </p:nvPicPr>
        <p:blipFill>
          <a:blip r:embed="rId1"/>
          <a:stretch/>
        </p:blipFill>
        <p:spPr>
          <a:xfrm>
            <a:off x="1332000" y="2781360"/>
            <a:ext cx="65149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18640" y="1649520"/>
            <a:ext cx="47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ovaný stav – střední doba života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258920" y="2565360"/>
          <a:ext cx="6192720" cy="21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19272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8"/>
          <p:cNvSpPr/>
          <p:nvPr/>
        </p:nvSpPr>
        <p:spPr>
          <a:xfrm>
            <a:off x="2773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13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9" descr="celenter"/>
          <p:cNvPicPr/>
          <p:nvPr/>
        </p:nvPicPr>
        <p:blipFill>
          <a:blip r:embed="rId1"/>
          <a:stretch/>
        </p:blipFill>
        <p:spPr>
          <a:xfrm>
            <a:off x="971640" y="2708280"/>
            <a:ext cx="6121440" cy="15559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10" descr="aequor_coeln"/>
          <p:cNvPicPr/>
          <p:nvPr/>
        </p:nvPicPr>
        <p:blipFill>
          <a:blip r:embed="rId2"/>
          <a:stretch/>
        </p:blipFill>
        <p:spPr>
          <a:xfrm>
            <a:off x="1042920" y="4508640"/>
            <a:ext cx="23749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" descr="aeq_spek"/>
          <p:cNvPicPr/>
          <p:nvPr/>
        </p:nvPicPr>
        <p:blipFill>
          <a:blip r:embed="rId1"/>
          <a:stretch/>
        </p:blipFill>
        <p:spPr>
          <a:xfrm>
            <a:off x="857160" y="2409840"/>
            <a:ext cx="3238560" cy="29052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4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10" descr="aequo_anim"/>
          <p:cNvPicPr/>
          <p:nvPr/>
        </p:nvPicPr>
        <p:blipFill>
          <a:blip r:embed="rId2"/>
          <a:stretch/>
        </p:blipFill>
        <p:spPr>
          <a:xfrm>
            <a:off x="5867280" y="2852640"/>
            <a:ext cx="1419480" cy="13352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2"/>
          <p:cNvSpPr/>
          <p:nvPr/>
        </p:nvSpPr>
        <p:spPr>
          <a:xfrm>
            <a:off x="5126040" y="453060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ůnik vápníku do mitochondri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tivuje oxidaci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35120" y="1938240"/>
            <a:ext cx="5852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ový výtěžek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počet kvant emitovaných/počet kvant absorbovaný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(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rychlost konverzních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proces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nzita fluorescence látky = f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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79480" y="2154240"/>
            <a:ext cx="31114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života excitovaného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potřebná k poklesu fluorescence na hodnotu 1/e I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1/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cs-CZ" sz="1800" spc="-1" strike="noStrike" baseline="30000">
                <a:solidFill>
                  <a:srgbClr val="000000"/>
                </a:solidFill>
                <a:latin typeface="Verdana"/>
              </a:rPr>
              <a:t> – t/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lifetime"/>
          <p:cNvPicPr/>
          <p:nvPr/>
        </p:nvPicPr>
        <p:blipFill>
          <a:blip r:embed="rId1"/>
          <a:stretch/>
        </p:blipFill>
        <p:spPr>
          <a:xfrm>
            <a:off x="4500720" y="1484280"/>
            <a:ext cx="368604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92760" y="4797360"/>
            <a:ext cx="407916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rozená doba život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finovaná pr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2,88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. ∫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d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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478040" y="4530600"/>
            <a:ext cx="305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- refrakční index rozpo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ární abs. Koefici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abs. maxim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3"/>
          <p:cNvSpPr/>
          <p:nvPr/>
        </p:nvSpPr>
        <p:spPr>
          <a:xfrm>
            <a:off x="5651640" y="5829480"/>
            <a:ext cx="433080" cy="479160"/>
          </a:xfrm>
          <a:custGeom>
            <a:avLst/>
            <a:gdLst/>
            <a:ahLst/>
            <a:rect l="l" t="t" r="r" b="b"/>
            <a:pathLst>
              <a:path w="273" h="302">
                <a:moveTo>
                  <a:pt x="0" y="302"/>
                </a:moveTo>
                <a:cubicBezTo>
                  <a:pt x="30" y="181"/>
                  <a:pt x="61" y="60"/>
                  <a:pt x="91" y="30"/>
                </a:cubicBezTo>
                <a:cubicBezTo>
                  <a:pt x="121" y="0"/>
                  <a:pt x="152" y="76"/>
                  <a:pt x="182" y="121"/>
                </a:cubicBezTo>
                <a:cubicBezTo>
                  <a:pt x="212" y="166"/>
                  <a:pt x="258" y="272"/>
                  <a:pt x="273" y="3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5435640" y="566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5435640" y="6308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00580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210360" y="6253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4:30:24Z</dcterms:created>
  <dc:creator>Mikeš</dc:creator>
  <dc:description/>
  <dc:language>en-US</dc:language>
  <cp:lastModifiedBy>Zbořil</cp:lastModifiedBy>
  <dcterms:modified xsi:type="dcterms:W3CDTF">2011-03-14T07:55:08Z</dcterms:modified>
  <cp:revision>74</cp:revision>
  <dc:subject/>
  <dc:title>Luminiscenční spektroskopie</dc:title>
</cp:coreProperties>
</file>