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9.png" ContentType="image/png"/>
  <Override PartName="/ppt/media/image13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6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800-7E84-4D51-B69A-D2C55437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213-8292-4925-BD04-164F237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B09-A313-4246-B5DF-CA3E0F58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3E5-A4C0-4AAA-9229-B7A37450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566-C576-42BB-A279-167E56B0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41B-5268-40F6-80F8-F79939B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7A7-6F99-424C-AA78-734C4B3E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05F-D63D-4FF8-ADD6-87A4FDA1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381-1BD2-4301-B763-B85D282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46E-D439-4A59-AEAE-4642D9E8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CB6-0109-4DC3-849F-0B2019C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FDE-0FAA-4652-9768-E74C12C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5EA8-985A-43DC-B9BC-8B2F9E65B5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spersní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mění rychlost šíření elektromagnetického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de prakticky o zpoma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izotropní – refrakt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í anizotropní – chirální metody (vč. absorpčn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d"/>
          <p:cNvPicPr/>
          <p:nvPr/>
        </p:nvPicPr>
        <p:blipFill>
          <a:blip r:embed="rId1"/>
          <a:stretch/>
        </p:blipFill>
        <p:spPr>
          <a:xfrm>
            <a:off x="3214800" y="2043000"/>
            <a:ext cx="27144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629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irkulární dichro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5600" y="1413000"/>
            <a:ext cx="75088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kulárně polarizované svět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á absorbance pro levou a pravou složku (chirální chromof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polar-CD"/>
          <p:cNvPicPr/>
          <p:nvPr/>
        </p:nvPicPr>
        <p:blipFill>
          <a:blip r:embed="rId1"/>
          <a:stretch/>
        </p:blipFill>
        <p:spPr>
          <a:xfrm>
            <a:off x="1403280" y="3141720"/>
            <a:ext cx="6104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rkulární dichrois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0880" y="1557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 -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chema"/>
          <p:cNvPicPr/>
          <p:nvPr/>
        </p:nvPicPr>
        <p:blipFill>
          <a:blip r:embed="rId1"/>
          <a:stretch/>
        </p:blipFill>
        <p:spPr>
          <a:xfrm>
            <a:off x="1301760" y="1893960"/>
            <a:ext cx="6540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pektrometr"/>
          <p:cNvPicPr/>
          <p:nvPr/>
        </p:nvPicPr>
        <p:blipFill>
          <a:blip r:embed="rId1"/>
          <a:stretch/>
        </p:blipFill>
        <p:spPr>
          <a:xfrm>
            <a:off x="1938240" y="203364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720" y="1432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ipt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787120" y="1989000"/>
            <a:ext cx="2963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298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= 3298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ktrum CD: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f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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059280" y="3141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059280" y="4797360"/>
            <a:ext cx="26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348000" y="3392640"/>
            <a:ext cx="1944720" cy="142848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5800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57440" y="321300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 rot="11113200">
            <a:off x="3492360" y="4796640"/>
            <a:ext cx="1873440" cy="1446120"/>
          </a:xfrm>
          <a:custGeom>
            <a:avLst/>
            <a:gdLst/>
            <a:ahLst/>
            <a:rect l="l" t="t" r="r" b="b"/>
            <a:pathLst>
              <a:path w="1225" h="900">
                <a:moveTo>
                  <a:pt x="0" y="885"/>
                </a:moveTo>
                <a:cubicBezTo>
                  <a:pt x="121" y="884"/>
                  <a:pt x="242" y="884"/>
                  <a:pt x="317" y="839"/>
                </a:cubicBezTo>
                <a:cubicBezTo>
                  <a:pt x="392" y="794"/>
                  <a:pt x="400" y="741"/>
                  <a:pt x="453" y="613"/>
                </a:cubicBezTo>
                <a:cubicBezTo>
                  <a:pt x="506" y="485"/>
                  <a:pt x="582" y="136"/>
                  <a:pt x="635" y="68"/>
                </a:cubicBezTo>
                <a:cubicBezTo>
                  <a:pt x="688" y="0"/>
                  <a:pt x="711" y="83"/>
                  <a:pt x="771" y="204"/>
                </a:cubicBezTo>
                <a:cubicBezTo>
                  <a:pt x="831" y="325"/>
                  <a:pt x="922" y="688"/>
                  <a:pt x="998" y="794"/>
                </a:cubicBezTo>
                <a:cubicBezTo>
                  <a:pt x="1074" y="900"/>
                  <a:pt x="1187" y="832"/>
                  <a:pt x="1225" y="83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442764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2138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D spektra – Cottonův ef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295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332000" y="1484280"/>
            <a:ext cx="57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proteinů – UV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ptidová vaz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0 –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azebné elektrony. karbonylu, 22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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karbonylu,190 nm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nzita a energie přechodů závisí na úh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ční řetězce aminokyse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he, Tyr, Trp, disulfid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3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mínky: koncentrace 0.2 – 0.5 m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peptvazba"/>
          <p:cNvPicPr/>
          <p:nvPr/>
        </p:nvPicPr>
        <p:blipFill>
          <a:blip r:embed="rId1"/>
          <a:stretch/>
        </p:blipFill>
        <p:spPr>
          <a:xfrm>
            <a:off x="7308720" y="3933720"/>
            <a:ext cx="13240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pektra"/>
          <p:cNvPicPr/>
          <p:nvPr/>
        </p:nvPicPr>
        <p:blipFill>
          <a:blip r:embed="rId1"/>
          <a:stretch/>
        </p:blipFill>
        <p:spPr>
          <a:xfrm>
            <a:off x="1042920" y="2133720"/>
            <a:ext cx="27432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rototypyCD"/>
          <p:cNvPicPr/>
          <p:nvPr/>
        </p:nvPicPr>
        <p:blipFill>
          <a:blip r:embed="rId2"/>
          <a:stretch/>
        </p:blipFill>
        <p:spPr>
          <a:xfrm>
            <a:off x="4648320" y="2455920"/>
            <a:ext cx="403848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474480" y="126540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 spekt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helixu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skl.listu, smyčky, náhodného kl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struktury"/>
          <p:cNvPicPr/>
          <p:nvPr/>
        </p:nvPicPr>
        <p:blipFill>
          <a:blip r:embed="rId1"/>
          <a:stretch/>
        </p:blipFill>
        <p:spPr>
          <a:xfrm>
            <a:off x="395280" y="1916280"/>
            <a:ext cx="3816360" cy="1304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596160" y="13604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reálných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43760" y="3860640"/>
            <a:ext cx="2768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triosofosfátisomeras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52, S:0.14, T:0.11, O: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: lysoz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36, S:0.09, T:0.32, O: 0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: myogl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78, S:0, T:0.12, O: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: chymotryp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:0.10, S:0.34, T:0.20, O: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CDspektra"/>
          <p:cNvPicPr/>
          <p:nvPr/>
        </p:nvPicPr>
        <p:blipFill>
          <a:blip r:embed="rId2"/>
          <a:stretch/>
        </p:blipFill>
        <p:spPr>
          <a:xfrm>
            <a:off x="4500720" y="1989000"/>
            <a:ext cx="4032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ole"/>
          <p:cNvPicPr/>
          <p:nvPr/>
        </p:nvPicPr>
        <p:blipFill>
          <a:blip r:embed="rId1"/>
          <a:stretch/>
        </p:blipFill>
        <p:spPr>
          <a:xfrm>
            <a:off x="1403280" y="2133720"/>
            <a:ext cx="6588360" cy="2604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330920" y="5105520"/>
            <a:ext cx="35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s fotonu – šipkou směr ší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- vektor elektr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 – vektor magnetického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97000"/>
            <a:ext cx="70038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ěření CD spekter prote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hodné klub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7.0, (Pro-Lys-Leu-Lys-Leu)n, slabá iontová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0.2, nebo my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skl.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-L-lysin při pH 11.2 , zahřátí na 50°C, ochlazení, nebo (Lys-Leu)n v 0.1 M NaF při p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neznámé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=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 + f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</a:rPr>
              <a:t>R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jsou hodnoty získané z referentních bílkovina f frak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epktrum rekombinantu"/>
          <p:cNvPicPr/>
          <p:nvPr/>
        </p:nvPicPr>
        <p:blipFill>
          <a:blip r:embed="rId1"/>
          <a:stretch/>
        </p:blipFill>
        <p:spPr>
          <a:xfrm>
            <a:off x="0" y="2060640"/>
            <a:ext cx="5162400" cy="4048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gdhcd"/>
          <p:cNvPicPr/>
          <p:nvPr/>
        </p:nvPicPr>
        <p:blipFill>
          <a:blip r:embed="rId1"/>
          <a:stretch/>
        </p:blipFill>
        <p:spPr>
          <a:xfrm rot="21478800">
            <a:off x="790200" y="2151000"/>
            <a:ext cx="3370320" cy="3424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830880" y="134136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metody: CD spektrum mutantního prote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gdhtab"/>
          <p:cNvPicPr/>
          <p:nvPr/>
        </p:nvPicPr>
        <p:blipFill>
          <a:blip r:embed="rId2"/>
          <a:stretch/>
        </p:blipFill>
        <p:spPr>
          <a:xfrm rot="21451800">
            <a:off x="4643280" y="2205000"/>
            <a:ext cx="3708720" cy="213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435560" y="4724280"/>
            <a:ext cx="41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p165 náhrada za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ektra velmi podobná – při mutaci nedochází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statné změně struktury prote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perzní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403280" y="328464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690560" y="357300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2411280" y="357300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411280" y="292428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91400" y="308916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1760" y="31417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1"/>
          <p:cNvSpPr/>
          <p:nvPr/>
        </p:nvSpPr>
        <p:spPr>
          <a:xfrm>
            <a:off x="3130560" y="285264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2"/>
          <p:cNvSpPr/>
          <p:nvPr/>
        </p:nvSpPr>
        <p:spPr>
          <a:xfrm flipH="1">
            <a:off x="754200" y="285264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960560" y="244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polaranim"/>
          <p:cNvPicPr/>
          <p:nvPr/>
        </p:nvPicPr>
        <p:blipFill>
          <a:blip r:embed="rId1"/>
          <a:stretch/>
        </p:blipFill>
        <p:spPr>
          <a:xfrm>
            <a:off x="4932360" y="2421000"/>
            <a:ext cx="2714760" cy="3638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837720" y="155736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ektor jako součet L a R slož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1763640" y="2997000"/>
            <a:ext cx="647640" cy="50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 flipV="1">
            <a:off x="2411280" y="2923920"/>
            <a:ext cx="72072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kládání vektorů L a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3"/>
          <p:cNvSpPr/>
          <p:nvPr/>
        </p:nvSpPr>
        <p:spPr>
          <a:xfrm>
            <a:off x="499320" y="5229360"/>
            <a:ext cx="307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(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L poma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559080" y="198900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chází k absor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ent. je stejná 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447480" y="3357720"/>
            <a:ext cx="37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á nebo rozdílná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 a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středí izo- nebo 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iroptické metody - disperz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2133720"/>
            <a:ext cx="38322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ticky aktivní lá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ný refraktivní index (n) pro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ždá ze složek se pohybuje různou rych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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(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219640" y="3357720"/>
            <a:ext cx="2087640" cy="18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 flipV="1">
            <a:off x="5796000" y="3428640"/>
            <a:ext cx="433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6227640" y="400536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227640" y="2997000"/>
            <a:ext cx="505080" cy="12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7007760" y="3162240"/>
            <a:ext cx="42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938120" y="3214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2"/>
          <p:cNvSpPr/>
          <p:nvPr/>
        </p:nvSpPr>
        <p:spPr>
          <a:xfrm>
            <a:off x="6946920" y="2925720"/>
            <a:ext cx="71928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13"/>
          <p:cNvSpPr/>
          <p:nvPr/>
        </p:nvSpPr>
        <p:spPr>
          <a:xfrm flipH="1">
            <a:off x="4570560" y="2925720"/>
            <a:ext cx="720720" cy="503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57769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156360" y="1916280"/>
            <a:ext cx="71280" cy="237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16"/>
          <p:cNvSpPr/>
          <p:nvPr/>
        </p:nvSpPr>
        <p:spPr>
          <a:xfrm>
            <a:off x="6227640" y="2997360"/>
            <a:ext cx="505080" cy="21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30216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672000" y="1268280"/>
            <a:ext cx="547200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73200" y="3102120"/>
            <a:ext cx="7526160" cy="140652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3"/>
          <p:cNvSpPr/>
          <p:nvPr/>
        </p:nvSpPr>
        <p:spPr>
          <a:xfrm>
            <a:off x="250920" y="5477040"/>
            <a:ext cx="837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duchá měření, koncentrace sacharidů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ílé světlo u jednoduchých, mo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omátory ev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ochromatický zdroj (Na-výbojk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ická kompensace – polarisační filtry, křemenné klí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4"/>
          <p:cNvSpPr/>
          <p:nvPr/>
        </p:nvSpPr>
        <p:spPr>
          <a:xfrm>
            <a:off x="250920" y="1700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arizace světla = výběr stejně orientovaných fot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ranoly, 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5"/>
          <p:cNvSpPr/>
          <p:nvPr/>
        </p:nvSpPr>
        <p:spPr>
          <a:xfrm>
            <a:off x="287280" y="45086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ma polarimetru: Z-zdroj, L – spojka, kolimátor, P a A – polarizační hranoly (filtry), K – kyveta se vzor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ari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rná otáčivost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v %, l v dm, tabeluje se pro různá rozpouště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ární otáčivost  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λ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. 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/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koncentrace, změn otáčivosti (mutar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tická rotační disperze - 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296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iroptick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800" y="1360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a ORD (optická rotační disp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780000" y="234936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476360" y="3789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851280" y="2637000"/>
            <a:ext cx="2233440" cy="2244600"/>
          </a:xfrm>
          <a:custGeom>
            <a:avLst/>
            <a:gdLst/>
            <a:ahLst/>
            <a:rect l="l" t="t" r="r" b="b"/>
            <a:pathLst>
              <a:path w="1407" h="1414">
                <a:moveTo>
                  <a:pt x="0" y="794"/>
                </a:moveTo>
                <a:cubicBezTo>
                  <a:pt x="53" y="798"/>
                  <a:pt x="106" y="802"/>
                  <a:pt x="136" y="840"/>
                </a:cubicBezTo>
                <a:cubicBezTo>
                  <a:pt x="166" y="878"/>
                  <a:pt x="159" y="938"/>
                  <a:pt x="182" y="1021"/>
                </a:cubicBezTo>
                <a:cubicBezTo>
                  <a:pt x="205" y="1104"/>
                  <a:pt x="228" y="1278"/>
                  <a:pt x="273" y="1338"/>
                </a:cubicBezTo>
                <a:cubicBezTo>
                  <a:pt x="318" y="1398"/>
                  <a:pt x="409" y="1414"/>
                  <a:pt x="454" y="1384"/>
                </a:cubicBezTo>
                <a:cubicBezTo>
                  <a:pt x="499" y="1354"/>
                  <a:pt x="492" y="1361"/>
                  <a:pt x="545" y="1157"/>
                </a:cubicBezTo>
                <a:cubicBezTo>
                  <a:pt x="598" y="953"/>
                  <a:pt x="712" y="318"/>
                  <a:pt x="772" y="159"/>
                </a:cubicBezTo>
                <a:cubicBezTo>
                  <a:pt x="832" y="0"/>
                  <a:pt x="863" y="128"/>
                  <a:pt x="908" y="204"/>
                </a:cubicBezTo>
                <a:cubicBezTo>
                  <a:pt x="953" y="280"/>
                  <a:pt x="984" y="530"/>
                  <a:pt x="1044" y="613"/>
                </a:cubicBezTo>
                <a:cubicBezTo>
                  <a:pt x="1104" y="696"/>
                  <a:pt x="1210" y="688"/>
                  <a:pt x="1270" y="703"/>
                </a:cubicBezTo>
                <a:cubicBezTo>
                  <a:pt x="1330" y="718"/>
                  <a:pt x="1384" y="703"/>
                  <a:pt x="14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065280" y="3932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34400" y="241920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olár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10360" y="287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7185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22000" y="179244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tvní Cottonův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4:50Z</dcterms:created>
  <dc:creator>Mikeš</dc:creator>
  <dc:description/>
  <dc:language>en-US</dc:language>
  <cp:lastModifiedBy>Zbořil</cp:lastModifiedBy>
  <dcterms:modified xsi:type="dcterms:W3CDTF">2011-03-30T09:34:09Z</dcterms:modified>
  <cp:revision>36</cp:revision>
  <dc:subject/>
  <dc:title>Chiroptické metody</dc:title>
</cp:coreProperties>
</file>