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28C-C2AD-4D78-84DF-A645F5D5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E33-3133-4C39-81EA-066DC24C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6D8-119D-4C63-B4EE-B66750F7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020-DC83-4B8F-99D5-DF8A16D3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0DE-1D46-4FF0-96F8-0BFC80C1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CCA-D812-462C-96E3-9C6F7E63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C84-1997-4A04-B3CF-45CAB3D8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A8E-2DE7-4E39-9046-C598014B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247-514D-412F-8575-63BF987E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BA8-608F-4F93-A0FC-D007339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D36-077F-46CA-8DCF-0F74A847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228-003F-4170-8A43-F2215CD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1931-3411-4DA7-B3D9-C0BFB24AE26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s.tugraz.at/felmi/HP3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vibr"/>
          <p:cNvPicPr/>
          <p:nvPr/>
        </p:nvPicPr>
        <p:blipFill>
          <a:blip r:embed="rId1"/>
          <a:stretch/>
        </p:blipFill>
        <p:spPr>
          <a:xfrm>
            <a:off x="971640" y="2637000"/>
            <a:ext cx="2162160" cy="1476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03520" y="157788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ace vibračních a rotačních přech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vibr2"/>
          <p:cNvPicPr/>
          <p:nvPr/>
        </p:nvPicPr>
        <p:blipFill>
          <a:blip r:embed="rId2"/>
          <a:stretch/>
        </p:blipFill>
        <p:spPr>
          <a:xfrm>
            <a:off x="4356000" y="2708280"/>
            <a:ext cx="403884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954360" y="45291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lenční vi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843440" y="45291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ormační vi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602000" y="49546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5634000" y="488304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6348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87040" y="1289160"/>
            <a:ext cx="2975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T-IR spektra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F2, 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, 60 mg/ml, 10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IRprot"/>
          <p:cNvPicPr/>
          <p:nvPr/>
        </p:nvPicPr>
        <p:blipFill>
          <a:blip r:embed="rId1"/>
          <a:stretch/>
        </p:blipFill>
        <p:spPr>
          <a:xfrm>
            <a:off x="755640" y="2136600"/>
            <a:ext cx="7488360" cy="3548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2610000" y="2467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968560" y="294624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uvodRAM"/>
          <p:cNvPicPr/>
          <p:nvPr/>
        </p:nvPicPr>
        <p:blipFill>
          <a:blip r:embed="rId1"/>
          <a:stretch/>
        </p:blipFill>
        <p:spPr>
          <a:xfrm>
            <a:off x="1619280" y="2276640"/>
            <a:ext cx="5105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principRam"/>
          <p:cNvPicPr/>
          <p:nvPr/>
        </p:nvPicPr>
        <p:blipFill>
          <a:blip r:embed="rId1"/>
          <a:stretch/>
        </p:blipFill>
        <p:spPr>
          <a:xfrm>
            <a:off x="2771640" y="1125360"/>
            <a:ext cx="39308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627280" y="1557360"/>
            <a:ext cx="244944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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v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45920" y="3805200"/>
            <a:ext cx="333252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555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18 0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kud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6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8 000 – 1 600 = 16 4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61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012000" y="1916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012000" y="414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6227640" y="1916280"/>
            <a:ext cx="720720" cy="2376360"/>
          </a:xfrm>
          <a:custGeom>
            <a:avLst/>
            <a:gdLst/>
            <a:ahLst/>
            <a:rect l="l" t="t" r="r" b="b"/>
            <a:pathLst>
              <a:path w="454" h="1543">
                <a:moveTo>
                  <a:pt x="0" y="1407"/>
                </a:moveTo>
                <a:cubicBezTo>
                  <a:pt x="72" y="1399"/>
                  <a:pt x="144" y="1391"/>
                  <a:pt x="182" y="1361"/>
                </a:cubicBezTo>
                <a:cubicBezTo>
                  <a:pt x="220" y="1331"/>
                  <a:pt x="212" y="1225"/>
                  <a:pt x="227" y="1225"/>
                </a:cubicBezTo>
                <a:cubicBezTo>
                  <a:pt x="242" y="1225"/>
                  <a:pt x="242" y="1346"/>
                  <a:pt x="272" y="1361"/>
                </a:cubicBezTo>
                <a:cubicBezTo>
                  <a:pt x="302" y="1376"/>
                  <a:pt x="379" y="1543"/>
                  <a:pt x="409" y="1316"/>
                </a:cubicBezTo>
                <a:cubicBezTo>
                  <a:pt x="439" y="1089"/>
                  <a:pt x="447" y="219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300720" y="424008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 –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7451640" y="1989000"/>
            <a:ext cx="649440" cy="2352960"/>
          </a:xfrm>
          <a:custGeom>
            <a:avLst/>
            <a:gdLst/>
            <a:ahLst/>
            <a:rect l="l" t="t" r="r" b="b"/>
            <a:pathLst>
              <a:path w="409" h="1482">
                <a:moveTo>
                  <a:pt x="0" y="0"/>
                </a:moveTo>
                <a:cubicBezTo>
                  <a:pt x="26" y="529"/>
                  <a:pt x="53" y="1058"/>
                  <a:pt x="91" y="1270"/>
                </a:cubicBezTo>
                <a:cubicBezTo>
                  <a:pt x="129" y="1482"/>
                  <a:pt x="189" y="1255"/>
                  <a:pt x="227" y="1270"/>
                </a:cubicBezTo>
                <a:cubicBezTo>
                  <a:pt x="265" y="1285"/>
                  <a:pt x="288" y="1346"/>
                  <a:pt x="318" y="1361"/>
                </a:cubicBezTo>
                <a:cubicBezTo>
                  <a:pt x="348" y="1376"/>
                  <a:pt x="378" y="1368"/>
                  <a:pt x="409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788160" y="136044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y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34760" y="3282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oc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594200" y="350028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nti-Stoc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amancom"/>
          <p:cNvPicPr/>
          <p:nvPr/>
        </p:nvPicPr>
        <p:blipFill>
          <a:blip r:embed="rId1"/>
          <a:stretch/>
        </p:blipFill>
        <p:spPr>
          <a:xfrm>
            <a:off x="611280" y="14130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59080" y="1792440"/>
            <a:ext cx="185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e: la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-Ne – 633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88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amanEqu"/>
          <p:cNvPicPr/>
          <p:nvPr/>
        </p:nvPicPr>
        <p:blipFill>
          <a:blip r:embed="rId1"/>
          <a:stretch/>
        </p:blipFill>
        <p:spPr>
          <a:xfrm>
            <a:off x="457200" y="1908000"/>
            <a:ext cx="82296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olarizovatel"/>
          <p:cNvPicPr/>
          <p:nvPr/>
        </p:nvPicPr>
        <p:blipFill>
          <a:blip r:embed="rId1"/>
          <a:stretch/>
        </p:blipFill>
        <p:spPr>
          <a:xfrm>
            <a:off x="2195640" y="3284640"/>
            <a:ext cx="4762440" cy="2276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1533240" y="1576440"/>
            <a:ext cx="596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arizovatelnost molekuly a vibrační m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ost vibrace v Ramanově spektru vyžaduje změ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arizovatel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etrické vibrace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79480" y="1362240"/>
            <a:ext cx="693252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ukce dipólu P v elektrickém poli 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E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polariz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i = Eo 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)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nočet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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)  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ib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br. frekvence molek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 +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.cos(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03160" y="4241880"/>
            <a:ext cx="51915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měr intenzit Stockesových a anti-Stockesových lin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e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(-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v/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-Stockesovy linie jsou mnohem slab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080" y="1524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133720"/>
          <a:ext cx="8243640" cy="3652560"/>
        </p:xfrm>
        <a:graphic>
          <a:graphicData uri="http://schemas.openxmlformats.org/drawingml/2006/table">
            <a:tbl>
              <a:tblPr/>
              <a:tblGrid>
                <a:gridCol w="1368360"/>
                <a:gridCol w="3311280"/>
                <a:gridCol w="3564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zikální efek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ce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ěna diplového momentu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lné, iontové vazby jako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-H, N-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tyl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ěna polarizovatelnosti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lné: kovalentní vazby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C=C, C-S, 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S-S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prava vzor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ální tloušťka (transmission mode) kontakt vzorku nut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kontaktu, destrukce jednoducháý příprava  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a nebo sklo neruší měř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ik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á absorpce skla, vody, CO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esc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á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jména organické lát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ez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venční rozs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- 700 cm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- 50 cm</a:t>
                      </a:r>
                      <a:r>
                        <a:rPr b="0" lang="cs-CZ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tokes and Antistok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59"/>
          <p:cNvSpPr/>
          <p:nvPr/>
        </p:nvSpPr>
        <p:spPr>
          <a:xfrm>
            <a:off x="0" y="50731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8400" y="1576440"/>
            <a:ext cx="716688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zonanční Ramanova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ové a vibrační přechody – excitace světlem 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ětla je kratší než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povídajícího el. pře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chromoforu 550 nm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větla 500 - 400 nm, laditelný la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zonanční Ramanův efekt – zesílení určitých liní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žná Ramanova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citace světlem 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e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romoforu 220 nm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větla 488 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12880" y="2008080"/>
            <a:ext cx="7032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 atomů = 3N stupňů vol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brační modus: molekulární pohyb, ve kterém atomy vibrují ve f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stejnou frekve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neární molekuly: 3N -5 m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ineární molekuly 3N – 6 m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raman_frekv"/>
          <p:cNvPicPr/>
          <p:nvPr/>
        </p:nvPicPr>
        <p:blipFill>
          <a:blip r:embed="rId1"/>
          <a:stretch/>
        </p:blipFill>
        <p:spPr>
          <a:xfrm>
            <a:off x="2195640" y="404640"/>
            <a:ext cx="466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yt_c-Raman"/>
          <p:cNvPicPr/>
          <p:nvPr/>
        </p:nvPicPr>
        <p:blipFill>
          <a:blip r:embed="rId1"/>
          <a:stretch/>
        </p:blipFill>
        <p:spPr>
          <a:xfrm>
            <a:off x="1476360" y="1268280"/>
            <a:ext cx="561672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92200" y="4840200"/>
            <a:ext cx="815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sonanční Ramanova spektra cyt c: 1340 – 1550 cm-1: oxidační a vazebný stav hemového Fe. 1375 a 1504 cm-1 – oxidovaný stav, bis-His hemu (6cLS konfigurace). Redukovaný stav: 1353 – 1468 cm-1 (5cHS konfigur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ytb-CO-Raman"/>
          <p:cNvPicPr/>
          <p:nvPr/>
        </p:nvPicPr>
        <p:blipFill>
          <a:blip r:embed="rId1"/>
          <a:stretch/>
        </p:blipFill>
        <p:spPr>
          <a:xfrm>
            <a:off x="2627280" y="1700280"/>
            <a:ext cx="3589200" cy="350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954360" y="53928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izotopů CO na cytochrom b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mutant-schema"/>
          <p:cNvPicPr/>
          <p:nvPr/>
        </p:nvPicPr>
        <p:blipFill>
          <a:blip r:embed="rId1"/>
          <a:stretch/>
        </p:blipFill>
        <p:spPr>
          <a:xfrm>
            <a:off x="395280" y="1341360"/>
            <a:ext cx="2448000" cy="2344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CD-mutant"/>
          <p:cNvPicPr/>
          <p:nvPr/>
        </p:nvPicPr>
        <p:blipFill>
          <a:blip r:embed="rId2"/>
          <a:stretch/>
        </p:blipFill>
        <p:spPr>
          <a:xfrm>
            <a:off x="3419640" y="1341360"/>
            <a:ext cx="21970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raM"/>
          <p:cNvPicPr/>
          <p:nvPr/>
        </p:nvPicPr>
        <p:blipFill>
          <a:blip r:embed="rId3"/>
          <a:stretch/>
        </p:blipFill>
        <p:spPr>
          <a:xfrm>
            <a:off x="6300720" y="1341360"/>
            <a:ext cx="19796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1258920" y="4221000"/>
            <a:ext cx="573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a mutantů Leu88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y totožná CD spek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R: 1482, 1565 – 6 koordinační Fe, s vysokým sp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05, 1582 – 6 koordinační, nízký sp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oký kmen a mutant prakticky tot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L1"/>
          <p:cNvPicPr/>
          <p:nvPr/>
        </p:nvPicPr>
        <p:blipFill>
          <a:blip r:embed="rId1"/>
          <a:stretch/>
        </p:blipFill>
        <p:spPr>
          <a:xfrm>
            <a:off x="684360" y="1700280"/>
            <a:ext cx="2797200" cy="2950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55240" y="256536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deuterovaného  DP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43120" y="13366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s C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1834920" y="1628640"/>
            <a:ext cx="215640" cy="505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7280" y="183996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900000" y="2133720"/>
            <a:ext cx="719280" cy="718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609280" y="191304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2268360" y="2205000"/>
            <a:ext cx="432000" cy="122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771640" y="2276640"/>
            <a:ext cx="216000" cy="1223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752200" y="133668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H="1">
            <a:off x="2700360" y="1557360"/>
            <a:ext cx="216000" cy="1224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4880" y="1792440"/>
            <a:ext cx="766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a viditelnosti absorpce v IR spektru – vibrace musí být prováz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měnou dipólového mo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př. asymetrické vibr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Elmg. záření je oscilující dipolový mo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dipol"/>
          <p:cNvPicPr/>
          <p:nvPr/>
        </p:nvPicPr>
        <p:blipFill>
          <a:blip r:embed="rId1"/>
          <a:stretch/>
        </p:blipFill>
        <p:spPr>
          <a:xfrm>
            <a:off x="1709640" y="3538440"/>
            <a:ext cx="5724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84280" y="1197000"/>
            <a:ext cx="55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 = 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 = 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lízká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.78 - 2.5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2800 – 400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řední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.5 – 50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000 – 200 c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dá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0 -1000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0 – 1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 –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600 – 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700 –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00 –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-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00 - 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39840" y="5102280"/>
            <a:ext cx="52149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b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/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(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k je silová konstanta, MA, MB hmotnosti atomů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ln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6877080" y="4869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7812000" y="4941720"/>
            <a:ext cx="2890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7093080" y="5013360"/>
            <a:ext cx="718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57640" y="4602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886520" y="4653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692640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10360" y="179244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é IR spek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typspektra"/>
          <p:cNvPicPr/>
          <p:nvPr/>
        </p:nvPicPr>
        <p:blipFill>
          <a:blip r:embed="rId1"/>
          <a:stretch/>
        </p:blipFill>
        <p:spPr>
          <a:xfrm>
            <a:off x="1403280" y="2637000"/>
            <a:ext cx="6840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471960" y="478440"/>
            <a:ext cx="4012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říklady vibrac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H (alkohol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300-3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2(ami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00-3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 (thioly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500-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H (vod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50-1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opolym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 (cystei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600-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2 (amidy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200-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=O (Asp, Glu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710-1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O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10-1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-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3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ádro (Tyr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 (Trp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-PO (fosfá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ádro (nukl. báz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20-15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 (pep. vazb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20-1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N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500-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148360" y="18446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hy abs. pásu podle typu va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 -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600 – 2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700 – 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900 –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00 -  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3000" y="1216080"/>
            <a:ext cx="31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R spektra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  - 1655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-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I – 1550 c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H 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23080" y="2944800"/>
            <a:ext cx="5357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spektra peptidové vazby na typu 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d I (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51 -16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ruktu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20 -1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70 -1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40 -16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R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fourrier"/>
          <p:cNvPicPr/>
          <p:nvPr/>
        </p:nvPicPr>
        <p:blipFill>
          <a:blip r:embed="rId1"/>
          <a:stretch/>
        </p:blipFill>
        <p:spPr>
          <a:xfrm>
            <a:off x="539640" y="1916280"/>
            <a:ext cx="4038840" cy="61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Rschema"/>
          <p:cNvPicPr/>
          <p:nvPr/>
        </p:nvPicPr>
        <p:blipFill>
          <a:blip r:embed="rId2"/>
          <a:stretch/>
        </p:blipFill>
        <p:spPr>
          <a:xfrm>
            <a:off x="5148360" y="2997360"/>
            <a:ext cx="290988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37280" y="12160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T-IR spekt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michelson"/>
          <p:cNvPicPr/>
          <p:nvPr/>
        </p:nvPicPr>
        <p:blipFill>
          <a:blip r:embed="rId3"/>
          <a:stretch/>
        </p:blipFill>
        <p:spPr>
          <a:xfrm>
            <a:off x="755640" y="3284640"/>
            <a:ext cx="3384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9:04:21Z</dcterms:created>
  <dc:creator>Mikeš</dc:creator>
  <dc:description/>
  <dc:language>en-US</dc:language>
  <cp:lastModifiedBy>Zbořil</cp:lastModifiedBy>
  <dcterms:modified xsi:type="dcterms:W3CDTF">2011-03-21T07:56:10Z</dcterms:modified>
  <cp:revision>32</cp:revision>
  <dc:subject/>
  <dc:title>IR spektroskopie</dc:title>
</cp:coreProperties>
</file>