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4.png" ContentType="image/png"/>
  <Override PartName="/ppt/media/image1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0.png" ContentType="image/png"/>
  <Override PartName="/ppt/media/image6.png" ContentType="image/png"/>
  <Override PartName="/ppt/media/image7.jpeg" ContentType="image/jpeg"/>
  <Override PartName="/ppt/media/image19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B214-9D20-433E-8D9B-FE78F2803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9DCF-8A22-4EA4-8367-218BE321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81AF-6C58-43D4-B378-1C76B1C53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AE44-323C-480E-B4C2-58308BF21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E559-D4D3-4157-BE4A-AB4371D4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F64C-F8F4-4886-8175-2FA513A3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5F93-E00E-424C-A1E9-4EA9D879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2F7B-35E8-4747-993C-291ED9F0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224F-8ABC-4CF4-96D5-99D1F481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7BF9-A940-4BB8-AA1C-BDDD935B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0DA5-9F9E-439C-9422-1549CC0C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0D29-6BC2-4349-9DFE-83A96596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72EB-F93A-4726-AC8B-FDD6CDCE8FA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is.tugraz.at/felmi/HP3.html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R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vibr"/>
          <p:cNvPicPr/>
          <p:nvPr/>
        </p:nvPicPr>
        <p:blipFill>
          <a:blip r:embed="rId1"/>
          <a:stretch/>
        </p:blipFill>
        <p:spPr>
          <a:xfrm>
            <a:off x="971640" y="2637000"/>
            <a:ext cx="2162160" cy="14763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803520" y="1577880"/>
            <a:ext cx="39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xcitace vibračních a rotačních přech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vibr2"/>
          <p:cNvPicPr/>
          <p:nvPr/>
        </p:nvPicPr>
        <p:blipFill>
          <a:blip r:embed="rId2"/>
          <a:stretch/>
        </p:blipFill>
        <p:spPr>
          <a:xfrm>
            <a:off x="4356000" y="2708280"/>
            <a:ext cx="4038840" cy="1143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954360" y="452916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alenční vi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843440" y="45291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formační vi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1602000" y="49546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3"/>
          <p:cNvSpPr/>
          <p:nvPr/>
        </p:nvSpPr>
        <p:spPr>
          <a:xfrm>
            <a:off x="5634000" y="488304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R spektroskop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66348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887040" y="1289160"/>
            <a:ext cx="29757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T-IR spektra protei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aF2, D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, 60 mg/ml, 10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IRprot"/>
          <p:cNvPicPr/>
          <p:nvPr/>
        </p:nvPicPr>
        <p:blipFill>
          <a:blip r:embed="rId1"/>
          <a:stretch/>
        </p:blipFill>
        <p:spPr>
          <a:xfrm>
            <a:off x="755640" y="2136600"/>
            <a:ext cx="7488360" cy="35481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9"/>
          <p:cNvSpPr/>
          <p:nvPr/>
        </p:nvSpPr>
        <p:spPr>
          <a:xfrm>
            <a:off x="2610000" y="246708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2968560" y="2946240"/>
            <a:ext cx="36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amanova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uvodRAM"/>
          <p:cNvPicPr/>
          <p:nvPr/>
        </p:nvPicPr>
        <p:blipFill>
          <a:blip r:embed="rId1"/>
          <a:stretch/>
        </p:blipFill>
        <p:spPr>
          <a:xfrm>
            <a:off x="1619280" y="2276640"/>
            <a:ext cx="510552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amanova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principRam"/>
          <p:cNvPicPr/>
          <p:nvPr/>
        </p:nvPicPr>
        <p:blipFill>
          <a:blip r:embed="rId1"/>
          <a:stretch/>
        </p:blipFill>
        <p:spPr>
          <a:xfrm>
            <a:off x="2771640" y="1125360"/>
            <a:ext cx="393084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amanova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2627280" y="1557360"/>
            <a:ext cx="2449440" cy="18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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vi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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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– 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vi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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v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2545920" y="3805200"/>
            <a:ext cx="3332520" cy="24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 555 n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 18 000 c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kud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vib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= 1600 c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= 18 000 – 1 600 = 16 400 c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= 610 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7"/>
          <p:cNvSpPr/>
          <p:nvPr/>
        </p:nvSpPr>
        <p:spPr>
          <a:xfrm>
            <a:off x="6012000" y="1916280"/>
            <a:ext cx="0" cy="22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012000" y="414972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0"/>
          <p:cNvSpPr/>
          <p:nvPr/>
        </p:nvSpPr>
        <p:spPr>
          <a:xfrm>
            <a:off x="6227640" y="1916280"/>
            <a:ext cx="720720" cy="2376360"/>
          </a:xfrm>
          <a:custGeom>
            <a:avLst/>
            <a:gdLst/>
            <a:ahLst/>
            <a:rect l="l" t="t" r="r" b="b"/>
            <a:pathLst>
              <a:path w="454" h="1543">
                <a:moveTo>
                  <a:pt x="0" y="1407"/>
                </a:moveTo>
                <a:cubicBezTo>
                  <a:pt x="72" y="1399"/>
                  <a:pt x="144" y="1391"/>
                  <a:pt x="182" y="1361"/>
                </a:cubicBezTo>
                <a:cubicBezTo>
                  <a:pt x="220" y="1331"/>
                  <a:pt x="212" y="1225"/>
                  <a:pt x="227" y="1225"/>
                </a:cubicBezTo>
                <a:cubicBezTo>
                  <a:pt x="242" y="1225"/>
                  <a:pt x="242" y="1346"/>
                  <a:pt x="272" y="1361"/>
                </a:cubicBezTo>
                <a:cubicBezTo>
                  <a:pt x="302" y="1376"/>
                  <a:pt x="379" y="1543"/>
                  <a:pt x="409" y="1316"/>
                </a:cubicBezTo>
                <a:cubicBezTo>
                  <a:pt x="439" y="1089"/>
                  <a:pt x="447" y="219"/>
                  <a:pt x="45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6300720" y="424008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 –</a:t>
            </a:r>
            <a:r>
              <a:rPr b="0" lang="cs-CZ" sz="1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                  </a:t>
            </a:r>
            <a:r>
              <a:rPr b="0" lang="cs-CZ" sz="1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 + </a:t>
            </a:r>
            <a:r>
              <a:rPr b="0" lang="cs-CZ" sz="1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14"/>
          <p:cNvSpPr/>
          <p:nvPr/>
        </p:nvSpPr>
        <p:spPr>
          <a:xfrm>
            <a:off x="7451640" y="1989000"/>
            <a:ext cx="649440" cy="2352960"/>
          </a:xfrm>
          <a:custGeom>
            <a:avLst/>
            <a:gdLst/>
            <a:ahLst/>
            <a:rect l="l" t="t" r="r" b="b"/>
            <a:pathLst>
              <a:path w="409" h="1482">
                <a:moveTo>
                  <a:pt x="0" y="0"/>
                </a:moveTo>
                <a:cubicBezTo>
                  <a:pt x="26" y="529"/>
                  <a:pt x="53" y="1058"/>
                  <a:pt x="91" y="1270"/>
                </a:cubicBezTo>
                <a:cubicBezTo>
                  <a:pt x="129" y="1482"/>
                  <a:pt x="189" y="1255"/>
                  <a:pt x="227" y="1270"/>
                </a:cubicBezTo>
                <a:cubicBezTo>
                  <a:pt x="265" y="1285"/>
                  <a:pt x="288" y="1346"/>
                  <a:pt x="318" y="1361"/>
                </a:cubicBezTo>
                <a:cubicBezTo>
                  <a:pt x="348" y="1376"/>
                  <a:pt x="378" y="1368"/>
                  <a:pt x="409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6788160" y="136044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ayle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6134760" y="3282840"/>
            <a:ext cx="81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toc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7594200" y="3500280"/>
            <a:ext cx="118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nti-Stoc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amanova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ramancom"/>
          <p:cNvPicPr/>
          <p:nvPr/>
        </p:nvPicPr>
        <p:blipFill>
          <a:blip r:embed="rId1"/>
          <a:stretch/>
        </p:blipFill>
        <p:spPr>
          <a:xfrm>
            <a:off x="611280" y="14130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6859080" y="1792440"/>
            <a:ext cx="185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roje: las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e-Ne – 633 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88 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amanova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RamanEqu"/>
          <p:cNvPicPr/>
          <p:nvPr/>
        </p:nvPicPr>
        <p:blipFill>
          <a:blip r:embed="rId1"/>
          <a:stretch/>
        </p:blipFill>
        <p:spPr>
          <a:xfrm>
            <a:off x="457200" y="1908000"/>
            <a:ext cx="822960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amanova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polarizovatel"/>
          <p:cNvPicPr/>
          <p:nvPr/>
        </p:nvPicPr>
        <p:blipFill>
          <a:blip r:embed="rId1"/>
          <a:stretch/>
        </p:blipFill>
        <p:spPr>
          <a:xfrm>
            <a:off x="2195640" y="3284640"/>
            <a:ext cx="4762440" cy="22762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8"/>
          <p:cNvSpPr/>
          <p:nvPr/>
        </p:nvSpPr>
        <p:spPr>
          <a:xfrm>
            <a:off x="1533240" y="1576440"/>
            <a:ext cx="5962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larizovatelnost molekuly a vibrační m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ditelnost vibrace v Ramanově spektru vyžaduje změn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larizovatelnos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metrické vibrace 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amanova spektroskop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879480" y="1362240"/>
            <a:ext cx="6932520" cy="27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dukce dipólu P v elektrickém poli 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 =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Ei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– polarizovatel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i = Eo cos(2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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t)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lnočet zá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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s(2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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t)  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vib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br. frekvence moleku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 = E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s(2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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) + E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s(2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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).cos(2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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+ E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o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803160" y="4241880"/>
            <a:ext cx="519156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měr intenzit Stockesových a anti-Stockesových lin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/I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</a:t>
            </a:r>
            <a:r>
              <a:rPr b="0" lang="cs-CZ" sz="18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Times New Roman"/>
              </a:rPr>
              <a:t> –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</a:t>
            </a:r>
            <a:r>
              <a:rPr b="0" lang="cs-CZ" sz="18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v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e 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(-h</a:t>
            </a:r>
            <a:r>
              <a:rPr b="0" lang="cs-CZ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v/k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nti-Stockesovy linie jsou mnohem slab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amanova spektroskop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1080" y="15249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24000" y="2133720"/>
          <a:ext cx="8243640" cy="3652560"/>
        </p:xfrm>
        <a:graphic>
          <a:graphicData uri="http://schemas.openxmlformats.org/drawingml/2006/table">
            <a:tbl>
              <a:tblPr/>
              <a:tblGrid>
                <a:gridCol w="1368360"/>
                <a:gridCol w="3311280"/>
                <a:gridCol w="3564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ra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m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yzikální efek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orpce  </a:t>
                      </a:r>
                      <a:br>
                        <a:rPr sz="1200"/>
                      </a:b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měna diplového momentu  </a:t>
                      </a:r>
                      <a:br>
                        <a:rPr sz="1200"/>
                      </a:b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ilné, iontové vazby jako </a:t>
                      </a:r>
                      <a:br>
                        <a:rPr sz="1200"/>
                      </a:b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-H, N-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ptyl  </a:t>
                      </a:r>
                      <a:br>
                        <a:rPr sz="1200"/>
                      </a:b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měna polarizovatelnosti  </a:t>
                      </a:r>
                      <a:br>
                        <a:rPr sz="1200"/>
                      </a:b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ilné: kovalentní vazby </a:t>
                      </a:r>
                      <a:br>
                        <a:rPr sz="1200"/>
                      </a:b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ko C=C, C-S, </a:t>
                      </a:r>
                      <a:r>
                        <a:rPr b="0" lang="cs-CZ" sz="1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S-S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íprava vzork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mální tloušťka (transmission mode) kontakt vzorku nutn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z kontaktu, destrukce jednoducháý příprava  </a:t>
                      </a:r>
                      <a:br>
                        <a:rPr sz="1200"/>
                      </a:b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da nebo sklo neruší měře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mplik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ná absorpce skla, vody, CO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oresce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riá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jména organické látk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meze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kvenční rozsa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 - 700 cm</a:t>
                      </a:r>
                      <a:r>
                        <a:rPr b="0" lang="cs-CZ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 - 50 cm</a:t>
                      </a:r>
                      <a:r>
                        <a:rPr b="0" lang="cs-CZ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Stokes and Antistok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Rectangle 159"/>
          <p:cNvSpPr/>
          <p:nvPr/>
        </p:nvSpPr>
        <p:spPr>
          <a:xfrm>
            <a:off x="0" y="5073120"/>
            <a:ext cx="259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amanova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608400" y="1576440"/>
            <a:ext cx="7166880" cy="29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ezonanční Ramanova spektroskop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lektronové a vibrační přechody – excitace světlem E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 = E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ex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E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ětla je kratší než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odpovídajícího el. přecho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chromoforu 550 nm,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větla 500 - 400 nm, laditelný las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zonanční Ramanův efekt – zesílení určitých liní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ěžná Ramanova spektroskop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xcitace světlem E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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 = E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ex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E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př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romoforu 220 nm,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větla 488 n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R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812880" y="2008080"/>
            <a:ext cx="7032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 atomů = 3N stupňů vol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brační modus: molekulární pohyb, ve kterém atomy vibrují ve fáz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 stejnou frekven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ineární molekuly: 3N -5 m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lineární molekuly 3N – 6 m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raman_frekv"/>
          <p:cNvPicPr/>
          <p:nvPr/>
        </p:nvPicPr>
        <p:blipFill>
          <a:blip r:embed="rId1"/>
          <a:stretch/>
        </p:blipFill>
        <p:spPr>
          <a:xfrm>
            <a:off x="2195640" y="404640"/>
            <a:ext cx="46638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amanova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cyt_c-Raman"/>
          <p:cNvPicPr/>
          <p:nvPr/>
        </p:nvPicPr>
        <p:blipFill>
          <a:blip r:embed="rId1"/>
          <a:stretch/>
        </p:blipFill>
        <p:spPr>
          <a:xfrm>
            <a:off x="1476360" y="1268280"/>
            <a:ext cx="5616720" cy="33642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592200" y="4840200"/>
            <a:ext cx="815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esonanční Ramanova spektra cyt c: 1340 – 1550 cm-1: oxidační a vazebný stav hemového Fe. 1375 a 1504 cm-1 – oxidovaný stav, bis-His hemu (6cLS konfigurace). Redukovaný stav: 1353 – 1468 cm-1 (5cHS konfigura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manova spektrosko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cytb-CO-Raman"/>
          <p:cNvPicPr/>
          <p:nvPr/>
        </p:nvPicPr>
        <p:blipFill>
          <a:blip r:embed="rId1"/>
          <a:stretch/>
        </p:blipFill>
        <p:spPr>
          <a:xfrm>
            <a:off x="2627280" y="1700280"/>
            <a:ext cx="3589200" cy="35067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954360" y="5392800"/>
            <a:ext cx="384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azba izotopů CO na cytochrom b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manova spektrosko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mutant-schema"/>
          <p:cNvPicPr/>
          <p:nvPr/>
        </p:nvPicPr>
        <p:blipFill>
          <a:blip r:embed="rId1"/>
          <a:stretch/>
        </p:blipFill>
        <p:spPr>
          <a:xfrm>
            <a:off x="395280" y="1341360"/>
            <a:ext cx="2448000" cy="2344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CD-mutant"/>
          <p:cNvPicPr/>
          <p:nvPr/>
        </p:nvPicPr>
        <p:blipFill>
          <a:blip r:embed="rId2"/>
          <a:stretch/>
        </p:blipFill>
        <p:spPr>
          <a:xfrm>
            <a:off x="3419640" y="1341360"/>
            <a:ext cx="2197080" cy="2185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raM"/>
          <p:cNvPicPr/>
          <p:nvPr/>
        </p:nvPicPr>
        <p:blipFill>
          <a:blip r:embed="rId3"/>
          <a:stretch/>
        </p:blipFill>
        <p:spPr>
          <a:xfrm>
            <a:off x="6300720" y="1341360"/>
            <a:ext cx="1979640" cy="25923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1"/>
          <p:cNvSpPr/>
          <p:nvPr/>
        </p:nvSpPr>
        <p:spPr>
          <a:xfrm>
            <a:off x="1258920" y="4221000"/>
            <a:ext cx="573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nalýza mutantů Leu88A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kticky totožná CD spek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R: 1482, 1565 – 6 koordinační Fe, s vysokým spin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505, 1582 – 6 koordinační, nízký sp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voký kmen a mutant prakticky totož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manova spektrosko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PL1"/>
          <p:cNvPicPr/>
          <p:nvPr/>
        </p:nvPicPr>
        <p:blipFill>
          <a:blip r:embed="rId1"/>
          <a:stretch/>
        </p:blipFill>
        <p:spPr>
          <a:xfrm>
            <a:off x="684360" y="1700280"/>
            <a:ext cx="2797200" cy="29509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7"/>
          <p:cNvSpPr/>
          <p:nvPr/>
        </p:nvSpPr>
        <p:spPr>
          <a:xfrm>
            <a:off x="3855240" y="2565360"/>
            <a:ext cx="35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ktrum deuterovaného  DP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1743120" y="1336680"/>
            <a:ext cx="86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s CD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 flipH="1">
            <a:off x="1834920" y="1628640"/>
            <a:ext cx="215640" cy="5050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377280" y="1839960"/>
            <a:ext cx="71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CD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1"/>
          <p:cNvSpPr/>
          <p:nvPr/>
        </p:nvSpPr>
        <p:spPr>
          <a:xfrm>
            <a:off x="900000" y="2133720"/>
            <a:ext cx="719280" cy="7189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2609280" y="1913040"/>
            <a:ext cx="71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CD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3"/>
          <p:cNvSpPr/>
          <p:nvPr/>
        </p:nvSpPr>
        <p:spPr>
          <a:xfrm flipH="1">
            <a:off x="2268360" y="2205000"/>
            <a:ext cx="432000" cy="12240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4"/>
          <p:cNvSpPr/>
          <p:nvPr/>
        </p:nvSpPr>
        <p:spPr>
          <a:xfrm>
            <a:off x="2771640" y="2276640"/>
            <a:ext cx="216000" cy="122364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2752200" y="1336680"/>
            <a:ext cx="71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CD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6"/>
          <p:cNvSpPr/>
          <p:nvPr/>
        </p:nvSpPr>
        <p:spPr>
          <a:xfrm flipH="1">
            <a:off x="2700360" y="1557360"/>
            <a:ext cx="216000" cy="12240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R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24880" y="1792440"/>
            <a:ext cx="7665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mínka viditelnosti absorpce v IR spektru – vibrace musí být prováz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měnou dipólového momen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např. asymetrické vibr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Elmg. záření je oscilující dipolový mo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dipol"/>
          <p:cNvPicPr/>
          <p:nvPr/>
        </p:nvPicPr>
        <p:blipFill>
          <a:blip r:embed="rId1"/>
          <a:stretch/>
        </p:blipFill>
        <p:spPr>
          <a:xfrm>
            <a:off x="1709640" y="3538440"/>
            <a:ext cx="57247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R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484280" y="1197000"/>
            <a:ext cx="5546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 = h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lnočet  =  c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lízká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0.78 - 2.5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2800 – 4000 c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třední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.5 – 50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4000 – 200 c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zdálená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50 -1000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200 – 10 c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X – H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3600 – 2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X=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2700 – 1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X=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900 – 1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X-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500 -  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239840" y="5102280"/>
            <a:ext cx="521496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ba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1/2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k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</a:rPr>
              <a:t>A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</a:rPr>
              <a:t>A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de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</a:rPr>
              <a:t>A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M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(M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+ M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e k je silová konstanta, MA, MB hmotnosti atomů,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lnoč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7"/>
          <p:cNvSpPr/>
          <p:nvPr/>
        </p:nvSpPr>
        <p:spPr>
          <a:xfrm>
            <a:off x="6877080" y="486900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8"/>
          <p:cNvSpPr/>
          <p:nvPr/>
        </p:nvSpPr>
        <p:spPr>
          <a:xfrm>
            <a:off x="7812000" y="4941720"/>
            <a:ext cx="289080" cy="28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>
            <a:off x="7093080" y="5013360"/>
            <a:ext cx="7189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6857640" y="460224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7886520" y="46530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R spektroskop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6926400" cy="28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R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810360" y="1792440"/>
            <a:ext cx="22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ypické IR spek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typspektra"/>
          <p:cNvPicPr/>
          <p:nvPr/>
        </p:nvPicPr>
        <p:blipFill>
          <a:blip r:embed="rId1"/>
          <a:stretch/>
        </p:blipFill>
        <p:spPr>
          <a:xfrm>
            <a:off x="1403280" y="2637000"/>
            <a:ext cx="684072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9"/>
          <p:cNvSpPr/>
          <p:nvPr/>
        </p:nvSpPr>
        <p:spPr>
          <a:xfrm>
            <a:off x="471960" y="478440"/>
            <a:ext cx="40122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říklady vibrací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H (alkohol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300-3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H2(amin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200-3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H (thioly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500-2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OH (voda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550-16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iopolym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H (cystein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600-2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H2 (amidy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200-3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=O (Asp, Glu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710-17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O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410-15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-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6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H3+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6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ádro (Tyr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5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H (Trp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-PO (fosfát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ádro (nukl. báze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520-15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,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H (pep. vazba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620-16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N,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500-15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5148360" y="1844640"/>
            <a:ext cx="360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lohy abs. pásu podle typu vaz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 -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600 – 2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=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700 – 1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=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900 – 1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-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500 -  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R spektroskop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603000" y="1216080"/>
            <a:ext cx="316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IR spektra protei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mid I  - 1655 c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-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mid II – 1550 c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H 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23080" y="2944800"/>
            <a:ext cx="535788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vislost spektra peptidové vazby na typu struk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mid I (D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helix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651 -16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struktur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620 -16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670 -16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640 -164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R spektroskop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fourrier"/>
          <p:cNvPicPr/>
          <p:nvPr/>
        </p:nvPicPr>
        <p:blipFill>
          <a:blip r:embed="rId1"/>
          <a:stretch/>
        </p:blipFill>
        <p:spPr>
          <a:xfrm>
            <a:off x="539640" y="1916280"/>
            <a:ext cx="4038840" cy="618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IRschema"/>
          <p:cNvPicPr/>
          <p:nvPr/>
        </p:nvPicPr>
        <p:blipFill>
          <a:blip r:embed="rId2"/>
          <a:stretch/>
        </p:blipFill>
        <p:spPr>
          <a:xfrm>
            <a:off x="5148360" y="2997360"/>
            <a:ext cx="2909880" cy="29527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737280" y="121608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T-IR spektroskop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1" descr="michelson"/>
          <p:cNvPicPr/>
          <p:nvPr/>
        </p:nvPicPr>
        <p:blipFill>
          <a:blip r:embed="rId3"/>
          <a:stretch/>
        </p:blipFill>
        <p:spPr>
          <a:xfrm>
            <a:off x="755640" y="3284640"/>
            <a:ext cx="338472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9:04:21Z</dcterms:created>
  <dc:creator>Mikeš</dc:creator>
  <dc:description/>
  <dc:language>en-US</dc:language>
  <cp:lastModifiedBy>Zbořil</cp:lastModifiedBy>
  <dcterms:modified xsi:type="dcterms:W3CDTF">2011-03-21T07:56:10Z</dcterms:modified>
  <cp:revision>32</cp:revision>
  <dc:subject/>
  <dc:title>IR spektroskopie</dc:title>
</cp:coreProperties>
</file>