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07D-6296-4E91-80B5-824008D0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544-8D4A-4EDD-A9B6-567B0AE7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294-BC76-4E75-AEB3-FE77FF8C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488-2674-4155-A21C-D05FBAE4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361-4FF4-41C0-92C8-E05AACC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00B-3AF2-469F-B79C-6722C137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59D-31F3-4B67-9821-460352E5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62A-78D7-4B8F-9E38-8260F2C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EE4-12E2-43F2-817D-1E61ACF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097-AE83-4F42-A4A5-B0F26FD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46F-6879-4272-9474-69642D9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D30-AF59-49A1-B6EC-950CFA29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4CD-11F4-421E-B59C-BA678D2C18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s.tugraz.at/felmi/HP3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vibr"/>
          <p:cNvPicPr/>
          <p:nvPr/>
        </p:nvPicPr>
        <p:blipFill>
          <a:blip r:embed="rId1"/>
          <a:stretch/>
        </p:blipFill>
        <p:spPr>
          <a:xfrm>
            <a:off x="971640" y="2637000"/>
            <a:ext cx="2162160" cy="1476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03520" y="15778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vibračních a rotačních přech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vibr2"/>
          <p:cNvPicPr/>
          <p:nvPr/>
        </p:nvPicPr>
        <p:blipFill>
          <a:blip r:embed="rId2"/>
          <a:stretch/>
        </p:blipFill>
        <p:spPr>
          <a:xfrm>
            <a:off x="4356000" y="2708280"/>
            <a:ext cx="403884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954360" y="45291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len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43440" y="45291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orma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02000" y="4954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634000" y="4883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87040" y="1289160"/>
            <a:ext cx="2975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T-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F2,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, 60 mg/ml, 1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Rprot"/>
          <p:cNvPicPr/>
          <p:nvPr/>
        </p:nvPicPr>
        <p:blipFill>
          <a:blip r:embed="rId1"/>
          <a:stretch/>
        </p:blipFill>
        <p:spPr>
          <a:xfrm>
            <a:off x="755640" y="2136600"/>
            <a:ext cx="7488360" cy="354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610000" y="2467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68560" y="294624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uvodRAM"/>
          <p:cNvPicPr/>
          <p:nvPr/>
        </p:nvPicPr>
        <p:blipFill>
          <a:blip r:embed="rId1"/>
          <a:stretch/>
        </p:blipFill>
        <p:spPr>
          <a:xfrm>
            <a:off x="1619280" y="2276640"/>
            <a:ext cx="5105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principRam"/>
          <p:cNvPicPr/>
          <p:nvPr/>
        </p:nvPicPr>
        <p:blipFill>
          <a:blip r:embed="rId1"/>
          <a:stretch/>
        </p:blipFill>
        <p:spPr>
          <a:xfrm>
            <a:off x="2771640" y="1125360"/>
            <a:ext cx="39308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627280" y="1557360"/>
            <a:ext cx="24494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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45920" y="3805200"/>
            <a:ext cx="333252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555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8 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6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8 000 – 1 600 = 16 4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61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01200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01200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6227640" y="1916280"/>
            <a:ext cx="720720" cy="2376360"/>
          </a:xfrm>
          <a:custGeom>
            <a:avLst/>
            <a:gdLst/>
            <a:ahLst/>
            <a:rect l="l" t="t" r="r" b="b"/>
            <a:pathLst>
              <a:path w="454" h="1543">
                <a:moveTo>
                  <a:pt x="0" y="1407"/>
                </a:moveTo>
                <a:cubicBezTo>
                  <a:pt x="72" y="1399"/>
                  <a:pt x="144" y="1391"/>
                  <a:pt x="182" y="1361"/>
                </a:cubicBezTo>
                <a:cubicBezTo>
                  <a:pt x="220" y="1331"/>
                  <a:pt x="212" y="1225"/>
                  <a:pt x="227" y="1225"/>
                </a:cubicBezTo>
                <a:cubicBezTo>
                  <a:pt x="242" y="1225"/>
                  <a:pt x="242" y="1346"/>
                  <a:pt x="272" y="1361"/>
                </a:cubicBezTo>
                <a:cubicBezTo>
                  <a:pt x="302" y="1376"/>
                  <a:pt x="379" y="1543"/>
                  <a:pt x="409" y="1316"/>
                </a:cubicBezTo>
                <a:cubicBezTo>
                  <a:pt x="439" y="1089"/>
                  <a:pt x="447" y="219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300720" y="42400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–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7451640" y="1989000"/>
            <a:ext cx="649440" cy="2352960"/>
          </a:xfrm>
          <a:custGeom>
            <a:avLst/>
            <a:gdLst/>
            <a:ahLst/>
            <a:rect l="l" t="t" r="r" b="b"/>
            <a:pathLst>
              <a:path w="409" h="1482">
                <a:moveTo>
                  <a:pt x="0" y="0"/>
                </a:moveTo>
                <a:cubicBezTo>
                  <a:pt x="26" y="529"/>
                  <a:pt x="53" y="1058"/>
                  <a:pt x="91" y="1270"/>
                </a:cubicBezTo>
                <a:cubicBezTo>
                  <a:pt x="129" y="1482"/>
                  <a:pt x="189" y="1255"/>
                  <a:pt x="227" y="1270"/>
                </a:cubicBezTo>
                <a:cubicBezTo>
                  <a:pt x="265" y="1285"/>
                  <a:pt x="288" y="1346"/>
                  <a:pt x="318" y="1361"/>
                </a:cubicBezTo>
                <a:cubicBezTo>
                  <a:pt x="348" y="1376"/>
                  <a:pt x="378" y="1368"/>
                  <a:pt x="409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788160" y="13604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34760" y="3282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594200" y="35002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ti-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mancom"/>
          <p:cNvPicPr/>
          <p:nvPr/>
        </p:nvPicPr>
        <p:blipFill>
          <a:blip r:embed="rId1"/>
          <a:stretch/>
        </p:blipFill>
        <p:spPr>
          <a:xfrm>
            <a:off x="611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59080" y="1792440"/>
            <a:ext cx="185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 la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-Ne – 633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88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amanEqu"/>
          <p:cNvPicPr/>
          <p:nvPr/>
        </p:nvPicPr>
        <p:blipFill>
          <a:blip r:embed="rId1"/>
          <a:stretch/>
        </p:blipFill>
        <p:spPr>
          <a:xfrm>
            <a:off x="457200" y="1908000"/>
            <a:ext cx="82296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olarizovatel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227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33240" y="1576440"/>
            <a:ext cx="59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arizovatelnost molekuly a vibrační m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ost vibrace v Ramanově spektru vyžaduje změ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arizovatel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etrické vibrace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9480" y="1362240"/>
            <a:ext cx="693252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ukce dipólu P v elektrickém poli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polar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 = Eo 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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 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. frekvence molek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 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.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03160" y="4241880"/>
            <a:ext cx="5191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měr intenzit Stockesových a anti-Stockesových lin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(-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v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-Stockesovy linie jsou mnohem slab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80" y="152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133720"/>
          <a:ext cx="8243640" cy="3652560"/>
        </p:xfrm>
        <a:graphic>
          <a:graphicData uri="http://schemas.openxmlformats.org/drawingml/2006/table">
            <a:tbl>
              <a:tblPr/>
              <a:tblGrid>
                <a:gridCol w="1368360"/>
                <a:gridCol w="3311280"/>
                <a:gridCol w="356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zikální efe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ce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diplového momentu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, iontové vazby jako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-H, N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tyl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polarizovatelnosti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: kovalentní vazby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C=C, C-S,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-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a vzor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ní tloušťka (transmission mode) kontakt vzorku nut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kontaktu, destrukce jednoducháý příprava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a nebo sklo neruší měř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á absorpce skla, vody, CO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á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jména organické lát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venční rozs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70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5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tokes and Antistok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59"/>
          <p:cNvSpPr/>
          <p:nvPr/>
        </p:nvSpPr>
        <p:spPr>
          <a:xfrm>
            <a:off x="0" y="50731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8400" y="1576440"/>
            <a:ext cx="716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zonanční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ové a vibrační přechody – 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la je kratší než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ajícího el. pře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chromoforu 55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500 - 400 nm, laditelný la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Ramanův efekt – zesílení určitých liní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omoforu 22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488 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12880" y="2008080"/>
            <a:ext cx="703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atomů = 3N stupňů vo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ační modus: molekulární pohyb, ve kterém atomy vibrují ve f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tejnou frekv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molekuly: 3N -5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ární molekuly 3N – 6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raman_frekv"/>
          <p:cNvPicPr/>
          <p:nvPr/>
        </p:nvPicPr>
        <p:blipFill>
          <a:blip r:embed="rId1"/>
          <a:stretch/>
        </p:blipFill>
        <p:spPr>
          <a:xfrm>
            <a:off x="2195640" y="404640"/>
            <a:ext cx="466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yt_c-Raman"/>
          <p:cNvPicPr/>
          <p:nvPr/>
        </p:nvPicPr>
        <p:blipFill>
          <a:blip r:embed="rId1"/>
          <a:stretch/>
        </p:blipFill>
        <p:spPr>
          <a:xfrm>
            <a:off x="1476360" y="1268280"/>
            <a:ext cx="561672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92200" y="4840200"/>
            <a:ext cx="815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sonanční Ramanova spektra cyt c: 1340 – 1550 cm-1: oxidační a vazebný stav hemového Fe. 1375 a 1504 cm-1 – oxidovaný stav, bis-His hemu (6cLS konfigurace). Redukovaný stav: 1353 – 1468 cm-1 (5cHS konfigur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ytb-CO-Raman"/>
          <p:cNvPicPr/>
          <p:nvPr/>
        </p:nvPicPr>
        <p:blipFill>
          <a:blip r:embed="rId1"/>
          <a:stretch/>
        </p:blipFill>
        <p:spPr>
          <a:xfrm>
            <a:off x="2627280" y="1700280"/>
            <a:ext cx="35892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954360" y="5392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izotopů CO na cytochrom b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utant-schema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D-mutant"/>
          <p:cNvPicPr/>
          <p:nvPr/>
        </p:nvPicPr>
        <p:blipFill>
          <a:blip r:embed="rId2"/>
          <a:stretch/>
        </p:blipFill>
        <p:spPr>
          <a:xfrm>
            <a:off x="3419640" y="1341360"/>
            <a:ext cx="21970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raM"/>
          <p:cNvPicPr/>
          <p:nvPr/>
        </p:nvPicPr>
        <p:blipFill>
          <a:blip r:embed="rId3"/>
          <a:stretch/>
        </p:blipFill>
        <p:spPr>
          <a:xfrm>
            <a:off x="6300720" y="1341360"/>
            <a:ext cx="19796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258920" y="4221000"/>
            <a:ext cx="573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a mutantů Leu88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y totožná CD spek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R: 1482, 1565 – 6 koordinační Fe, s vysokým sp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5, 1582 – 6 koordinační, nízký sp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oký kmen a mutant prakticky tot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L1"/>
          <p:cNvPicPr/>
          <p:nvPr/>
        </p:nvPicPr>
        <p:blipFill>
          <a:blip r:embed="rId1"/>
          <a:stretch/>
        </p:blipFill>
        <p:spPr>
          <a:xfrm>
            <a:off x="684360" y="1700280"/>
            <a:ext cx="2797200" cy="2950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55240" y="256536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deuterovaného  D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43120" y="1336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s 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1834920" y="1628640"/>
            <a:ext cx="215640" cy="50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7280" y="183996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900000" y="2133720"/>
            <a:ext cx="719280" cy="718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09280" y="191304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2268360" y="2205000"/>
            <a:ext cx="432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771640" y="2276640"/>
            <a:ext cx="216000" cy="1223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752200" y="133668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2700360" y="1557360"/>
            <a:ext cx="216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4880" y="1792440"/>
            <a:ext cx="766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a viditelnosti absorpce v IR spektru – vibrace musí být prováz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ou dipólového mo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asymetrické vib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Elmg. záření je oscilující dipolový mo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dipol"/>
          <p:cNvPicPr/>
          <p:nvPr/>
        </p:nvPicPr>
        <p:blipFill>
          <a:blip r:embed="rId1"/>
          <a:stretch/>
        </p:blipFill>
        <p:spPr>
          <a:xfrm>
            <a:off x="1709640" y="3538440"/>
            <a:ext cx="572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84280" y="1197000"/>
            <a:ext cx="55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 = 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lízká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78 - 2.5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2800 – 4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řední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.5 – 50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000 – 200 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á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 -100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 – 1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 –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39840" y="5102280"/>
            <a:ext cx="5214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b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(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k je silová konstanta, MA, MB hmotnosti atomů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877080" y="4869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7812000" y="494172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093080" y="5013360"/>
            <a:ext cx="718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57640" y="4602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6520" y="4653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2640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10360" y="17924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é IR spek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typspektra"/>
          <p:cNvPicPr/>
          <p:nvPr/>
        </p:nvPicPr>
        <p:blipFill>
          <a:blip r:embed="rId1"/>
          <a:stretch/>
        </p:blipFill>
        <p:spPr>
          <a:xfrm>
            <a:off x="1403280" y="2637000"/>
            <a:ext cx="6840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471960" y="478440"/>
            <a:ext cx="401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říklady vibra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H (alkoho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300-3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(am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thiol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500-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H (vod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50-1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polym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cyste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600-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 (amid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=O (Asp, Gl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710-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1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-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3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Tyr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Trp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-PO (fosfá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nukl. báz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2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pep. vazb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0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00-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48360" y="18446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hy abs. pásu podle typu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-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3000" y="1216080"/>
            <a:ext cx="31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 - 1655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I – 155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H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3080" y="2944800"/>
            <a:ext cx="5357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spektra peptidové vazby na typu 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(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51 -1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ruk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0 -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70 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40 -16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ourrier"/>
          <p:cNvPicPr/>
          <p:nvPr/>
        </p:nvPicPr>
        <p:blipFill>
          <a:blip r:embed="rId1"/>
          <a:stretch/>
        </p:blipFill>
        <p:spPr>
          <a:xfrm>
            <a:off x="539640" y="1916280"/>
            <a:ext cx="4038840" cy="61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Rschema"/>
          <p:cNvPicPr/>
          <p:nvPr/>
        </p:nvPicPr>
        <p:blipFill>
          <a:blip r:embed="rId2"/>
          <a:stretch/>
        </p:blipFill>
        <p:spPr>
          <a:xfrm>
            <a:off x="5148360" y="2997360"/>
            <a:ext cx="290988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37280" y="12160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T-IR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michelson"/>
          <p:cNvPicPr/>
          <p:nvPr/>
        </p:nvPicPr>
        <p:blipFill>
          <a:blip r:embed="rId3"/>
          <a:stretch/>
        </p:blipFill>
        <p:spPr>
          <a:xfrm>
            <a:off x="755640" y="3284640"/>
            <a:ext cx="3384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04:21Z</dcterms:created>
  <dc:creator>Mikeš</dc:creator>
  <dc:description/>
  <dc:language>en-US</dc:language>
  <cp:lastModifiedBy>Zbořil</cp:lastModifiedBy>
  <dcterms:modified xsi:type="dcterms:W3CDTF">2011-03-21T07:56:10Z</dcterms:modified>
  <cp:revision>32</cp:revision>
  <dc:subject/>
  <dc:title>IR spektroskopie</dc:title>
</cp:coreProperties>
</file>