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C94C-13D5-4BB3-974E-9923801C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37A-891D-4131-9852-F8D8C595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6D0-BC9E-41DD-A8D6-5AC6595E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83BA-FA4A-4415-9432-38C669A6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F92-F203-488E-A654-677A72E5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B9F-BA6F-44C1-8A41-10EAC974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717-F7B4-408C-8757-E5D9C57E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CEC-71CE-4D61-9D7B-909B2B0E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37E-F95C-49BF-BD9B-575EE2BD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ACB-EE7B-4D37-8206-FA90D272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5359-6AE2-4F55-A717-F81BB35D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770-5479-4CBA-9E8F-21DC04E2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F61A-709C-4710-AF14-F9F38A8C4CB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is.tugraz.at/felmi/HP3.html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vibr"/>
          <p:cNvPicPr/>
          <p:nvPr/>
        </p:nvPicPr>
        <p:blipFill>
          <a:blip r:embed="rId1"/>
          <a:stretch/>
        </p:blipFill>
        <p:spPr>
          <a:xfrm>
            <a:off x="971640" y="2637000"/>
            <a:ext cx="2162160" cy="1476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803520" y="1577880"/>
            <a:ext cx="39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citace vibračních a rotačních přech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vibr2"/>
          <p:cNvPicPr/>
          <p:nvPr/>
        </p:nvPicPr>
        <p:blipFill>
          <a:blip r:embed="rId2"/>
          <a:stretch/>
        </p:blipFill>
        <p:spPr>
          <a:xfrm>
            <a:off x="4356000" y="2708280"/>
            <a:ext cx="403884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954360" y="452916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lenční vi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843440" y="45291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formační vi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1602000" y="49546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5634000" y="488304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6348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887040" y="1289160"/>
            <a:ext cx="29757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T-IR spektra protei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aF2, 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, 60 mg/ml, 10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IRprot"/>
          <p:cNvPicPr/>
          <p:nvPr/>
        </p:nvPicPr>
        <p:blipFill>
          <a:blip r:embed="rId1"/>
          <a:stretch/>
        </p:blipFill>
        <p:spPr>
          <a:xfrm>
            <a:off x="755640" y="2136600"/>
            <a:ext cx="7488360" cy="3548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2610000" y="246708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2968560" y="2946240"/>
            <a:ext cx="3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uvodRAM"/>
          <p:cNvPicPr/>
          <p:nvPr/>
        </p:nvPicPr>
        <p:blipFill>
          <a:blip r:embed="rId1"/>
          <a:stretch/>
        </p:blipFill>
        <p:spPr>
          <a:xfrm>
            <a:off x="1619280" y="2276640"/>
            <a:ext cx="51055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principRam"/>
          <p:cNvPicPr/>
          <p:nvPr/>
        </p:nvPicPr>
        <p:blipFill>
          <a:blip r:embed="rId1"/>
          <a:stretch/>
        </p:blipFill>
        <p:spPr>
          <a:xfrm>
            <a:off x="2771640" y="1125360"/>
            <a:ext cx="39308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627280" y="1557360"/>
            <a:ext cx="244944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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i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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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–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i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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v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545920" y="3805200"/>
            <a:ext cx="333252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555 n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18 00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kud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vi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160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18 000 – 1 600 = 16 40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61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012000" y="191628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012000" y="4149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0"/>
          <p:cNvSpPr/>
          <p:nvPr/>
        </p:nvSpPr>
        <p:spPr>
          <a:xfrm>
            <a:off x="6227640" y="1916280"/>
            <a:ext cx="720720" cy="2376360"/>
          </a:xfrm>
          <a:custGeom>
            <a:avLst/>
            <a:gdLst/>
            <a:ahLst/>
            <a:rect l="l" t="t" r="r" b="b"/>
            <a:pathLst>
              <a:path w="454" h="1543">
                <a:moveTo>
                  <a:pt x="0" y="1407"/>
                </a:moveTo>
                <a:cubicBezTo>
                  <a:pt x="72" y="1399"/>
                  <a:pt x="144" y="1391"/>
                  <a:pt x="182" y="1361"/>
                </a:cubicBezTo>
                <a:cubicBezTo>
                  <a:pt x="220" y="1331"/>
                  <a:pt x="212" y="1225"/>
                  <a:pt x="227" y="1225"/>
                </a:cubicBezTo>
                <a:cubicBezTo>
                  <a:pt x="242" y="1225"/>
                  <a:pt x="242" y="1346"/>
                  <a:pt x="272" y="1361"/>
                </a:cubicBezTo>
                <a:cubicBezTo>
                  <a:pt x="302" y="1376"/>
                  <a:pt x="379" y="1543"/>
                  <a:pt x="409" y="1316"/>
                </a:cubicBezTo>
                <a:cubicBezTo>
                  <a:pt x="439" y="1089"/>
                  <a:pt x="447" y="219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6300720" y="424008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 –</a:t>
            </a:r>
            <a:r>
              <a:rPr b="0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                  </a:t>
            </a:r>
            <a:r>
              <a:rPr b="0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7451640" y="1989000"/>
            <a:ext cx="649440" cy="2352960"/>
          </a:xfrm>
          <a:custGeom>
            <a:avLst/>
            <a:gdLst/>
            <a:ahLst/>
            <a:rect l="l" t="t" r="r" b="b"/>
            <a:pathLst>
              <a:path w="409" h="1482">
                <a:moveTo>
                  <a:pt x="0" y="0"/>
                </a:moveTo>
                <a:cubicBezTo>
                  <a:pt x="26" y="529"/>
                  <a:pt x="53" y="1058"/>
                  <a:pt x="91" y="1270"/>
                </a:cubicBezTo>
                <a:cubicBezTo>
                  <a:pt x="129" y="1482"/>
                  <a:pt x="189" y="1255"/>
                  <a:pt x="227" y="1270"/>
                </a:cubicBezTo>
                <a:cubicBezTo>
                  <a:pt x="265" y="1285"/>
                  <a:pt x="288" y="1346"/>
                  <a:pt x="318" y="1361"/>
                </a:cubicBezTo>
                <a:cubicBezTo>
                  <a:pt x="348" y="1376"/>
                  <a:pt x="378" y="1368"/>
                  <a:pt x="409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788160" y="136044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ayle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6134760" y="328284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oc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7594200" y="350028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nti-Stoc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ramancom"/>
          <p:cNvPicPr/>
          <p:nvPr/>
        </p:nvPicPr>
        <p:blipFill>
          <a:blip r:embed="rId1"/>
          <a:stretch/>
        </p:blipFill>
        <p:spPr>
          <a:xfrm>
            <a:off x="611280" y="14130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6859080" y="1792440"/>
            <a:ext cx="185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e: las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-Ne – 633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88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RamanEqu"/>
          <p:cNvPicPr/>
          <p:nvPr/>
        </p:nvPicPr>
        <p:blipFill>
          <a:blip r:embed="rId1"/>
          <a:stretch/>
        </p:blipFill>
        <p:spPr>
          <a:xfrm>
            <a:off x="457200" y="1908000"/>
            <a:ext cx="82296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polarizovatel"/>
          <p:cNvPicPr/>
          <p:nvPr/>
        </p:nvPicPr>
        <p:blipFill>
          <a:blip r:embed="rId1"/>
          <a:stretch/>
        </p:blipFill>
        <p:spPr>
          <a:xfrm>
            <a:off x="2195640" y="3284640"/>
            <a:ext cx="4762440" cy="2276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1533240" y="1576440"/>
            <a:ext cx="596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arizovatelnost molekuly a vibrační m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itelnost vibrace v Ramanově spektru vyžaduje změ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larizovateln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metrické vibrace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879480" y="1362240"/>
            <a:ext cx="6932520" cy="27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dukce dipólu P v elektrickém poli 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 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E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– polarizovate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i = Eo cos(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)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lnočet zá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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s(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)  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ib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br. frekvence molek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=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s(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) +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s(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).cos(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03160" y="4241880"/>
            <a:ext cx="519156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měr intenzit Stockesových a anti-Stockesových lin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cs-CZ" sz="1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 –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cs-CZ" sz="1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e 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(-h</a:t>
            </a:r>
            <a:r>
              <a:rPr b="0" lang="cs-CZ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v/k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ti-Stockesovy linie jsou mnohem slab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080" y="1524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4000" y="2133720"/>
          <a:ext cx="8243640" cy="3652560"/>
        </p:xfrm>
        <a:graphic>
          <a:graphicData uri="http://schemas.openxmlformats.org/drawingml/2006/table">
            <a:tbl>
              <a:tblPr/>
              <a:tblGrid>
                <a:gridCol w="1368360"/>
                <a:gridCol w="3311280"/>
                <a:gridCol w="3564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yzikální efek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ce 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měna diplového momentu 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ilné, iontové vazby jako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-H, N-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ptyl 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měna polarizovatelnosti 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ilné: kovalentní vazby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ko C=C, C-S, </a:t>
                      </a: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S-S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prava vzork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ální tloušťka (transmission mode) kontakt vzorku nutn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kontaktu, destrukce jednoducháý příprava 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da nebo sklo neruší měře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plik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ná absorpce skla, vody, CO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oresce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á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jména organické látk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mez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kvenční rozs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- 700 cm</a:t>
                      </a:r>
                      <a:r>
                        <a:rPr b="0" lang="cs-CZ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- 50 cm</a:t>
                      </a:r>
                      <a:r>
                        <a:rPr b="0" lang="cs-CZ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Stokes and Antistok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159"/>
          <p:cNvSpPr/>
          <p:nvPr/>
        </p:nvSpPr>
        <p:spPr>
          <a:xfrm>
            <a:off x="0" y="5073120"/>
            <a:ext cx="25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08400" y="1576440"/>
            <a:ext cx="7166880" cy="29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zonanční Ramanova spektrosko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ové a vibrační přechody – excitace světlem E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ex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ětla je kratší než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dpovídajícího el. přech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chromoforu 550 nm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větla 500 - 400 nm, laditelný la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zonanční Ramanův efekt – zesílení určitých liní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ěžná Ramanova spektrosko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citace světlem E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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ex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romoforu 220 nm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větla 488 n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12880" y="2008080"/>
            <a:ext cx="7032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 atomů = 3N stupňů vol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brační modus: molekulární pohyb, ve kterém atomy vibrují ve fáz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stejnou frekven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neární molekuly: 3N -5 m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lineární molekuly 3N – 6 m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raman_frekv"/>
          <p:cNvPicPr/>
          <p:nvPr/>
        </p:nvPicPr>
        <p:blipFill>
          <a:blip r:embed="rId1"/>
          <a:stretch/>
        </p:blipFill>
        <p:spPr>
          <a:xfrm>
            <a:off x="2195640" y="404640"/>
            <a:ext cx="4663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yt_c-Raman"/>
          <p:cNvPicPr/>
          <p:nvPr/>
        </p:nvPicPr>
        <p:blipFill>
          <a:blip r:embed="rId1"/>
          <a:stretch/>
        </p:blipFill>
        <p:spPr>
          <a:xfrm>
            <a:off x="1476360" y="1268280"/>
            <a:ext cx="5616720" cy="3364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592200" y="4840200"/>
            <a:ext cx="815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sonanční Ramanova spektra cyt c: 1340 – 1550 cm-1: oxidační a vazebný stav hemového Fe. 1375 a 1504 cm-1 – oxidovaný stav, bis-His hemu (6cLS konfigurace). Redukovaný stav: 1353 – 1468 cm-1 (5cHS konfigur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cytb-CO-Raman"/>
          <p:cNvPicPr/>
          <p:nvPr/>
        </p:nvPicPr>
        <p:blipFill>
          <a:blip r:embed="rId1"/>
          <a:stretch/>
        </p:blipFill>
        <p:spPr>
          <a:xfrm>
            <a:off x="2627280" y="1700280"/>
            <a:ext cx="3589200" cy="3506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954360" y="5392800"/>
            <a:ext cx="38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izotopů CO na cytochrom b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mutant-schema"/>
          <p:cNvPicPr/>
          <p:nvPr/>
        </p:nvPicPr>
        <p:blipFill>
          <a:blip r:embed="rId1"/>
          <a:stretch/>
        </p:blipFill>
        <p:spPr>
          <a:xfrm>
            <a:off x="395280" y="1341360"/>
            <a:ext cx="2448000" cy="2344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CD-mutant"/>
          <p:cNvPicPr/>
          <p:nvPr/>
        </p:nvPicPr>
        <p:blipFill>
          <a:blip r:embed="rId2"/>
          <a:stretch/>
        </p:blipFill>
        <p:spPr>
          <a:xfrm>
            <a:off x="3419640" y="1341360"/>
            <a:ext cx="219708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raM"/>
          <p:cNvPicPr/>
          <p:nvPr/>
        </p:nvPicPr>
        <p:blipFill>
          <a:blip r:embed="rId3"/>
          <a:stretch/>
        </p:blipFill>
        <p:spPr>
          <a:xfrm>
            <a:off x="6300720" y="1341360"/>
            <a:ext cx="1979640" cy="2592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1258920" y="4221000"/>
            <a:ext cx="573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alýza mutantů Leu88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kticky totožná CD spek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R: 1482, 1565 – 6 koordinační Fe, s vysokým sp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505, 1582 – 6 koordinační, nízký sp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voký kmen a mutant prakticky toto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PL1"/>
          <p:cNvPicPr/>
          <p:nvPr/>
        </p:nvPicPr>
        <p:blipFill>
          <a:blip r:embed="rId1"/>
          <a:stretch/>
        </p:blipFill>
        <p:spPr>
          <a:xfrm>
            <a:off x="684360" y="1700280"/>
            <a:ext cx="2797200" cy="2950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3855240" y="2565360"/>
            <a:ext cx="35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um deuterovaného  DP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43120" y="133668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s C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1834920" y="1628640"/>
            <a:ext cx="215640" cy="5050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77280" y="1839960"/>
            <a:ext cx="7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C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900000" y="2133720"/>
            <a:ext cx="719280" cy="7189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609280" y="1913040"/>
            <a:ext cx="7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C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2268360" y="2205000"/>
            <a:ext cx="432000" cy="1224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2771640" y="2276640"/>
            <a:ext cx="216000" cy="12236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752200" y="1336680"/>
            <a:ext cx="7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C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 flipH="1">
            <a:off x="2700360" y="1557360"/>
            <a:ext cx="216000" cy="1224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4880" y="1792440"/>
            <a:ext cx="766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mínka viditelnosti absorpce v IR spektru – vibrace musí být prováz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měnou dipólového mo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apř. asymetrické vibr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Elmg. záření je oscilující dipolový mo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dipol"/>
          <p:cNvPicPr/>
          <p:nvPr/>
        </p:nvPicPr>
        <p:blipFill>
          <a:blip r:embed="rId1"/>
          <a:stretch/>
        </p:blipFill>
        <p:spPr>
          <a:xfrm>
            <a:off x="1709640" y="3538440"/>
            <a:ext cx="5724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484280" y="1197000"/>
            <a:ext cx="55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 = 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lnočet  = 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lízká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0.78 - 2.5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2800 – 400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třední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.5 – 50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000 – 200 c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dálen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50 -1000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00 – 1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 – 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600 – 2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=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700 – 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=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00 – 1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-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00 -  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239840" y="5102280"/>
            <a:ext cx="521496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b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1/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A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A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de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A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(M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+ M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k je silová konstanta, MA, MB hmotnosti atomů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lnoč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6877080" y="486900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8"/>
          <p:cNvSpPr/>
          <p:nvPr/>
        </p:nvSpPr>
        <p:spPr>
          <a:xfrm>
            <a:off x="7812000" y="4941720"/>
            <a:ext cx="28908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7093080" y="5013360"/>
            <a:ext cx="718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857640" y="46022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7886520" y="46530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6926400" cy="28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810360" y="179244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ické IR spek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typspektra"/>
          <p:cNvPicPr/>
          <p:nvPr/>
        </p:nvPicPr>
        <p:blipFill>
          <a:blip r:embed="rId1"/>
          <a:stretch/>
        </p:blipFill>
        <p:spPr>
          <a:xfrm>
            <a:off x="1403280" y="2637000"/>
            <a:ext cx="684072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9"/>
          <p:cNvSpPr/>
          <p:nvPr/>
        </p:nvSpPr>
        <p:spPr>
          <a:xfrm>
            <a:off x="471960" y="478440"/>
            <a:ext cx="4012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říklady vibrac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H (alkohol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300-3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2(amin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200-3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 (thioly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500-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H (vod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550-16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opolym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 (cystein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600-2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2 (amidy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200-3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=O (Asp, Glu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710-17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O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410-15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-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3+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ádro (Tyr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5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 (Trp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-PO (fosfát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ádro (nukl. báze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520-15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 (pep. vazb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20-16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N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500-1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148360" y="184464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ohy abs. pásu podle typu va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 -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600 – 2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=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700 – 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900 – 1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-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500 -  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03000" y="1216080"/>
            <a:ext cx="316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R spektra protei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id I  - 1655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-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id II – 155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H 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23080" y="2944800"/>
            <a:ext cx="53578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vislost spektra peptidové vazby na typu struk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id I (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heli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51 -16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truktu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20 -16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70 -1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40 -164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fourrier"/>
          <p:cNvPicPr/>
          <p:nvPr/>
        </p:nvPicPr>
        <p:blipFill>
          <a:blip r:embed="rId1"/>
          <a:stretch/>
        </p:blipFill>
        <p:spPr>
          <a:xfrm>
            <a:off x="539640" y="1916280"/>
            <a:ext cx="4038840" cy="618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IRschema"/>
          <p:cNvPicPr/>
          <p:nvPr/>
        </p:nvPicPr>
        <p:blipFill>
          <a:blip r:embed="rId2"/>
          <a:stretch/>
        </p:blipFill>
        <p:spPr>
          <a:xfrm>
            <a:off x="5148360" y="2997360"/>
            <a:ext cx="2909880" cy="2952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737280" y="121608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T-IR spektrosko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michelson"/>
          <p:cNvPicPr/>
          <p:nvPr/>
        </p:nvPicPr>
        <p:blipFill>
          <a:blip r:embed="rId3"/>
          <a:stretch/>
        </p:blipFill>
        <p:spPr>
          <a:xfrm>
            <a:off x="755640" y="3284640"/>
            <a:ext cx="33847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9:04:21Z</dcterms:created>
  <dc:creator>Mikeš</dc:creator>
  <dc:description/>
  <dc:language>en-US</dc:language>
  <cp:lastModifiedBy>Zbořil</cp:lastModifiedBy>
  <dcterms:modified xsi:type="dcterms:W3CDTF">2011-03-21T07:56:10Z</dcterms:modified>
  <cp:revision>32</cp:revision>
  <dc:subject/>
  <dc:title>IR spektroskopie</dc:title>
</cp:coreProperties>
</file>