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2.png" ContentType="image/png"/>
  <Override PartName="/ppt/media/image21.png" ContentType="image/png"/>
  <Override PartName="/ppt/media/image20.png" ContentType="image/png"/>
  <Override PartName="/ppt/media/image23.png" ContentType="image/png"/>
  <Override PartName="/ppt/media/image18.gif" ContentType="image/gi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9.gif" ContentType="image/gif"/>
  <Override PartName="/ppt/media/image4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27.png" ContentType="image/png"/>
  <Override PartName="/ppt/media/image30.png" ContentType="image/png"/>
  <Override PartName="/ppt/media/image28.png" ContentType="image/png"/>
  <Override PartName="/ppt/media/image40.jpeg" ContentType="image/jpeg"/>
  <Override PartName="/ppt/media/image44.jpeg" ContentType="image/jpeg"/>
  <Override PartName="/ppt/media/image29.gif" ContentType="image/gif"/>
  <Override PartName="/ppt/media/image45.jpeg" ContentType="image/jpeg"/>
  <Override PartName="/ppt/media/image9.png" ContentType="image/png"/>
  <Override PartName="/ppt/media/image39.png" ContentType="image/png"/>
  <Override PartName="/ppt/media/image48.wmf" ContentType="image/x-wmf"/>
  <Override PartName="/ppt/media/image50.png" ContentType="image/png"/>
  <Override PartName="/ppt/media/image33.png" ContentType="image/png"/>
  <Override PartName="/ppt/media/image52.jpeg" ContentType="image/jpeg"/>
  <Override PartName="/ppt/media/image46.jpeg" ContentType="image/jpeg"/>
  <Override PartName="/ppt/media/image51.jpeg" ContentType="image/jpeg"/>
  <Override PartName="/ppt/media/image47.jpeg" ContentType="image/jpeg"/>
  <Override PartName="/ppt/media/image34.png" ContentType="image/png"/>
  <Override PartName="/ppt/media/image4.png" ContentType="image/png"/>
  <Override PartName="/ppt/media/image53.jpeg" ContentType="image/jpeg"/>
  <Override PartName="/ppt/media/image13.png" ContentType="image/png"/>
  <Override PartName="/ppt/media/image54.jpeg" ContentType="image/jpeg"/>
  <Override PartName="/ppt/media/image8.png" ContentType="image/png"/>
  <Override PartName="/ppt/media/image3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AE04-A7B9-4E36-9301-7867F35F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9308-D7EE-4F84-8827-0EFBD680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67CB-4B60-4A49-86DD-6094AA6D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B8F7-99BC-42DF-8CD5-43AB1121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0433-9049-44DB-BC42-F5E2DBDA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44D4-A4A9-42FA-9355-97AD38B9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39DB-89AE-4447-96D8-A4E71653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6088-1694-4850-BF76-0F065E31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CFDC-BB85-4073-BFE9-908025B1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2EBC-7139-4002-83F3-9ABA87BA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B45-0B59-4DD7-AA2B-BD642E1E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404C-43B8-4770-B6D7-C6AB47B6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2141-DC15-4D90-9023-FBAAF400A3F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17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is.rit.edu/htbooks/nmr/refs/ref-05.htm" TargetMode="External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cis.rit.edu/htbooks/nmr/refs/ref-05.htm" TargetMode="External"/><Relationship Id="rId2" Type="http://schemas.openxmlformats.org/officeDocument/2006/relationships/hyperlink" Target="http://www.cis.rit.edu/htbooks/nmr/refs/ref-05.htm" TargetMode="External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is.rit.edu/htbooks/nmr/refs/ref-05.htm" TargetMode="External"/><Relationship Id="rId2" Type="http://schemas.openxmlformats.org/officeDocument/2006/relationships/hyperlink" Target="http://www.cis.rit.edu/htbooks/nmr/refs/ref-05.htm" TargetMode="External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ádra vykazující nenulový jaderný spin (závisí na počtu protonů a neutronů) se orientují v externím magnetickém pol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in může nabývat několika orientací v závislosti na své hodnotě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 = 2I + 1, kde I je spinové kvantové číslo o hodnotá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3/2, -1, -1/2. 0, ½, 1, 3/2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NMR-energStavy"/>
          <p:cNvPicPr/>
          <p:nvPr/>
        </p:nvPicPr>
        <p:blipFill>
          <a:blip r:embed="rId1"/>
          <a:stretch/>
        </p:blipFill>
        <p:spPr>
          <a:xfrm>
            <a:off x="2327400" y="3573360"/>
            <a:ext cx="34574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etohnmr"/>
          <p:cNvPicPr/>
          <p:nvPr/>
        </p:nvPicPr>
        <p:blipFill>
          <a:blip r:embed="rId1"/>
          <a:stretch/>
        </p:blipFill>
        <p:spPr>
          <a:xfrm>
            <a:off x="4284720" y="3500280"/>
            <a:ext cx="4038480" cy="2963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coup1"/>
          <p:cNvPicPr/>
          <p:nvPr/>
        </p:nvPicPr>
        <p:blipFill>
          <a:blip r:embed="rId2"/>
          <a:stretch/>
        </p:blipFill>
        <p:spPr>
          <a:xfrm>
            <a:off x="684360" y="2852640"/>
            <a:ext cx="2828880" cy="15336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454680" y="1432080"/>
            <a:ext cx="45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ultiplicita signálu – spin-spinová intera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3" descr="etoh"/>
          <p:cNvPicPr/>
          <p:nvPr/>
        </p:nvPicPr>
        <p:blipFill>
          <a:blip r:embed="rId3"/>
          <a:stretch/>
        </p:blipFill>
        <p:spPr>
          <a:xfrm>
            <a:off x="5867280" y="1989000"/>
            <a:ext cx="1285920" cy="1133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5"/>
          <p:cNvSpPr/>
          <p:nvPr/>
        </p:nvSpPr>
        <p:spPr>
          <a:xfrm>
            <a:off x="810720" y="4816440"/>
            <a:ext cx="189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ultiplicita = n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x + 1)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coup2"/>
          <p:cNvPicPr/>
          <p:nvPr/>
        </p:nvPicPr>
        <p:blipFill>
          <a:blip r:embed="rId1"/>
          <a:stretch/>
        </p:blipFill>
        <p:spPr>
          <a:xfrm>
            <a:off x="755640" y="1628640"/>
            <a:ext cx="3009960" cy="1657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etohnmr"/>
          <p:cNvPicPr/>
          <p:nvPr/>
        </p:nvPicPr>
        <p:blipFill>
          <a:blip r:embed="rId2"/>
          <a:stretch/>
        </p:blipFill>
        <p:spPr>
          <a:xfrm>
            <a:off x="2916360" y="3645000"/>
            <a:ext cx="352728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4"/>
          <p:cNvGrpSpPr/>
          <p:nvPr/>
        </p:nvGrpSpPr>
        <p:grpSpPr>
          <a:xfrm>
            <a:off x="1116000" y="3213000"/>
            <a:ext cx="936720" cy="936360"/>
            <a:chOff x="1116000" y="3213000"/>
            <a:chExt cx="936720" cy="936360"/>
          </a:xfrm>
        </p:grpSpPr>
        <p:sp>
          <p:nvSpPr>
            <p:cNvPr id="89" name="Oval 22"/>
            <p:cNvSpPr/>
            <p:nvPr/>
          </p:nvSpPr>
          <p:spPr>
            <a:xfrm>
              <a:off x="1116000" y="3213000"/>
              <a:ext cx="936720" cy="93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1189080" y="3285720"/>
              <a:ext cx="792000" cy="71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758160" y="141300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strojové vybav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NMRspektroskop"/>
          <p:cNvPicPr/>
          <p:nvPr/>
        </p:nvPicPr>
        <p:blipFill>
          <a:blip r:embed="rId1"/>
          <a:stretch/>
        </p:blipFill>
        <p:spPr>
          <a:xfrm>
            <a:off x="3708360" y="1989000"/>
            <a:ext cx="4390920" cy="378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"/>
          <p:cNvSpPr/>
          <p:nvPr/>
        </p:nvSpPr>
        <p:spPr>
          <a:xfrm>
            <a:off x="539640" y="2997360"/>
            <a:ext cx="57636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124000" y="2997360"/>
            <a:ext cx="57636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476360" y="3141720"/>
            <a:ext cx="71280" cy="1150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133200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4"/>
          <p:cNvSpPr/>
          <p:nvPr/>
        </p:nvSpPr>
        <p:spPr>
          <a:xfrm>
            <a:off x="133200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"/>
          <p:cNvSpPr/>
          <p:nvPr/>
        </p:nvSpPr>
        <p:spPr>
          <a:xfrm>
            <a:off x="133200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>
            <a:off x="1332000" y="37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7"/>
          <p:cNvSpPr/>
          <p:nvPr/>
        </p:nvSpPr>
        <p:spPr>
          <a:xfrm>
            <a:off x="1332000" y="38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8"/>
          <p:cNvSpPr/>
          <p:nvPr/>
        </p:nvSpPr>
        <p:spPr>
          <a:xfrm>
            <a:off x="1332000" y="400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 flipH="1" flipV="1">
            <a:off x="1258560" y="2349360"/>
            <a:ext cx="7308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1"/>
          <p:cNvSpPr/>
          <p:nvPr/>
        </p:nvSpPr>
        <p:spPr>
          <a:xfrm flipV="1">
            <a:off x="1332000" y="2276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5"/>
          <p:cNvSpPr/>
          <p:nvPr/>
        </p:nvSpPr>
        <p:spPr>
          <a:xfrm flipV="1">
            <a:off x="1908000" y="2349000"/>
            <a:ext cx="7164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6"/>
          <p:cNvSpPr/>
          <p:nvPr/>
        </p:nvSpPr>
        <p:spPr>
          <a:xfrm flipV="1">
            <a:off x="1979640" y="2420640"/>
            <a:ext cx="7128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8"/>
          <p:cNvSpPr/>
          <p:nvPr/>
        </p:nvSpPr>
        <p:spPr>
          <a:xfrm>
            <a:off x="1981080" y="20606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1 V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952560" y="19605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magnet"/>
          <p:cNvPicPr/>
          <p:nvPr/>
        </p:nvPicPr>
        <p:blipFill>
          <a:blip r:embed="rId1"/>
          <a:stretch/>
        </p:blipFill>
        <p:spPr>
          <a:xfrm>
            <a:off x="1116000" y="1628640"/>
            <a:ext cx="1333440" cy="2762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magnet1"/>
          <p:cNvPicPr/>
          <p:nvPr/>
        </p:nvPicPr>
        <p:blipFill>
          <a:blip r:embed="rId2"/>
          <a:stretch/>
        </p:blipFill>
        <p:spPr>
          <a:xfrm>
            <a:off x="6372360" y="1844640"/>
            <a:ext cx="2236680" cy="2952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c-mag-2"/>
          <p:cNvPicPr/>
          <p:nvPr/>
        </p:nvPicPr>
        <p:blipFill>
          <a:blip r:embed="rId3"/>
          <a:stretch/>
        </p:blipFill>
        <p:spPr>
          <a:xfrm>
            <a:off x="3419640" y="1557360"/>
            <a:ext cx="2727000" cy="3240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811080" y="496080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pravodivý magnet 7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vzorek1"/>
          <p:cNvPicPr/>
          <p:nvPr/>
        </p:nvPicPr>
        <p:blipFill>
          <a:blip r:embed="rId1"/>
          <a:stretch/>
        </p:blipFill>
        <p:spPr>
          <a:xfrm>
            <a:off x="2050920" y="42210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452880" y="179244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orek – homogenizace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vzorek2"/>
          <p:cNvPicPr/>
          <p:nvPr/>
        </p:nvPicPr>
        <p:blipFill>
          <a:blip r:embed="rId2"/>
          <a:stretch/>
        </p:blipFill>
        <p:spPr>
          <a:xfrm>
            <a:off x="4140360" y="4292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vozrek3c"/>
          <p:cNvPicPr/>
          <p:nvPr/>
        </p:nvPicPr>
        <p:blipFill>
          <a:blip r:embed="rId3"/>
          <a:stretch/>
        </p:blipFill>
        <p:spPr>
          <a:xfrm>
            <a:off x="5724360" y="544500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vozrek3"/>
          <p:cNvPicPr/>
          <p:nvPr/>
        </p:nvPicPr>
        <p:blipFill>
          <a:blip r:embed="rId4"/>
          <a:stretch/>
        </p:blipFill>
        <p:spPr>
          <a:xfrm>
            <a:off x="6156360" y="429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vzorek3a"/>
          <p:cNvPicPr/>
          <p:nvPr/>
        </p:nvPicPr>
        <p:blipFill>
          <a:blip r:embed="rId5"/>
          <a:stretch/>
        </p:blipFill>
        <p:spPr>
          <a:xfrm>
            <a:off x="6156360" y="3141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vozrek1b"/>
          <p:cNvPicPr/>
          <p:nvPr/>
        </p:nvPicPr>
        <p:blipFill>
          <a:blip r:embed="rId6"/>
          <a:stretch/>
        </p:blipFill>
        <p:spPr>
          <a:xfrm>
            <a:off x="1403280" y="537372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vozrek1a"/>
          <p:cNvPicPr/>
          <p:nvPr/>
        </p:nvPicPr>
        <p:blipFill>
          <a:blip r:embed="rId7"/>
          <a:stretch/>
        </p:blipFill>
        <p:spPr>
          <a:xfrm>
            <a:off x="1979640" y="3068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vzorek2b"/>
          <p:cNvPicPr/>
          <p:nvPr/>
        </p:nvPicPr>
        <p:blipFill>
          <a:blip r:embed="rId8"/>
          <a:stretch/>
        </p:blipFill>
        <p:spPr>
          <a:xfrm>
            <a:off x="4140360" y="314172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vzorek2c"/>
          <p:cNvPicPr/>
          <p:nvPr/>
        </p:nvPicPr>
        <p:blipFill>
          <a:blip r:embed="rId9"/>
          <a:stretch/>
        </p:blipFill>
        <p:spPr>
          <a:xfrm>
            <a:off x="3635280" y="5373720"/>
            <a:ext cx="19051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400mhz"/>
          <p:cNvPicPr/>
          <p:nvPr/>
        </p:nvPicPr>
        <p:blipFill>
          <a:blip r:embed="rId1"/>
          <a:stretch/>
        </p:blipFill>
        <p:spPr>
          <a:xfrm>
            <a:off x="611280" y="2492280"/>
            <a:ext cx="3666960" cy="19051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522000" y="19368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olba přístr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100mhz"/>
          <p:cNvPicPr/>
          <p:nvPr/>
        </p:nvPicPr>
        <p:blipFill>
          <a:blip r:embed="rId2"/>
          <a:stretch/>
        </p:blipFill>
        <p:spPr>
          <a:xfrm>
            <a:off x="4716360" y="2565360"/>
            <a:ext cx="3667320" cy="19051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1096560" y="488952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omy: 1,89   2,00   2,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2195640" y="191628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2195640" y="364500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2195640" y="609300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 flipV="1">
            <a:off x="2195640" y="1699920"/>
            <a:ext cx="4248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2195640" y="2852640"/>
            <a:ext cx="42480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2843280" y="2205000"/>
            <a:ext cx="0" cy="936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5"/>
          <p:cNvSpPr/>
          <p:nvPr/>
        </p:nvSpPr>
        <p:spPr>
          <a:xfrm>
            <a:off x="4140360" y="4797360"/>
            <a:ext cx="576000" cy="1355760"/>
          </a:xfrm>
          <a:custGeom>
            <a:avLst/>
            <a:gdLst/>
            <a:ahLst/>
            <a:rect l="l" t="t" r="r" b="b"/>
            <a:pathLst>
              <a:path w="363" h="854">
                <a:moveTo>
                  <a:pt x="0" y="771"/>
                </a:moveTo>
                <a:cubicBezTo>
                  <a:pt x="53" y="812"/>
                  <a:pt x="106" y="854"/>
                  <a:pt x="136" y="726"/>
                </a:cubicBezTo>
                <a:cubicBezTo>
                  <a:pt x="166" y="598"/>
                  <a:pt x="166" y="0"/>
                  <a:pt x="181" y="0"/>
                </a:cubicBezTo>
                <a:cubicBezTo>
                  <a:pt x="196" y="0"/>
                  <a:pt x="197" y="598"/>
                  <a:pt x="227" y="726"/>
                </a:cubicBezTo>
                <a:cubicBezTo>
                  <a:pt x="257" y="854"/>
                  <a:pt x="340" y="764"/>
                  <a:pt x="363" y="7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3691440" y="366552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ické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3783600" y="623736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ické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 rot="16200000">
            <a:off x="879840" y="2370240"/>
            <a:ext cx="18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nergie VF zář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"/>
          <p:cNvSpPr/>
          <p:nvPr/>
        </p:nvSpPr>
        <p:spPr>
          <a:xfrm rot="16200000">
            <a:off x="1292400" y="453636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bsorp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523440" y="1073160"/>
            <a:ext cx="71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oda continuous wave (CW) – konstantní frekvence – mění se B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59259E-006 L 0.38385 2.59259E-006 E">
                                      <p:cBhvr>
                                        <p:cTn id="6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2216160" y="20397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2216160" y="376884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2216160" y="621648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 flipV="1">
            <a:off x="2216160" y="1823760"/>
            <a:ext cx="4248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2216160" y="2976480"/>
            <a:ext cx="42480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4448160" y="2328840"/>
            <a:ext cx="0" cy="936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9"/>
          <p:cNvSpPr/>
          <p:nvPr/>
        </p:nvSpPr>
        <p:spPr>
          <a:xfrm>
            <a:off x="4160880" y="4921200"/>
            <a:ext cx="576360" cy="1355760"/>
          </a:xfrm>
          <a:custGeom>
            <a:avLst/>
            <a:gdLst/>
            <a:ahLst/>
            <a:rect l="l" t="t" r="r" b="b"/>
            <a:pathLst>
              <a:path w="363" h="854">
                <a:moveTo>
                  <a:pt x="0" y="771"/>
                </a:moveTo>
                <a:cubicBezTo>
                  <a:pt x="53" y="812"/>
                  <a:pt x="106" y="854"/>
                  <a:pt x="136" y="726"/>
                </a:cubicBezTo>
                <a:cubicBezTo>
                  <a:pt x="166" y="598"/>
                  <a:pt x="166" y="0"/>
                  <a:pt x="181" y="0"/>
                </a:cubicBezTo>
                <a:cubicBezTo>
                  <a:pt x="196" y="0"/>
                  <a:pt x="197" y="598"/>
                  <a:pt x="227" y="726"/>
                </a:cubicBezTo>
                <a:cubicBezTo>
                  <a:pt x="257" y="854"/>
                  <a:pt x="340" y="764"/>
                  <a:pt x="363" y="7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711960" y="378936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ické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803040" y="63612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 rot="16200000">
            <a:off x="879840" y="2370240"/>
            <a:ext cx="18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nergie VF zář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 rot="16200000">
            <a:off x="1312920" y="466020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bsorp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688680" y="1125360"/>
            <a:ext cx="71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oda continuous wave (CW) – konstantní Bo – mění se frekv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fourrier"/>
          <p:cNvPicPr/>
          <p:nvPr/>
        </p:nvPicPr>
        <p:blipFill>
          <a:blip r:embed="rId1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738360" y="1360440"/>
            <a:ext cx="27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urrierova trans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Fourrier-Puls"/>
          <p:cNvPicPr/>
          <p:nvPr/>
        </p:nvPicPr>
        <p:blipFill>
          <a:blip r:embed="rId2"/>
          <a:stretch/>
        </p:blipFill>
        <p:spPr>
          <a:xfrm>
            <a:off x="5238720" y="290988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965520" y="1865160"/>
            <a:ext cx="4234320" cy="28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pouštědla – Deuterova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cetone 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loroform CDCl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hylnitrile 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ater 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ethylether (DEE) (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methyl Sulfoxide (DMSO) 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thanol 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livé orientace představují energetické stavy, jejichž velikost závisí na velikosti externího magnetického p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35434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signal1"/>
          <p:cNvPicPr/>
          <p:nvPr/>
        </p:nvPicPr>
        <p:blipFill>
          <a:blip r:embed="rId1"/>
          <a:stretch/>
        </p:blipFill>
        <p:spPr>
          <a:xfrm>
            <a:off x="4743360" y="1844640"/>
            <a:ext cx="4000680" cy="1428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signal"/>
          <p:cNvPicPr/>
          <p:nvPr/>
        </p:nvPicPr>
        <p:blipFill>
          <a:blip r:embed="rId2"/>
          <a:stretch/>
        </p:blipFill>
        <p:spPr>
          <a:xfrm>
            <a:off x="4729320" y="4941720"/>
            <a:ext cx="4000320" cy="1428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903240" y="1954080"/>
            <a:ext cx="303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gnal-to noise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ízká a vysoká koncen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sweepen"/>
          <p:cNvPicPr/>
          <p:nvPr/>
        </p:nvPicPr>
        <p:blipFill>
          <a:blip r:embed="rId1"/>
          <a:stretch/>
        </p:blipFill>
        <p:spPr>
          <a:xfrm>
            <a:off x="2978280" y="1844640"/>
            <a:ext cx="2879640" cy="2522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989440" y="1484280"/>
            <a:ext cx="289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emické posu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2N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,5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N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C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-N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,5 – 4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-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,5 – 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-O-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C=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7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CO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COO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0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tolue-dc"/>
          <p:cNvPicPr/>
          <p:nvPr/>
        </p:nvPicPr>
        <p:blipFill>
          <a:blip r:embed="rId1"/>
          <a:stretch/>
        </p:blipFill>
        <p:spPr>
          <a:xfrm>
            <a:off x="0" y="1739880"/>
            <a:ext cx="3333600" cy="1905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et-bz-dc"/>
          <p:cNvPicPr/>
          <p:nvPr/>
        </p:nvPicPr>
        <p:blipFill>
          <a:blip r:embed="rId2"/>
          <a:stretch/>
        </p:blipFill>
        <p:spPr>
          <a:xfrm>
            <a:off x="5810400" y="1739880"/>
            <a:ext cx="3333600" cy="1905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aceto-dc"/>
          <p:cNvPicPr/>
          <p:nvPr/>
        </p:nvPicPr>
        <p:blipFill>
          <a:blip r:embed="rId3"/>
          <a:stretch/>
        </p:blipFill>
        <p:spPr>
          <a:xfrm>
            <a:off x="0" y="4079880"/>
            <a:ext cx="3333600" cy="1905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1proh-dc"/>
          <p:cNvPicPr/>
          <p:nvPr/>
        </p:nvPicPr>
        <p:blipFill>
          <a:blip r:embed="rId4"/>
          <a:stretch/>
        </p:blipFill>
        <p:spPr>
          <a:xfrm>
            <a:off x="5810400" y="4079880"/>
            <a:ext cx="3333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mek-clf"/>
          <p:cNvPicPr/>
          <p:nvPr/>
        </p:nvPicPr>
        <p:blipFill>
          <a:blip r:embed="rId1"/>
          <a:stretch/>
        </p:blipFill>
        <p:spPr>
          <a:xfrm>
            <a:off x="809640" y="1739880"/>
            <a:ext cx="3333600" cy="190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2proh-dc"/>
          <p:cNvPicPr/>
          <p:nvPr/>
        </p:nvPicPr>
        <p:blipFill>
          <a:blip r:embed="rId2"/>
          <a:stretch/>
        </p:blipFill>
        <p:spPr>
          <a:xfrm>
            <a:off x="5000760" y="1739880"/>
            <a:ext cx="3333600" cy="1905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tbute-dc"/>
          <p:cNvPicPr/>
          <p:nvPr/>
        </p:nvPicPr>
        <p:blipFill>
          <a:blip r:embed="rId3"/>
          <a:stretch/>
        </p:blipFill>
        <p:spPr>
          <a:xfrm>
            <a:off x="809640" y="4079880"/>
            <a:ext cx="3333600" cy="1905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2buoh-dc"/>
          <p:cNvPicPr/>
          <p:nvPr/>
        </p:nvPicPr>
        <p:blipFill>
          <a:blip r:embed="rId4"/>
          <a:stretch/>
        </p:blipFill>
        <p:spPr>
          <a:xfrm>
            <a:off x="5000760" y="4079880"/>
            <a:ext cx="3333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2"/>
          <p:cNvSpPr/>
          <p:nvPr/>
        </p:nvSpPr>
        <p:spPr>
          <a:xfrm>
            <a:off x="398160" y="1627920"/>
            <a:ext cx="324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arbon-13Chemical Shifts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 </a:t>
            </a:r>
            <a:r>
              <a:rPr b="0" lang="cs-CZ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700360" y="2205000"/>
          <a:ext cx="3860640" cy="4308480"/>
        </p:xfrm>
        <a:graphic>
          <a:graphicData uri="http://schemas.openxmlformats.org/drawingml/2006/table">
            <a:tbl>
              <a:tblPr/>
              <a:tblGrid>
                <a:gridCol w="2089080"/>
                <a:gridCol w="17715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-13* 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 Shift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(ppm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3CH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 u="sng">
                          <a:solidFill>
                            <a:srgbClr val="ff3300"/>
                          </a:solidFill>
                          <a:uFillTx/>
                          <a:latin typeface="Arial"/>
                        </a:rPr>
                        <a:t>=</a:t>
                      </a: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=</a:t>
                      </a: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-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  </a:t>
                      </a: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CHCl (ci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-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Rectangle 279"/>
          <p:cNvSpPr/>
          <p:nvPr/>
        </p:nvSpPr>
        <p:spPr>
          <a:xfrm>
            <a:off x="4481640" y="5446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55" descr="bond-2"/>
          <p:cNvPicPr/>
          <p:nvPr/>
        </p:nvPicPr>
        <p:blipFill>
          <a:blip r:embed="rId2"/>
          <a:stretch/>
        </p:blipFill>
        <p:spPr>
          <a:xfrm>
            <a:off x="3343320" y="3292560"/>
            <a:ext cx="133200" cy="1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613800" y="1289160"/>
            <a:ext cx="37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in-spinová interakce mezi 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-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2843280" y="249228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2843280" y="4076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4626000" y="416556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3851280" y="299736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5711400" y="2224080"/>
            <a:ext cx="168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um C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613800" y="1289160"/>
            <a:ext cx="37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in-spinová interakce mezi 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-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2843280" y="249228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2843280" y="4076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626000" y="416556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5706360" y="2224080"/>
            <a:ext cx="18936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um C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akce C – 3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385128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0"/>
          <p:cNvSpPr/>
          <p:nvPr/>
        </p:nvSpPr>
        <p:spPr>
          <a:xfrm>
            <a:off x="378000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3924360" y="393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>
            <a:off x="3708360" y="393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739080" y="481644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coupling přes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9"/>
          <p:cNvGrpSpPr/>
          <p:nvPr/>
        </p:nvGrpSpPr>
        <p:grpSpPr>
          <a:xfrm>
            <a:off x="5292720" y="4491000"/>
            <a:ext cx="2232000" cy="2112840"/>
            <a:chOff x="5292720" y="4491000"/>
            <a:chExt cx="2232000" cy="2112840"/>
          </a:xfrm>
        </p:grpSpPr>
        <p:sp>
          <p:nvSpPr>
            <p:cNvPr id="205" name="Line 14"/>
            <p:cNvSpPr/>
            <p:nvPr/>
          </p:nvSpPr>
          <p:spPr>
            <a:xfrm>
              <a:off x="5311800" y="4491000"/>
              <a:ext cx="1440" cy="16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18"/>
            <p:cNvGrpSpPr/>
            <p:nvPr/>
          </p:nvGrpSpPr>
          <p:grpSpPr>
            <a:xfrm>
              <a:off x="5292720" y="5013360"/>
              <a:ext cx="2232000" cy="1590480"/>
              <a:chOff x="5292720" y="5013360"/>
              <a:chExt cx="2232000" cy="1590480"/>
            </a:xfrm>
          </p:grpSpPr>
          <p:sp>
            <p:nvSpPr>
              <p:cNvPr id="207" name="Line 15"/>
              <p:cNvSpPr/>
              <p:nvPr/>
            </p:nvSpPr>
            <p:spPr>
              <a:xfrm>
                <a:off x="5292720" y="6142320"/>
                <a:ext cx="22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16"/>
              <p:cNvSpPr/>
              <p:nvPr/>
            </p:nvSpPr>
            <p:spPr>
              <a:xfrm>
                <a:off x="7075440" y="6235560"/>
                <a:ext cx="29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17"/>
              <p:cNvSpPr/>
              <p:nvPr/>
            </p:nvSpPr>
            <p:spPr>
              <a:xfrm>
                <a:off x="6300720" y="5013360"/>
                <a:ext cx="0" cy="112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2846160" y="1699560"/>
            <a:ext cx="32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itrogen-14 Chemical Shifts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 </a:t>
            </a:r>
            <a:r>
              <a:rPr b="0" lang="cs-CZ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843280" y="2276640"/>
          <a:ext cx="3460680" cy="3941640"/>
        </p:xfrm>
        <a:graphic>
          <a:graphicData uri="http://schemas.openxmlformats.org/drawingml/2006/table">
            <a:tbl>
              <a:tblPr/>
              <a:tblGrid>
                <a:gridCol w="1689120"/>
                <a:gridCol w="17715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trogen-14* 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 Shift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(ppm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(aqueous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liquid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id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e nucle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H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aqueous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(aqueous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liquid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3" name="Picture 6" descr="re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05440" y="1320840"/>
            <a:ext cx="95400" cy="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2703600" y="1772640"/>
            <a:ext cx="39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hosphorous-31 Chemical Shifts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 </a:t>
            </a:r>
            <a:r>
              <a:rPr b="0" lang="cs-CZ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484360" y="2637000"/>
          <a:ext cx="4140360" cy="3208320"/>
        </p:xfrm>
        <a:graphic>
          <a:graphicData uri="http://schemas.openxmlformats.org/drawingml/2006/table">
            <a:tbl>
              <a:tblPr/>
              <a:tblGrid>
                <a:gridCol w="2368800"/>
                <a:gridCol w="17715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sphorous-31 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 Shift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(ppm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r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2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)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3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 phosphoric ac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l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Rectangle 105"/>
          <p:cNvSpPr/>
          <p:nvPr/>
        </p:nvSpPr>
        <p:spPr>
          <a:xfrm>
            <a:off x="4481640" y="4895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re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61040" y="1366920"/>
            <a:ext cx="95400" cy="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likost magnetického momentu M, gyromagnetický poměr γ, jaderný magneton μ, Planckova konstanta (Ћ = h/2Π) a rozlišovací faktor g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a hmotnost jádra m a jeho náboj e jsou ve vzta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 = γ.Ћ.√I(I+1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γ  = μ.g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/ Ћ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μ = e. Ћ/2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ten určuje energii jednotlivých orientací v magnetickém poli intensity B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= - M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. B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= γ.Ћ.m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de magnetické kvantové číslo m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≡ I, (I-1) ... –(I-1), -I, počet 2I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 I = ½,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= ± 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energetický rozdíl mezi jednotlivými stavy (orientacemi vektoru spinu) j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 = μ.g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.B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priklad"/>
          <p:cNvPicPr/>
          <p:nvPr/>
        </p:nvPicPr>
        <p:blipFill>
          <a:blip r:embed="rId1"/>
          <a:stretch/>
        </p:blipFill>
        <p:spPr>
          <a:xfrm>
            <a:off x="1273320" y="1649520"/>
            <a:ext cx="659736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hypoxie"/>
          <p:cNvPicPr/>
          <p:nvPr/>
        </p:nvPicPr>
        <p:blipFill>
          <a:blip r:embed="rId1"/>
          <a:stretch/>
        </p:blipFill>
        <p:spPr>
          <a:xfrm>
            <a:off x="2195640" y="1341360"/>
            <a:ext cx="43909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pH"/>
          <p:cNvPicPr/>
          <p:nvPr/>
        </p:nvPicPr>
        <p:blipFill>
          <a:blip r:embed="rId1"/>
          <a:stretch/>
        </p:blipFill>
        <p:spPr>
          <a:xfrm>
            <a:off x="3276720" y="1844640"/>
            <a:ext cx="3287520" cy="42656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8"/>
          <p:cNvSpPr/>
          <p:nvPr/>
        </p:nvSpPr>
        <p:spPr>
          <a:xfrm>
            <a:off x="668160" y="1576440"/>
            <a:ext cx="286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ěření intracelulárního 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ocí posunu signá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1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668160" y="1576440"/>
            <a:ext cx="32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ěření koncentrace nukleoti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ocí 31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ATP"/>
          <p:cNvPicPr/>
          <p:nvPr/>
        </p:nvPicPr>
        <p:blipFill>
          <a:blip r:embed="rId1"/>
          <a:stretch/>
        </p:blipFill>
        <p:spPr>
          <a:xfrm>
            <a:off x="1547640" y="2781360"/>
            <a:ext cx="61581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24000" y="155736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ěření koncen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kleoti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ocí 31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6" descr="ATP1"/>
          <p:cNvPicPr/>
          <p:nvPr/>
        </p:nvPicPr>
        <p:blipFill>
          <a:blip r:embed="rId1"/>
          <a:stretch/>
        </p:blipFill>
        <p:spPr>
          <a:xfrm>
            <a:off x="2411280" y="1557360"/>
            <a:ext cx="6534360" cy="44434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542160" y="45813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AA-iodacetá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glykjogen1"/>
          <p:cNvPicPr/>
          <p:nvPr/>
        </p:nvPicPr>
        <p:blipFill>
          <a:blip r:embed="rId1"/>
          <a:stretch/>
        </p:blipFill>
        <p:spPr>
          <a:xfrm>
            <a:off x="4932360" y="1916280"/>
            <a:ext cx="3370320" cy="4105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glycogen"/>
          <p:cNvPicPr/>
          <p:nvPr/>
        </p:nvPicPr>
        <p:blipFill>
          <a:blip r:embed="rId2"/>
          <a:stretch/>
        </p:blipFill>
        <p:spPr>
          <a:xfrm>
            <a:off x="755640" y="2060640"/>
            <a:ext cx="354816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NMR-dusík"/>
          <p:cNvPicPr/>
          <p:nvPr/>
        </p:nvPicPr>
        <p:blipFill>
          <a:blip r:embed="rId1"/>
          <a:stretch/>
        </p:blipFill>
        <p:spPr>
          <a:xfrm>
            <a:off x="4284720" y="1700280"/>
            <a:ext cx="3236760" cy="45259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8"/>
          <p:cNvSpPr/>
          <p:nvPr/>
        </p:nvSpPr>
        <p:spPr>
          <a:xfrm>
            <a:off x="597960" y="1936800"/>
            <a:ext cx="33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imilace amoniaku sledova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ocí 15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2484360" y="1989000"/>
            <a:ext cx="0" cy="32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"/>
          <p:cNvSpPr/>
          <p:nvPr/>
        </p:nvSpPr>
        <p:spPr>
          <a:xfrm flipV="1">
            <a:off x="2484360" y="2133720"/>
            <a:ext cx="28796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2484360" y="3429000"/>
            <a:ext cx="2808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2320920" y="539280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1673280" y="2513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"/>
          <p:cNvSpPr/>
          <p:nvPr/>
        </p:nvSpPr>
        <p:spPr>
          <a:xfrm flipV="1">
            <a:off x="1835280" y="191592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3257640" y="424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3851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5076720" y="2276640"/>
            <a:ext cx="0" cy="19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4552920" y="30132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4504680" y="479736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zonanční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5633640" y="40244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s = -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5725080" y="206064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s = +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6520320" y="134136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Nepárový elek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672200" y="25099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= 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830880" y="3284640"/>
            <a:ext cx="336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rozdíl energ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is Planck 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s frekvence mikrov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 faktor spin-orbitální intera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 magnetické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4576680" y="2565360"/>
            <a:ext cx="394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čet jader v jednotlivých orienta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1/N2 = exp (-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/k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PR = 0,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4479840" y="4957920"/>
            <a:ext cx="36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 = 0,1 – 0,5 T;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10 -100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5"/>
          <p:cNvSpPr/>
          <p:nvPr/>
        </p:nvSpPr>
        <p:spPr>
          <a:xfrm>
            <a:off x="1332000" y="1989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1332000" y="386064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809280" y="2008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2197440" y="39337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9"/>
          <p:cNvSpPr/>
          <p:nvPr/>
        </p:nvSpPr>
        <p:spPr>
          <a:xfrm>
            <a:off x="1692360" y="2529000"/>
            <a:ext cx="1439640" cy="1271520"/>
          </a:xfrm>
          <a:custGeom>
            <a:avLst/>
            <a:gdLst/>
            <a:ahLst/>
            <a:rect l="l" t="t" r="r" b="b"/>
            <a:pathLst>
              <a:path w="907" h="801">
                <a:moveTo>
                  <a:pt x="0" y="703"/>
                </a:moveTo>
                <a:cubicBezTo>
                  <a:pt x="64" y="718"/>
                  <a:pt x="128" y="733"/>
                  <a:pt x="181" y="703"/>
                </a:cubicBezTo>
                <a:cubicBezTo>
                  <a:pt x="234" y="673"/>
                  <a:pt x="279" y="628"/>
                  <a:pt x="317" y="522"/>
                </a:cubicBezTo>
                <a:cubicBezTo>
                  <a:pt x="355" y="416"/>
                  <a:pt x="378" y="136"/>
                  <a:pt x="408" y="68"/>
                </a:cubicBezTo>
                <a:cubicBezTo>
                  <a:pt x="438" y="0"/>
                  <a:pt x="461" y="7"/>
                  <a:pt x="499" y="113"/>
                </a:cubicBezTo>
                <a:cubicBezTo>
                  <a:pt x="537" y="219"/>
                  <a:pt x="567" y="605"/>
                  <a:pt x="635" y="703"/>
                </a:cubicBezTo>
                <a:cubicBezTo>
                  <a:pt x="703" y="801"/>
                  <a:pt x="862" y="703"/>
                  <a:pt x="907" y="70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>
            <a:off x="2411280" y="2205000"/>
            <a:ext cx="0" cy="1655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5435640" y="1916280"/>
            <a:ext cx="0" cy="32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>
            <a:off x="5148360" y="342900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13"/>
          <p:cNvSpPr/>
          <p:nvPr/>
        </p:nvSpPr>
        <p:spPr>
          <a:xfrm>
            <a:off x="5651640" y="2421000"/>
            <a:ext cx="1225440" cy="1981080"/>
          </a:xfrm>
          <a:custGeom>
            <a:avLst/>
            <a:gdLst/>
            <a:ahLst/>
            <a:rect l="l" t="t" r="r" b="b"/>
            <a:pathLst>
              <a:path w="772" h="1248">
                <a:moveTo>
                  <a:pt x="0" y="590"/>
                </a:moveTo>
                <a:cubicBezTo>
                  <a:pt x="53" y="594"/>
                  <a:pt x="106" y="598"/>
                  <a:pt x="136" y="590"/>
                </a:cubicBezTo>
                <a:cubicBezTo>
                  <a:pt x="166" y="582"/>
                  <a:pt x="159" y="627"/>
                  <a:pt x="182" y="544"/>
                </a:cubicBezTo>
                <a:cubicBezTo>
                  <a:pt x="205" y="461"/>
                  <a:pt x="228" y="0"/>
                  <a:pt x="273" y="91"/>
                </a:cubicBezTo>
                <a:cubicBezTo>
                  <a:pt x="318" y="182"/>
                  <a:pt x="409" y="930"/>
                  <a:pt x="454" y="1089"/>
                </a:cubicBezTo>
                <a:cubicBezTo>
                  <a:pt x="499" y="1248"/>
                  <a:pt x="515" y="1134"/>
                  <a:pt x="545" y="1043"/>
                </a:cubicBezTo>
                <a:cubicBezTo>
                  <a:pt x="575" y="952"/>
                  <a:pt x="597" y="635"/>
                  <a:pt x="635" y="544"/>
                </a:cubicBezTo>
                <a:cubicBezTo>
                  <a:pt x="673" y="453"/>
                  <a:pt x="742" y="506"/>
                  <a:pt x="772" y="49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4697280" y="18651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/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5"/>
          <p:cNvSpPr/>
          <p:nvPr/>
        </p:nvSpPr>
        <p:spPr>
          <a:xfrm>
            <a:off x="7166160" y="364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544040" y="1573200"/>
            <a:ext cx="399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ický moment rotujícího jádr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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/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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gyromagnetický pomě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precess"/>
          <p:cNvPicPr/>
          <p:nvPr/>
        </p:nvPicPr>
        <p:blipFill>
          <a:blip r:embed="rId1"/>
          <a:stretch/>
        </p:blipFill>
        <p:spPr>
          <a:xfrm>
            <a:off x="1187280" y="3068640"/>
            <a:ext cx="2238480" cy="33336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4195800" y="3521160"/>
            <a:ext cx="44449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ístění rotujícího magnetu v elektrick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e rotace:   </a:t>
            </a:r>
            <a:r>
              <a:rPr b="1" lang="cs-CZ" sz="18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cs-CZ" sz="1800" spc="-1" strike="noStrike" baseline="-25000">
                <a:solidFill>
                  <a:srgbClr val="ff3300"/>
                </a:solidFill>
                <a:latin typeface="Arial"/>
              </a:rPr>
              <a:t>o</a:t>
            </a: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lang="cs-CZ" sz="18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 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 – indukce mg.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596520" y="1936800"/>
            <a:ext cx="621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akce s prot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proton    I = ½     multiplicita = n + 1, intenzita píků (x + 1)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: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:3:3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739440" y="1865160"/>
            <a:ext cx="416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užití v biochem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udium radikálů (peroxi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udium konformace – spinové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tudium he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5"/>
          <p:cNvGraphicFramePr/>
          <p:nvPr/>
        </p:nvGraphicFramePr>
        <p:xfrm>
          <a:off x="2916360" y="4076640"/>
          <a:ext cx="421956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076640"/>
                    <a:ext cx="42195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radikal"/>
          <p:cNvPicPr/>
          <p:nvPr/>
        </p:nvPicPr>
        <p:blipFill>
          <a:blip r:embed="rId1"/>
          <a:stretch/>
        </p:blipFill>
        <p:spPr>
          <a:xfrm>
            <a:off x="2340000" y="1628640"/>
            <a:ext cx="4038480" cy="1281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radikal1"/>
          <p:cNvPicPr/>
          <p:nvPr/>
        </p:nvPicPr>
        <p:blipFill>
          <a:blip r:embed="rId2"/>
          <a:stretch/>
        </p:blipFill>
        <p:spPr>
          <a:xfrm>
            <a:off x="2411280" y="3933720"/>
            <a:ext cx="403884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5" descr="EPR-rad"/>
          <p:cNvPicPr/>
          <p:nvPr/>
        </p:nvPicPr>
        <p:blipFill>
          <a:blip r:embed="rId1"/>
          <a:stretch/>
        </p:blipFill>
        <p:spPr>
          <a:xfrm>
            <a:off x="4211640" y="1773360"/>
            <a:ext cx="3816360" cy="35384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7"/>
          <p:cNvSpPr/>
          <p:nvPr/>
        </p:nvSpPr>
        <p:spPr>
          <a:xfrm>
            <a:off x="450720" y="2081160"/>
            <a:ext cx="383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PR spektrum NADH-UQ redukt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gnál U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gnál 2Fe2S potlač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gnál FMN radikálu interfer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" descr="EPR-ferredox"/>
          <p:cNvPicPr/>
          <p:nvPr/>
        </p:nvPicPr>
        <p:blipFill>
          <a:blip r:embed="rId1"/>
          <a:stretch/>
        </p:blipFill>
        <p:spPr>
          <a:xfrm>
            <a:off x="3276720" y="1700280"/>
            <a:ext cx="5040360" cy="479736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8"/>
          <p:cNvSpPr/>
          <p:nvPr/>
        </p:nvSpPr>
        <p:spPr>
          <a:xfrm>
            <a:off x="235080" y="1647720"/>
            <a:ext cx="285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PR spektrum ferredox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mořské ř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3Fe-4S)1+/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ický signá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EPRspektrum"/>
          <p:cNvPicPr/>
          <p:nvPr/>
        </p:nvPicPr>
        <p:blipFill>
          <a:blip r:embed="rId1"/>
          <a:stretch/>
        </p:blipFill>
        <p:spPr>
          <a:xfrm>
            <a:off x="3851280" y="1700280"/>
            <a:ext cx="322884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8"/>
          <p:cNvSpPr/>
          <p:nvPr/>
        </p:nvSpPr>
        <p:spPr>
          <a:xfrm>
            <a:off x="447840" y="1720800"/>
            <a:ext cx="376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PR spektrum cyt bc1 – mutant M183K, M183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e3+ hem (3,78 = cyt bL 3,44, cyt b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,94 bis-His cyt b nebo c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5" descr="EPR-LP"/>
          <p:cNvPicPr/>
          <p:nvPr/>
        </p:nvPicPr>
        <p:blipFill>
          <a:blip r:embed="rId1"/>
          <a:stretch/>
        </p:blipFill>
        <p:spPr>
          <a:xfrm>
            <a:off x="4284720" y="1844640"/>
            <a:ext cx="2868480" cy="452592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8"/>
          <p:cNvSpPr/>
          <p:nvPr/>
        </p:nvSpPr>
        <p:spPr>
          <a:xfrm>
            <a:off x="519120" y="1720800"/>
            <a:ext cx="36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PR spektrum oxidace radikálů LDL vyvolaných H2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um radikálu tokoferolu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nmrflip"/>
          <p:cNvPicPr/>
          <p:nvPr/>
        </p:nvPicPr>
        <p:blipFill>
          <a:blip r:embed="rId1"/>
          <a:stretch/>
        </p:blipFill>
        <p:spPr>
          <a:xfrm>
            <a:off x="755640" y="1628640"/>
            <a:ext cx="2905200" cy="22100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4648320" y="2060640"/>
            <a:ext cx="411120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díl mezi dvěma energetický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di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h B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h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kud působíme elm. polem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i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jde k rezonanci a přechodu na vyš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d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cs-CZ" sz="1800" spc="-1" strike="noStrike" baseline="-25000">
                <a:solidFill>
                  <a:srgbClr val="ff3300"/>
                </a:solidFill>
                <a:latin typeface="Arial"/>
              </a:rPr>
              <a:t>o</a:t>
            </a: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lang="cs-CZ" sz="18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 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>
            <a:off x="971640" y="566100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 flipV="1">
            <a:off x="900000" y="4292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V="1">
            <a:off x="900000" y="5157720"/>
            <a:ext cx="3589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520920" y="40244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973080" y="5661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1247040" y="481644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B = 2,3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4579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ád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(MH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liv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zastoup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30000" y="2421000"/>
            <a:ext cx="818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in-mřížková relax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dro v excitovaném stavu se zbavuje energie relaxa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laxační čas (střední doba života jader v excitovaném stavu) – T =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mz-t"/>
          <p:cNvPicPr/>
          <p:nvPr/>
        </p:nvPicPr>
        <p:blipFill>
          <a:blip r:embed="rId1"/>
          <a:stretch/>
        </p:blipFill>
        <p:spPr>
          <a:xfrm>
            <a:off x="3059280" y="4365720"/>
            <a:ext cx="2857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954720" y="1865160"/>
            <a:ext cx="34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ínění jádra – chemické posu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espin"/>
          <p:cNvPicPr/>
          <p:nvPr/>
        </p:nvPicPr>
        <p:blipFill>
          <a:blip r:embed="rId1"/>
          <a:stretch/>
        </p:blipFill>
        <p:spPr>
          <a:xfrm>
            <a:off x="1258920" y="3429000"/>
            <a:ext cx="1962000" cy="1447920"/>
          </a:xfrm>
          <a:prstGeom prst="rect">
            <a:avLst/>
          </a:prstGeom>
          <a:ln w="0">
            <a:noFill/>
          </a:ln>
        </p:spPr>
      </p:pic>
      <p:sp>
        <p:nvSpPr>
          <p:cNvPr id="70" name="Oval 8"/>
          <p:cNvSpPr/>
          <p:nvPr/>
        </p:nvSpPr>
        <p:spPr>
          <a:xfrm>
            <a:off x="5724360" y="2924280"/>
            <a:ext cx="64800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5940360" y="3068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2"/>
          <p:cNvSpPr/>
          <p:nvPr/>
        </p:nvSpPr>
        <p:spPr>
          <a:xfrm>
            <a:off x="7093080" y="306864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3"/>
          <p:cNvSpPr/>
          <p:nvPr/>
        </p:nvSpPr>
        <p:spPr>
          <a:xfrm>
            <a:off x="6300720" y="3068640"/>
            <a:ext cx="730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7008480" y="352116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5869080" y="357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5199480" y="4165560"/>
            <a:ext cx="25088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 = B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10 –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hemický posun (pp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2989440" y="1484280"/>
            <a:ext cx="289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emické posu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2N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,5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N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C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-N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,5 – 4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-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,5 – 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-O-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C=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7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CO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COO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0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0:57:19Z</dcterms:created>
  <dc:creator>Mikeš</dc:creator>
  <dc:description/>
  <dc:language>en-US</dc:language>
  <cp:lastModifiedBy>Zbořil</cp:lastModifiedBy>
  <dcterms:modified xsi:type="dcterms:W3CDTF">2011-03-28T06:58:12Z</dcterms:modified>
  <cp:revision>49</cp:revision>
  <dc:subject/>
  <dc:title>Nukleární magnetická rezonance</dc:title>
</cp:coreProperties>
</file>