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2.png" ContentType="image/png"/>
  <Override PartName="/ppt/media/image21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45.jpeg" ContentType="image/jpeg"/>
  <Override PartName="/ppt/media/image9.png" ContentType="image/png"/>
  <Override PartName="/ppt/media/image39.png" ContentType="image/png"/>
  <Override PartName="/ppt/media/image48.wmf" ContentType="image/x-wmf"/>
  <Override PartName="/ppt/media/image50.png" ContentType="image/png"/>
  <Override PartName="/ppt/media/image33.png" ContentType="image/png"/>
  <Override PartName="/ppt/media/image52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3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C3E-B106-4E50-9C87-CA21F433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ADD-A71E-47E2-9402-2238D99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311-B97D-4325-A0CF-7AE3D34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E74-D2CC-432D-A9FB-8F318806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DDB-C4C1-4EE0-9937-C177A4C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339-13FD-4487-A278-AD54DA1D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DFD-AF32-4060-95F8-2DD61055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D10-5A1E-495A-B355-76EB5EA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199-3AA9-4BFF-8069-995914BD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8E5-CE86-4E68-AE40-D21EC6E0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2ED-10F5-4752-95C9-2ED34D8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460-8067-497E-9A87-88F4195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0F6-8333-4498-AEE6-F0617A7FA4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ádra vykazující nenulový jaderný spin (závisí na počtu protonů a neutronů) se orientují v externím magnetickém po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in může nabývat několika orientací v závislosti na své hodnot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= 2I + 1, kde I je spinové kvantové číslo o hodnotá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3/2, -1, -1/2. 0, ½, 1, 3/2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MR-energStavy"/>
          <p:cNvPicPr/>
          <p:nvPr/>
        </p:nvPicPr>
        <p:blipFill>
          <a:blip r:embed="rId1"/>
          <a:stretch/>
        </p:blipFill>
        <p:spPr>
          <a:xfrm>
            <a:off x="2327400" y="3573360"/>
            <a:ext cx="345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etohnmr"/>
          <p:cNvPicPr/>
          <p:nvPr/>
        </p:nvPicPr>
        <p:blipFill>
          <a:blip r:embed="rId1"/>
          <a:stretch/>
        </p:blipFill>
        <p:spPr>
          <a:xfrm>
            <a:off x="4284720" y="3500280"/>
            <a:ext cx="4038480" cy="29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oup1"/>
          <p:cNvPicPr/>
          <p:nvPr/>
        </p:nvPicPr>
        <p:blipFill>
          <a:blip r:embed="rId2"/>
          <a:stretch/>
        </p:blipFill>
        <p:spPr>
          <a:xfrm>
            <a:off x="684360" y="2852640"/>
            <a:ext cx="2828880" cy="153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54680" y="14320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signálu – spin-spin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etoh"/>
          <p:cNvPicPr/>
          <p:nvPr/>
        </p:nvPicPr>
        <p:blipFill>
          <a:blip r:embed="rId3"/>
          <a:stretch/>
        </p:blipFill>
        <p:spPr>
          <a:xfrm>
            <a:off x="5867280" y="198900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810720" y="481644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=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up2"/>
          <p:cNvPicPr/>
          <p:nvPr/>
        </p:nvPicPr>
        <p:blipFill>
          <a:blip r:embed="rId1"/>
          <a:stretch/>
        </p:blipFill>
        <p:spPr>
          <a:xfrm>
            <a:off x="755640" y="1628640"/>
            <a:ext cx="300996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etohnmr"/>
          <p:cNvPicPr/>
          <p:nvPr/>
        </p:nvPicPr>
        <p:blipFill>
          <a:blip r:embed="rId2"/>
          <a:stretch/>
        </p:blipFill>
        <p:spPr>
          <a:xfrm>
            <a:off x="2916360" y="3645000"/>
            <a:ext cx="3527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4"/>
          <p:cNvGrpSpPr/>
          <p:nvPr/>
        </p:nvGrpSpPr>
        <p:grpSpPr>
          <a:xfrm>
            <a:off x="1116000" y="3213000"/>
            <a:ext cx="936720" cy="936360"/>
            <a:chOff x="1116000" y="3213000"/>
            <a:chExt cx="936720" cy="936360"/>
          </a:xfrm>
        </p:grpSpPr>
        <p:sp>
          <p:nvSpPr>
            <p:cNvPr id="89" name="Oval 22"/>
            <p:cNvSpPr/>
            <p:nvPr/>
          </p:nvSpPr>
          <p:spPr>
            <a:xfrm>
              <a:off x="1116000" y="32130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1189080" y="3285720"/>
              <a:ext cx="792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160" y="1413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NMRspektroskop"/>
          <p:cNvPicPr/>
          <p:nvPr/>
        </p:nvPicPr>
        <p:blipFill>
          <a:blip r:embed="rId1"/>
          <a:stretch/>
        </p:blipFill>
        <p:spPr>
          <a:xfrm>
            <a:off x="3708360" y="1989000"/>
            <a:ext cx="4390920" cy="378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39640" y="2997360"/>
            <a:ext cx="57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124000" y="2997360"/>
            <a:ext cx="576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476360" y="3141720"/>
            <a:ext cx="71280" cy="1150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332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33200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332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 flipV="1">
            <a:off x="1258560" y="2349360"/>
            <a:ext cx="73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V="1">
            <a:off x="133200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 flipV="1">
            <a:off x="1908000" y="2349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1979640" y="2420640"/>
            <a:ext cx="7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1981080" y="20606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1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952560" y="1960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agnet"/>
          <p:cNvPicPr/>
          <p:nvPr/>
        </p:nvPicPr>
        <p:blipFill>
          <a:blip r:embed="rId1"/>
          <a:stretch/>
        </p:blipFill>
        <p:spPr>
          <a:xfrm>
            <a:off x="1116000" y="1628640"/>
            <a:ext cx="1333440" cy="27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gnet1"/>
          <p:cNvPicPr/>
          <p:nvPr/>
        </p:nvPicPr>
        <p:blipFill>
          <a:blip r:embed="rId2"/>
          <a:stretch/>
        </p:blipFill>
        <p:spPr>
          <a:xfrm>
            <a:off x="6372360" y="1844640"/>
            <a:ext cx="22366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-mag-2"/>
          <p:cNvPicPr/>
          <p:nvPr/>
        </p:nvPicPr>
        <p:blipFill>
          <a:blip r:embed="rId3"/>
          <a:stretch/>
        </p:blipFill>
        <p:spPr>
          <a:xfrm>
            <a:off x="3419640" y="1557360"/>
            <a:ext cx="2727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811080" y="4960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ravodivý magnet 7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vzorek1"/>
          <p:cNvPicPr/>
          <p:nvPr/>
        </p:nvPicPr>
        <p:blipFill>
          <a:blip r:embed="rId1"/>
          <a:stretch/>
        </p:blipFill>
        <p:spPr>
          <a:xfrm>
            <a:off x="2050920" y="422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2880" y="179244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k – homogenizace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zorek2"/>
          <p:cNvPicPr/>
          <p:nvPr/>
        </p:nvPicPr>
        <p:blipFill>
          <a:blip r:embed="rId2"/>
          <a:stretch/>
        </p:blipFill>
        <p:spPr>
          <a:xfrm>
            <a:off x="414036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vozrek3c"/>
          <p:cNvPicPr/>
          <p:nvPr/>
        </p:nvPicPr>
        <p:blipFill>
          <a:blip r:embed="rId3"/>
          <a:stretch/>
        </p:blipFill>
        <p:spPr>
          <a:xfrm>
            <a:off x="5724360" y="54450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vozrek3"/>
          <p:cNvPicPr/>
          <p:nvPr/>
        </p:nvPicPr>
        <p:blipFill>
          <a:blip r:embed="rId4"/>
          <a:stretch/>
        </p:blipFill>
        <p:spPr>
          <a:xfrm>
            <a:off x="615636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vzorek3a"/>
          <p:cNvPicPr/>
          <p:nvPr/>
        </p:nvPicPr>
        <p:blipFill>
          <a:blip r:embed="rId5"/>
          <a:stretch/>
        </p:blipFill>
        <p:spPr>
          <a:xfrm>
            <a:off x="615636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ozrek1b"/>
          <p:cNvPicPr/>
          <p:nvPr/>
        </p:nvPicPr>
        <p:blipFill>
          <a:blip r:embed="rId6"/>
          <a:stretch/>
        </p:blipFill>
        <p:spPr>
          <a:xfrm>
            <a:off x="1403280" y="53737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vozrek1a"/>
          <p:cNvPicPr/>
          <p:nvPr/>
        </p:nvPicPr>
        <p:blipFill>
          <a:blip r:embed="rId7"/>
          <a:stretch/>
        </p:blipFill>
        <p:spPr>
          <a:xfrm>
            <a:off x="197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zorek2b"/>
          <p:cNvPicPr/>
          <p:nvPr/>
        </p:nvPicPr>
        <p:blipFill>
          <a:blip r:embed="rId8"/>
          <a:stretch/>
        </p:blipFill>
        <p:spPr>
          <a:xfrm>
            <a:off x="4140360" y="3141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vzorek2c"/>
          <p:cNvPicPr/>
          <p:nvPr/>
        </p:nvPicPr>
        <p:blipFill>
          <a:blip r:embed="rId9"/>
          <a:stretch/>
        </p:blipFill>
        <p:spPr>
          <a:xfrm>
            <a:off x="3635280" y="53737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00mhz"/>
          <p:cNvPicPr/>
          <p:nvPr/>
        </p:nvPicPr>
        <p:blipFill>
          <a:blip r:embed="rId1"/>
          <a:stretch/>
        </p:blipFill>
        <p:spPr>
          <a:xfrm>
            <a:off x="611280" y="2492280"/>
            <a:ext cx="366696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22000" y="1936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ba pří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0mhz"/>
          <p:cNvPicPr/>
          <p:nvPr/>
        </p:nvPicPr>
        <p:blipFill>
          <a:blip r:embed="rId2"/>
          <a:stretch/>
        </p:blipFill>
        <p:spPr>
          <a:xfrm>
            <a:off x="4716360" y="2565360"/>
            <a:ext cx="366732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096560" y="488952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: 1,89   2,00   2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19564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195640" y="3645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195640" y="6093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2195640" y="169992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195640" y="285264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843280" y="220500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>
            <a:off x="4140360" y="4797360"/>
            <a:ext cx="57600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691440" y="3665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783600" y="6237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 rot="16200000">
            <a:off x="1292400" y="45363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23440" y="1073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frekvence – mění se 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8385 2.59259E-006 E">
                                      <p:cBhvr>
                                        <p:cTn id="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2216160" y="20397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216160" y="37688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216160" y="62164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2216160" y="182376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216160" y="297648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448160" y="232884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160880" y="4921200"/>
            <a:ext cx="57636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711960" y="3789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3040" y="6361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200000">
            <a:off x="1312920" y="46602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88680" y="11253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Bo – mění se frek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fourrier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38360" y="13604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urrierova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Fourrier-Puls"/>
          <p:cNvPicPr/>
          <p:nvPr/>
        </p:nvPicPr>
        <p:blipFill>
          <a:blip r:embed="rId2"/>
          <a:stretch/>
        </p:blipFill>
        <p:spPr>
          <a:xfrm>
            <a:off x="5238720" y="29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65520" y="1865160"/>
            <a:ext cx="42343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ouštědla – Deute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eton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loroform CDCl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hylnitril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thylether (DEE) (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methyl Sulfoxide (DMSO)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anol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é orientace představují energetické stavy, jejichž velikost závisí na velikosti externího magnetického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54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gnal1"/>
          <p:cNvPicPr/>
          <p:nvPr/>
        </p:nvPicPr>
        <p:blipFill>
          <a:blip r:embed="rId1"/>
          <a:stretch/>
        </p:blipFill>
        <p:spPr>
          <a:xfrm>
            <a:off x="4743360" y="1844640"/>
            <a:ext cx="40006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ignal"/>
          <p:cNvPicPr/>
          <p:nvPr/>
        </p:nvPicPr>
        <p:blipFill>
          <a:blip r:embed="rId2"/>
          <a:stretch/>
        </p:blipFill>
        <p:spPr>
          <a:xfrm>
            <a:off x="4729320" y="4941720"/>
            <a:ext cx="40003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903240" y="1954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al-to nois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a vysoká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weepen"/>
          <p:cNvPicPr/>
          <p:nvPr/>
        </p:nvPicPr>
        <p:blipFill>
          <a:blip r:embed="rId1"/>
          <a:stretch/>
        </p:blipFill>
        <p:spPr>
          <a:xfrm>
            <a:off x="2978280" y="1844640"/>
            <a:ext cx="287964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tolue-dc"/>
          <p:cNvPicPr/>
          <p:nvPr/>
        </p:nvPicPr>
        <p:blipFill>
          <a:blip r:embed="rId1"/>
          <a:stretch/>
        </p:blipFill>
        <p:spPr>
          <a:xfrm>
            <a:off x="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t-bz-dc"/>
          <p:cNvPicPr/>
          <p:nvPr/>
        </p:nvPicPr>
        <p:blipFill>
          <a:blip r:embed="rId2"/>
          <a:stretch/>
        </p:blipFill>
        <p:spPr>
          <a:xfrm>
            <a:off x="581040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ceto-dc"/>
          <p:cNvPicPr/>
          <p:nvPr/>
        </p:nvPicPr>
        <p:blipFill>
          <a:blip r:embed="rId3"/>
          <a:stretch/>
        </p:blipFill>
        <p:spPr>
          <a:xfrm>
            <a:off x="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1proh-dc"/>
          <p:cNvPicPr/>
          <p:nvPr/>
        </p:nvPicPr>
        <p:blipFill>
          <a:blip r:embed="rId4"/>
          <a:stretch/>
        </p:blipFill>
        <p:spPr>
          <a:xfrm>
            <a:off x="581040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k-clf"/>
          <p:cNvPicPr/>
          <p:nvPr/>
        </p:nvPicPr>
        <p:blipFill>
          <a:blip r:embed="rId1"/>
          <a:stretch/>
        </p:blipFill>
        <p:spPr>
          <a:xfrm>
            <a:off x="80964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proh-dc"/>
          <p:cNvPicPr/>
          <p:nvPr/>
        </p:nvPicPr>
        <p:blipFill>
          <a:blip r:embed="rId2"/>
          <a:stretch/>
        </p:blipFill>
        <p:spPr>
          <a:xfrm>
            <a:off x="500076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bute-dc"/>
          <p:cNvPicPr/>
          <p:nvPr/>
        </p:nvPicPr>
        <p:blipFill>
          <a:blip r:embed="rId3"/>
          <a:stretch/>
        </p:blipFill>
        <p:spPr>
          <a:xfrm>
            <a:off x="80964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buoh-dc"/>
          <p:cNvPicPr/>
          <p:nvPr/>
        </p:nvPicPr>
        <p:blipFill>
          <a:blip r:embed="rId4"/>
          <a:stretch/>
        </p:blipFill>
        <p:spPr>
          <a:xfrm>
            <a:off x="500076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398160" y="1627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rbon-13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00360" y="2205000"/>
          <a:ext cx="3860640" cy="4308480"/>
        </p:xfrm>
        <a:graphic>
          <a:graphicData uri="http://schemas.openxmlformats.org/drawingml/2006/table">
            <a:tbl>
              <a:tblPr/>
              <a:tblGrid>
                <a:gridCol w="208908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-13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C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 </a:t>
                      </a: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CHCl (ci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79"/>
          <p:cNvSpPr/>
          <p:nvPr/>
        </p:nvSpPr>
        <p:spPr>
          <a:xfrm>
            <a:off x="4481640" y="544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5" descr="bond-2"/>
          <p:cNvPicPr/>
          <p:nvPr/>
        </p:nvPicPr>
        <p:blipFill>
          <a:blip r:embed="rId2"/>
          <a:stretch/>
        </p:blipFill>
        <p:spPr>
          <a:xfrm>
            <a:off x="3343320" y="3292560"/>
            <a:ext cx="13320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3851280" y="2997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11400" y="2224080"/>
            <a:ext cx="168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706360" y="2224080"/>
            <a:ext cx="189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C –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8512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3780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924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708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080" y="481644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coupling pře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5292720" y="4491000"/>
            <a:ext cx="2232000" cy="2112840"/>
            <a:chOff x="5292720" y="4491000"/>
            <a:chExt cx="2232000" cy="2112840"/>
          </a:xfrm>
        </p:grpSpPr>
        <p:sp>
          <p:nvSpPr>
            <p:cNvPr id="205" name="Line 14"/>
            <p:cNvSpPr/>
            <p:nvPr/>
          </p:nvSpPr>
          <p:spPr>
            <a:xfrm>
              <a:off x="5311800" y="4491000"/>
              <a:ext cx="144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8"/>
            <p:cNvGrpSpPr/>
            <p:nvPr/>
          </p:nvGrpSpPr>
          <p:grpSpPr>
            <a:xfrm>
              <a:off x="5292720" y="5013360"/>
              <a:ext cx="2232000" cy="1590480"/>
              <a:chOff x="5292720" y="5013360"/>
              <a:chExt cx="2232000" cy="1590480"/>
            </a:xfrm>
          </p:grpSpPr>
          <p:sp>
            <p:nvSpPr>
              <p:cNvPr id="207" name="Line 15"/>
              <p:cNvSpPr/>
              <p:nvPr/>
            </p:nvSpPr>
            <p:spPr>
              <a:xfrm>
                <a:off x="5292720" y="61423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6"/>
              <p:cNvSpPr/>
              <p:nvPr/>
            </p:nvSpPr>
            <p:spPr>
              <a:xfrm>
                <a:off x="7075440" y="62355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>
                <a:off x="6300720" y="5013360"/>
                <a:ext cx="0" cy="11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846160" y="1699560"/>
            <a:ext cx="32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trogen-14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43280" y="2276640"/>
          <a:ext cx="3460680" cy="3941640"/>
        </p:xfrm>
        <a:graphic>
          <a:graphicData uri="http://schemas.openxmlformats.org/drawingml/2006/table">
            <a:tbl>
              <a:tblPr/>
              <a:tblGrid>
                <a:gridCol w="168912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-14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id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e nucle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05440" y="132084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703600" y="1772640"/>
            <a:ext cx="39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hosphorous-31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84360" y="2637000"/>
          <a:ext cx="4140360" cy="3208320"/>
        </p:xfrm>
        <a:graphic>
          <a:graphicData uri="http://schemas.openxmlformats.org/drawingml/2006/table">
            <a:tbl>
              <a:tblPr/>
              <a:tblGrid>
                <a:gridCol w="236880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ous-31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r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)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phosphoric ac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05"/>
          <p:cNvSpPr/>
          <p:nvPr/>
        </p:nvSpPr>
        <p:spPr>
          <a:xfrm>
            <a:off x="4481640" y="4895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1040" y="136692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magnetického momentu M, gyromagnetický poměr γ, jaderný magneton μ, Planckova konstanta (Ћ = h/2Π) a rozlišovací faktor 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hmotnost jádra m a jeho náboj e jsou ve vz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 = γ.Ћ.√I(I+1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γ  = μ.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 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μ = e. Ћ/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ten určuje energii jednotlivých orientací v magnetickém poli intensity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-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.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γ.Ћ.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magnetické kvantové číslo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≡ I, (I-1) ... –(I-1), -I, počet 2I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I = ½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± 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energetický rozdíl mezi jednotlivými stavy (orientacemi vektoru spinu)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 = μ.g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B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riklad"/>
          <p:cNvPicPr/>
          <p:nvPr/>
        </p:nvPicPr>
        <p:blipFill>
          <a:blip r:embed="rId1"/>
          <a:stretch/>
        </p:blipFill>
        <p:spPr>
          <a:xfrm>
            <a:off x="1273320" y="1649520"/>
            <a:ext cx="6597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ypoxie"/>
          <p:cNvPicPr/>
          <p:nvPr/>
        </p:nvPicPr>
        <p:blipFill>
          <a:blip r:embed="rId1"/>
          <a:stretch/>
        </p:blipFill>
        <p:spPr>
          <a:xfrm>
            <a:off x="2195640" y="1341360"/>
            <a:ext cx="439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pH"/>
          <p:cNvPicPr/>
          <p:nvPr/>
        </p:nvPicPr>
        <p:blipFill>
          <a:blip r:embed="rId1"/>
          <a:stretch/>
        </p:blipFill>
        <p:spPr>
          <a:xfrm>
            <a:off x="3276720" y="1844640"/>
            <a:ext cx="3287520" cy="4265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68160" y="15764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intracelulárního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posunu sign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68160" y="157644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 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TP"/>
          <p:cNvPicPr/>
          <p:nvPr/>
        </p:nvPicPr>
        <p:blipFill>
          <a:blip r:embed="rId1"/>
          <a:stretch/>
        </p:blipFill>
        <p:spPr>
          <a:xfrm>
            <a:off x="1547640" y="2781360"/>
            <a:ext cx="61581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24000" y="1557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ATP1"/>
          <p:cNvPicPr/>
          <p:nvPr/>
        </p:nvPicPr>
        <p:blipFill>
          <a:blip r:embed="rId1"/>
          <a:stretch/>
        </p:blipFill>
        <p:spPr>
          <a:xfrm>
            <a:off x="2411280" y="1557360"/>
            <a:ext cx="6534360" cy="4443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42160" y="4581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AA-iodacet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glykjogen1"/>
          <p:cNvPicPr/>
          <p:nvPr/>
        </p:nvPicPr>
        <p:blipFill>
          <a:blip r:embed="rId1"/>
          <a:stretch/>
        </p:blipFill>
        <p:spPr>
          <a:xfrm>
            <a:off x="4932360" y="1916280"/>
            <a:ext cx="3370320" cy="41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glycogen"/>
          <p:cNvPicPr/>
          <p:nvPr/>
        </p:nvPicPr>
        <p:blipFill>
          <a:blip r:embed="rId2"/>
          <a:stretch/>
        </p:blipFill>
        <p:spPr>
          <a:xfrm>
            <a:off x="755640" y="2060640"/>
            <a:ext cx="35481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NMR-dusík"/>
          <p:cNvPicPr/>
          <p:nvPr/>
        </p:nvPicPr>
        <p:blipFill>
          <a:blip r:embed="rId1"/>
          <a:stretch/>
        </p:blipFill>
        <p:spPr>
          <a:xfrm>
            <a:off x="4284720" y="1700280"/>
            <a:ext cx="323676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97960" y="193680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milace amoniaku sled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484360" y="1989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484360" y="2133720"/>
            <a:ext cx="28796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484360" y="3429000"/>
            <a:ext cx="280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320920" y="53928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67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1835280" y="19159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257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076720" y="227664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52920" y="3013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504680" y="4797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633640" y="4024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725080" y="2060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+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520320" y="13413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Nepárový 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2200" y="2509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880" y="3284640"/>
            <a:ext cx="33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rozdíl ene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s Planck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 frekvence mikrov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faktor spin-orbitální intera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6680" y="2565360"/>
            <a:ext cx="39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jader v jednotlivých orient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1/N2 = exp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= 0,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479840" y="49579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= 0,1 – 0,5 T;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-1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33200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33200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80928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197440" y="3933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1692360" y="2529000"/>
            <a:ext cx="1439640" cy="1271520"/>
          </a:xfrm>
          <a:custGeom>
            <a:avLst/>
            <a:gdLst/>
            <a:ahLst/>
            <a:rect l="l" t="t" r="r" b="b"/>
            <a:pathLst>
              <a:path w="907" h="801">
                <a:moveTo>
                  <a:pt x="0" y="703"/>
                </a:moveTo>
                <a:cubicBezTo>
                  <a:pt x="64" y="718"/>
                  <a:pt x="128" y="733"/>
                  <a:pt x="181" y="703"/>
                </a:cubicBezTo>
                <a:cubicBezTo>
                  <a:pt x="234" y="673"/>
                  <a:pt x="279" y="628"/>
                  <a:pt x="317" y="522"/>
                </a:cubicBezTo>
                <a:cubicBezTo>
                  <a:pt x="355" y="416"/>
                  <a:pt x="378" y="136"/>
                  <a:pt x="408" y="68"/>
                </a:cubicBezTo>
                <a:cubicBezTo>
                  <a:pt x="438" y="0"/>
                  <a:pt x="461" y="7"/>
                  <a:pt x="499" y="113"/>
                </a:cubicBezTo>
                <a:cubicBezTo>
                  <a:pt x="537" y="219"/>
                  <a:pt x="567" y="605"/>
                  <a:pt x="635" y="703"/>
                </a:cubicBezTo>
                <a:cubicBezTo>
                  <a:pt x="703" y="801"/>
                  <a:pt x="862" y="703"/>
                  <a:pt x="9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411280" y="2205000"/>
            <a:ext cx="0" cy="1655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5435640" y="1916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514836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3"/>
          <p:cNvSpPr/>
          <p:nvPr/>
        </p:nvSpPr>
        <p:spPr>
          <a:xfrm>
            <a:off x="5651640" y="2421000"/>
            <a:ext cx="122544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0" y="590"/>
                </a:moveTo>
                <a:cubicBezTo>
                  <a:pt x="53" y="594"/>
                  <a:pt x="106" y="598"/>
                  <a:pt x="136" y="590"/>
                </a:cubicBezTo>
                <a:cubicBezTo>
                  <a:pt x="166" y="582"/>
                  <a:pt x="159" y="627"/>
                  <a:pt x="182" y="544"/>
                </a:cubicBezTo>
                <a:cubicBezTo>
                  <a:pt x="205" y="461"/>
                  <a:pt x="228" y="0"/>
                  <a:pt x="273" y="91"/>
                </a:cubicBezTo>
                <a:cubicBezTo>
                  <a:pt x="318" y="182"/>
                  <a:pt x="409" y="930"/>
                  <a:pt x="454" y="1089"/>
                </a:cubicBezTo>
                <a:cubicBezTo>
                  <a:pt x="499" y="1248"/>
                  <a:pt x="515" y="1134"/>
                  <a:pt x="545" y="1043"/>
                </a:cubicBezTo>
                <a:cubicBezTo>
                  <a:pt x="575" y="952"/>
                  <a:pt x="597" y="635"/>
                  <a:pt x="635" y="544"/>
                </a:cubicBezTo>
                <a:cubicBezTo>
                  <a:pt x="673" y="453"/>
                  <a:pt x="742" y="506"/>
                  <a:pt x="772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697280" y="186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/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716616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44040" y="1573200"/>
            <a:ext cx="399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ý moment rotujícího jád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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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gyromagnetický pomě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recess"/>
          <p:cNvPicPr/>
          <p:nvPr/>
        </p:nvPicPr>
        <p:blipFill>
          <a:blip r:embed="rId1"/>
          <a:stretch/>
        </p:blipFill>
        <p:spPr>
          <a:xfrm>
            <a:off x="1187280" y="3068640"/>
            <a:ext cx="223848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195800" y="3521160"/>
            <a:ext cx="4444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rotujícího magnetu v elektrick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rotace:  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– indukce mg.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96520" y="193680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pro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proton    I = ½     multiplicita = n + 1, intenzita píků 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3: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39440" y="1865160"/>
            <a:ext cx="41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v biochem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radikálů (peroxi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konformace – spinové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udium h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2916360" y="4076640"/>
          <a:ext cx="421956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42195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radikal"/>
          <p:cNvPicPr/>
          <p:nvPr/>
        </p:nvPicPr>
        <p:blipFill>
          <a:blip r:embed="rId1"/>
          <a:stretch/>
        </p:blipFill>
        <p:spPr>
          <a:xfrm>
            <a:off x="2340000" y="1628640"/>
            <a:ext cx="4038480" cy="1281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radikal1"/>
          <p:cNvPicPr/>
          <p:nvPr/>
        </p:nvPicPr>
        <p:blipFill>
          <a:blip r:embed="rId2"/>
          <a:stretch/>
        </p:blipFill>
        <p:spPr>
          <a:xfrm>
            <a:off x="2411280" y="3933720"/>
            <a:ext cx="403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EPR-rad"/>
          <p:cNvPicPr/>
          <p:nvPr/>
        </p:nvPicPr>
        <p:blipFill>
          <a:blip r:embed="rId1"/>
          <a:stretch/>
        </p:blipFill>
        <p:spPr>
          <a:xfrm>
            <a:off x="4211640" y="1773360"/>
            <a:ext cx="3816360" cy="3538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450720" y="20811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NADH-UQ reduk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2Fe2S potlač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FMN radikálu interfe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EPR-ferredox"/>
          <p:cNvPicPr/>
          <p:nvPr/>
        </p:nvPicPr>
        <p:blipFill>
          <a:blip r:embed="rId1"/>
          <a:stretch/>
        </p:blipFill>
        <p:spPr>
          <a:xfrm>
            <a:off x="3276720" y="1700280"/>
            <a:ext cx="5040360" cy="47973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235080" y="16477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ferredox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mořské ř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Fe-4S)1+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ý sign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EPRspektrum"/>
          <p:cNvPicPr/>
          <p:nvPr/>
        </p:nvPicPr>
        <p:blipFill>
          <a:blip r:embed="rId1"/>
          <a:stretch/>
        </p:blipFill>
        <p:spPr>
          <a:xfrm>
            <a:off x="3851280" y="1700280"/>
            <a:ext cx="322884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47840" y="1720800"/>
            <a:ext cx="376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cyt bc1 – mutant M183K, M18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3+ hem (3,78 = cyt bL 3,44, cyt b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94 bis-His cyt b nebo c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EPR-LP"/>
          <p:cNvPicPr/>
          <p:nvPr/>
        </p:nvPicPr>
        <p:blipFill>
          <a:blip r:embed="rId1"/>
          <a:stretch/>
        </p:blipFill>
        <p:spPr>
          <a:xfrm>
            <a:off x="4284720" y="1844640"/>
            <a:ext cx="286848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519120" y="172080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oxidace radikálů LDL vyvolaných 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radikálu tokoferolu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nmrflip"/>
          <p:cNvPicPr/>
          <p:nvPr/>
        </p:nvPicPr>
        <p:blipFill>
          <a:blip r:embed="rId1"/>
          <a:stretch/>
        </p:blipFill>
        <p:spPr>
          <a:xfrm>
            <a:off x="755640" y="1628640"/>
            <a:ext cx="2905200" cy="2210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2060640"/>
            <a:ext cx="41112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mezi dvěma energetick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působíme elm. pole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i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jde k rezonanci a přechodu n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971640" y="5661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900000" y="42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900000" y="515772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20920" y="4024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7308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247040" y="4816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 = 2,3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l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astoup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30000" y="2421000"/>
            <a:ext cx="81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mřížková rela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v excitovaném stavu se zbavuje energie relax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xační čas (střední doba života jader v excitovaném stavu) – T =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z-t"/>
          <p:cNvPicPr/>
          <p:nvPr/>
        </p:nvPicPr>
        <p:blipFill>
          <a:blip r:embed="rId1"/>
          <a:stretch/>
        </p:blipFill>
        <p:spPr>
          <a:xfrm>
            <a:off x="3059280" y="436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54720" y="1865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ínění jádra – 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espin"/>
          <p:cNvPicPr/>
          <p:nvPr/>
        </p:nvPicPr>
        <p:blipFill>
          <a:blip r:embed="rId1"/>
          <a:stretch/>
        </p:blipFill>
        <p:spPr>
          <a:xfrm>
            <a:off x="1258920" y="3429000"/>
            <a:ext cx="196200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5724360" y="2924280"/>
            <a:ext cx="648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7093080" y="306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300720" y="306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08480" y="352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8690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99480" y="4165560"/>
            <a:ext cx="25088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0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emický posun (pp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0:57:19Z</dcterms:created>
  <dc:creator>Mikeš</dc:creator>
  <dc:description/>
  <dc:language>en-US</dc:language>
  <cp:lastModifiedBy>Zbořil</cp:lastModifiedBy>
  <dcterms:modified xsi:type="dcterms:W3CDTF">2011-03-28T06:58:12Z</dcterms:modified>
  <cp:revision>49</cp:revision>
  <dc:subject/>
  <dc:title>Nukleární magnetická rezonance</dc:title>
</cp:coreProperties>
</file>