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BB66-C202-4184-A85B-09FC7C9C5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D088-29DA-41D9-8F2D-19B69553F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D39A1-71DE-429C-B92A-8FF9B8EE6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B6A0-91DA-4906-992C-D909489D0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EE76F-4021-4F6D-8E4F-592E27440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93726-D948-4D58-BB9D-70794D972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9797E-CDA5-422F-A253-C1DEAC61B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0EAA1-C947-4D04-860F-97C41A8E1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F3D7-DF25-4753-85AC-2A7722AB0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CF3CA-B85D-409E-ABB4-EC39E03EE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0BFAA-EB74-4AE4-B51B-B4A58D142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1594-A698-4599-A1B5-98371C6CC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599B4-DBA2-4C61-86AD-FD8ED176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BA94-CC20-42DC-903C-8C9C74773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6F74B-C7FA-4514-8518-9F5A7EC2D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4AA9F-A7F2-41F8-B08B-CCC73454F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6F7E8-BEDA-48DD-87DE-13329060D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01EAA-23E1-4C23-8B45-3A05D79E4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8CA8-2B80-4406-B148-ECA3BDFE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391AE-3539-4F1A-9B00-F96087861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4E290-9ECB-4A49-A51E-083723676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572F-46B6-485B-9661-9BD05A70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1CCA-9A9A-4A81-A096-946A9088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C65D-6140-48CF-980C-8E79FB459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AE23-19A0-43EB-A7A1-4D2EA52313C7}"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F445-E6CB-4E5F-8FD2-CE20D5110030}"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2120"/>
            <a:ext cx="7772400" cy="2666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3366"/>
                </a:solidFill>
                <a:latin typeface="Times New Roman"/>
              </a:rPr>
              <a:t>C6320 Chemická kinetika:</a:t>
            </a:r>
            <a:br>
              <a:rPr sz="4000"/>
            </a:br>
            <a:br>
              <a:rPr sz="4000"/>
            </a:br>
            <a:r>
              <a:rPr b="0" lang="cs-CZ" sz="4000" spc="-1" strike="noStrike">
                <a:solidFill>
                  <a:srgbClr val="003366"/>
                </a:solidFill>
                <a:latin typeface="Times New Roman"/>
              </a:rPr>
              <a:t>Historie chemické kinetiky</a:t>
            </a:r>
            <a:endParaRPr b="0" lang="en-US" sz="4000" spc="-1" strike="noStrike">
              <a:solidFill>
                <a:srgbClr val="003366"/>
              </a:solidFill>
              <a:latin typeface="Times New Roman"/>
            </a:endParaRPr>
          </a:p>
        </p:txBody>
      </p:sp>
      <p:sp>
        <p:nvSpPr>
          <p:cNvPr id="3" name="PlaceHolder 2"/>
          <p:cNvSpPr>
            <a:spLocks noGrp="1"/>
          </p:cNvSpPr>
          <p:nvPr>
            <p:ph type="ftr" idx="5"/>
          </p:nvPr>
        </p:nvSpPr>
        <p:spPr/>
        <p:txBody>
          <a:bodyPr/>
          <a:p>
            <a:r>
              <a:t>Sopousek, L01_02 Chemická kinetika</a:t>
            </a:r>
          </a:p>
        </p:txBody>
      </p:sp>
      <p:sp>
        <p:nvSpPr>
          <p:cNvPr id="4" name="PlaceHolder 3"/>
          <p:cNvSpPr>
            <a:spLocks noGrp="1"/>
          </p:cNvSpPr>
          <p:nvPr>
            <p:ph type="sldNum" idx="6"/>
          </p:nvPr>
        </p:nvSpPr>
        <p:spPr/>
        <p:txBody>
          <a:bodyPr/>
          <a:p>
            <a:fld id="{C7CE2794-4015-4F24-AF6A-A5E429EA08B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Historie chemické kinetiky</a:t>
            </a:r>
            <a:br>
              <a:rPr sz="4400"/>
            </a:br>
            <a:r>
              <a:rPr b="0" lang="cs-CZ" sz="1600" spc="-1" strike="noStrike">
                <a:solidFill>
                  <a:srgbClr val="ff0000"/>
                </a:solidFill>
                <a:latin typeface="ArialNarrow"/>
              </a:rPr>
              <a:t>Ref: "The World of Physical Chemistry," by K. J. Laidler, Oxford Univ. Press, 1993)</a:t>
            </a:r>
            <a:br>
              <a:rPr sz="1600"/>
            </a:br>
            <a:endParaRPr b="0" lang="en-US" sz="1600" spc="-1" strike="noStrike">
              <a:solidFill>
                <a:srgbClr val="003366"/>
              </a:solidFill>
              <a:latin typeface="Times New Roman"/>
            </a:endParaRPr>
          </a:p>
        </p:txBody>
      </p:sp>
      <p:sp>
        <p:nvSpPr>
          <p:cNvPr id="292" name="PlaceHolder 2"/>
          <p:cNvSpPr>
            <a:spLocks noGrp="1"/>
          </p:cNvSpPr>
          <p:nvPr>
            <p:ph/>
          </p:nvPr>
        </p:nvSpPr>
        <p:spPr>
          <a:xfrm>
            <a:off x="684360" y="1980720"/>
            <a:ext cx="785016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50: Wilhelmy (Germany) studied the rate of inversion of sucrose (hydrolysis into D-(+)-glucose and D-(-)-fructose in the presence of an acid) and found it to be proportional to the concentrations of both the sugar and the acid. (viz experimentální úloha v praktiku fyzikální chemie) </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64: Guldberg and Waage (Norway) formulated their "law of mass action," according to which the reaction "forces" are proportional to the product of the concentrations of the reactants: K=[R]r [S]s/([A]a [B]b) where a, b, r and s are the stoichiometric coefficients in the chemica equation A+B=R+S. So the rate of the forward reaction is proportional to [A]a [B]b and that of the reverse reaction is proportional to {R]r [S]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69657FA-08D1-4F86-B7BF-2D5996DF4E65}"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65: Harcourt and Esson (UK) analyzed the reactions between H2O2 and HI and between KMnO4 and (COOH)2. They wrote the corresponding differential equations, integrated them and determined the concentration vs. time relationships. They also proposed an equation for the temperature dependence of the reaction rate, k = A TC.</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4: van't Hoff (The Netherlands) published his "Studies of Chemical Dynamics" (Études de dynamique chimique), in which he generalized and further developed the work of Wilhelmy,</a:t>
            </a:r>
            <a:endParaRPr b="0" lang="en-US" sz="2000" spc="-1" strike="noStrike">
              <a:solidFill>
                <a:srgbClr val="0033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D0CF17C1-DA42-4304-BCF8-9A2164D1D393}"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Harcourt and Esson. In particular, he introduced the differential method of analysis. He also analyzed the temperature dependence of the equilibrium constant (now called the "van't Hoff equation") and of forward and reverse reaction rate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7: Ostwald (Germany; Latvia) introduces the terms "reaction order" and "half-life" in his "Lehrbuch der allgemeinen Chemie.„</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9: Arrhenius (Sweden) further analyzed the temperature dependence of reaction rate, k = A exp(-B/T), and gave it an "energy barrier" interpretation; this is now called the "Arrhenius equation."</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9E39FE77-58FE-4B0F-8471-DF3FA67830C6}"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Mentenová (Maude Lenora Menten, *1879)</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  </a:t>
            </a:r>
            <a:r>
              <a:rPr b="1" lang="cs-CZ" sz="2400" spc="-1" strike="noStrike">
                <a:solidFill>
                  <a:srgbClr val="003366"/>
                </a:solidFill>
                <a:latin typeface="Arial"/>
              </a:rPr>
              <a:t>Michaelis-Menten equation (1912), enzymová kinetika (profesorkou v 79-ti letech)</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96" name="Menten" descr=""/>
          <p:cNvPicPr/>
          <p:nvPr/>
        </p:nvPicPr>
        <p:blipFill>
          <a:blip r:embed="rId1"/>
          <a:stretch/>
        </p:blipFill>
        <p:spPr>
          <a:xfrm>
            <a:off x="4572000" y="2133720"/>
            <a:ext cx="3429000" cy="4022640"/>
          </a:xfrm>
          <a:prstGeom prst="rect">
            <a:avLst/>
          </a:prstGeom>
          <a:ln w="0">
            <a:noFill/>
          </a:ln>
        </p:spPr>
      </p:pic>
      <p:sp>
        <p:nvSpPr>
          <p:cNvPr id="3" name="PlaceHolder 2"/>
          <p:cNvSpPr>
            <a:spLocks noGrp="1"/>
          </p:cNvSpPr>
          <p:nvPr>
            <p:ph type="sldNum" idx="3"/>
          </p:nvPr>
        </p:nvSpPr>
        <p:spPr/>
        <p:txBody>
          <a:bodyPr/>
          <a:p>
            <a:fld id="{098AF1A7-F99A-4180-8301-125E0D85223A}"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Termodynamika</a:t>
            </a:r>
            <a:endParaRPr b="0" lang="en-US" sz="4400" spc="-1" strike="noStrike">
              <a:solidFill>
                <a:srgbClr val="003366"/>
              </a:solidFill>
              <a:latin typeface="Times New Roman"/>
            </a:endParaRPr>
          </a:p>
        </p:txBody>
      </p:sp>
      <p:pic>
        <p:nvPicPr>
          <p:cNvPr id="298" name="" descr=""/>
          <p:cNvPicPr/>
          <p:nvPr/>
        </p:nvPicPr>
        <p:blipFill>
          <a:blip r:embed="rId1"/>
          <a:stretch/>
        </p:blipFill>
        <p:spPr>
          <a:xfrm>
            <a:off x="380880" y="1523880"/>
            <a:ext cx="8534520" cy="4002120"/>
          </a:xfrm>
          <a:prstGeom prst="rect">
            <a:avLst/>
          </a:prstGeom>
          <a:ln w="0">
            <a:noFill/>
          </a:ln>
        </p:spPr>
      </p:pic>
      <p:sp>
        <p:nvSpPr>
          <p:cNvPr id="3" name="PlaceHolder 2"/>
          <p:cNvSpPr>
            <a:spLocks noGrp="1"/>
          </p:cNvSpPr>
          <p:nvPr>
            <p:ph type="sldNum" idx="3"/>
          </p:nvPr>
        </p:nvSpPr>
        <p:spPr/>
        <p:txBody>
          <a:bodyPr/>
          <a:p>
            <a:fld id="{F2F4529B-6381-4F5F-8AFA-3F4E7C8B6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Shrnutí poznatků z historie</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2587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Řada pojmů a představ se kterými se setkáváme v chemické kinetice je již dlouho známých.</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Získání některých kinetických informací je velmi náročné (mechanismy reakcí, reakční koordináta,…)</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Moderní kinetika je interdisciplinární (biochemická kinetika, molekulová dynamika , kvantová chemie)</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E3232BA3-A533-4F55-AD3A-B348883606BF}"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Literatura</a:t>
            </a:r>
            <a:endParaRPr b="0" lang="en-US" sz="4400" spc="-1" strike="noStrike">
              <a:solidFill>
                <a:srgbClr val="003366"/>
              </a:solidFill>
              <a:latin typeface="Times New Roman"/>
            </a:endParaRPr>
          </a:p>
        </p:txBody>
      </p:sp>
      <p:sp>
        <p:nvSpPr>
          <p:cNvPr id="302" name=""/>
          <p:cNvSpPr/>
          <p:nvPr/>
        </p:nvSpPr>
        <p:spPr>
          <a:xfrm>
            <a:off x="609480" y="18288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Významné ženy a muži vědy:</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http://jchemed.chem.wisc.edu/JCEWWW/Features/eChemists/Bios/Menten.htm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F77D2304-A229-4DC0-BCDA-AA64E22F116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ušek Jiří</cp:lastModifiedBy>
  <dcterms:modified xsi:type="dcterms:W3CDTF">2011-02-24T08:36:02Z</dcterms:modified>
  <cp:revision>22</cp:revision>
  <dc:subject/>
  <dc:title>Prezentace aplikace PowerPoint</dc:title>
</cp:coreProperties>
</file>