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954-21F5-4790-AD34-27410445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C63-9CA9-43A9-96E3-96B20B48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BE7-9428-4455-BBF5-551E5E89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71C-0288-4F1E-80DF-820405BB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8AC6-A359-4958-B457-545836EA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3352-E056-4481-AB2F-D4E119B4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E32E-9C13-47EC-8F8C-79CF8415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5D5E-6F0F-4AE6-AB0C-0C1E032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F62F-F6DC-4874-80A5-C551413D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18A6-8091-4768-ACF1-DE8AD19E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BA53-5631-4BC1-9185-01ABFB09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F6C-5B42-42E9-9D8F-80D6C3EA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9392-94BF-4EF6-AE07-2AD47A22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8863-40DF-4BA2-8E07-BEB3425A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44A2-5776-4F1C-B1DE-71C0CD1C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9B69-B90A-4215-AC63-79CDDCDF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5C2E-7774-4685-89F5-E9BFE76B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599-7ED3-4894-BE8E-368698D1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D11-A2FE-4799-89C4-CE8EEE47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A98-4EB0-4761-B9F4-E839B583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656-1C71-4312-9150-02EDEE84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99A-5E18-432D-A4D2-85F738F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AD7-3B51-4F0B-B2A7-75AF8DD6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22A-C344-4B13-B5C1-BF16C6C0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662D-F5DB-4E25-880B-BBADD2C8B96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750E-101D-4C83-8E2B-CEDFAFF6E9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č probíhají chemické reak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6FD4-AC04-49CC-B58B-D09F384A96D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FB2-7EEB-4963-9397-323239CB1F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termodynamických funkcí a samovol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AB3-FA19-4F1A-AACE-FE34D1E497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bilita sádrov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C2F-7145-4B69-9EE6-642164760A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609480"/>
            <a:ext cx="7545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počty reakčních termodynamických funkc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4290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alogicky pro entalpii a entrop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1C3-25C0-493E-BD59-88A63DD745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9960" y="304560"/>
            <a:ext cx="76215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fektivita buň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0AD-2D08-4CA4-B44F-B161205E9D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697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vnovážná konstanta a reakční Gibbsova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D69-7573-4CD8-8677-2EBA12367D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7:03Z</dcterms:modified>
  <cp:revision>21</cp:revision>
  <dc:subject/>
  <dc:title>Prezentace aplikace PowerPoint</dc:title>
</cp:coreProperties>
</file>