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2AC57-558B-41BB-902A-5FCE7A0F359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"/>
              </a:rPr>
              <a:t>Zjistěte od posluchačů, co je zajímá a všechny ostatní skutečnosti, které můžete během školení využí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"/>
              </a:rPr>
              <a:t>Zjistěte od posluchačů, co je zajímá a všechny ostatní skutečnosti, které můžete během školení využí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5B47-5928-4340-9E94-D76441252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6548-3ACD-4748-93C0-61F8230EE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620A-F29B-4B5F-A0C4-CF1B5DECE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9A34-EC29-4B14-9911-10D372415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7D1BE-4713-4E51-AF01-F88584B67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08514-EE19-46A6-B5E6-C5588C5C0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2E11B-9792-44E1-9E65-B356C8717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63511-AA37-4ECD-85DC-63F39E2D3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70C1C-89D8-45F5-9F46-2EBDE8E65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AD73C-B73A-4BC0-9DC0-F059F34CF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09634-6A65-4C62-9FFC-56A26BDC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9D12-AFB9-4126-BC56-E08E29133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41EEC-1527-4914-AB1F-0E78A257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8C09F-3E28-4C1C-A0BE-DF71DBD4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B38F9-8225-4915-BF68-E61C99AF0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B4451-0ECB-4173-9D55-B22BB0328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E1023-62B3-46C4-ACF0-095631FED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EF8F-9FD5-43EF-ACCF-584634FF8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841C-980C-48AE-8319-0D41D17BB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75F7-65B1-4F10-8AFA-883423277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A1D0-9269-403C-AB38-812105D3B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0B18-86EC-410E-8F18-0EEAAB0D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5260-ADB1-4980-993A-82A40BA6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2325-B594-405F-B959-01E3844FB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5C6A8-1EE4-4749-B6F4-E6C44F4CDD34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E3E7C-2242-4E39-A6EE-A1C2362EB40E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sopousek@chemi.muni.cz" TargetMode="External"/><Relationship Id="rId2" Type="http://schemas.openxmlformats.org/officeDocument/2006/relationships/hyperlink" Target="mailto:sopousek@chemi.muni.cz" TargetMode="External"/><Relationship Id="rId3" Type="http://schemas.openxmlformats.org/officeDocument/2006/relationships/hyperlink" Target="mailto:sopousek@chemi.muni.cz" TargetMode="External"/><Relationship Id="rId4" Type="http://schemas.openxmlformats.org/officeDocument/2006/relationships/hyperlink" Target="mailto:sopousek@chemi.muni.cz" TargetMode="External"/><Relationship Id="rId5" Type="http://schemas.openxmlformats.org/officeDocument/2006/relationships/hyperlink" Target="mailto:sopousek@chemi.muni.cz" TargetMode="External"/><Relationship Id="rId6" Type="http://schemas.openxmlformats.org/officeDocument/2006/relationships/hyperlink" Target="mailto:sopousek@chemi.muni.cz" TargetMode="External"/><Relationship Id="rId7" Type="http://schemas.openxmlformats.org/officeDocument/2006/relationships/hyperlink" Target="mailto:sopousek@chemi.muni.cz" TargetMode="External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C6320 Chemická kinetika</a:t>
            </a:r>
            <a:br>
              <a:rPr sz="4400"/>
            </a:br>
            <a:br>
              <a:rPr sz="4400"/>
            </a:b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Úvodní hodin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opousek, L01_01 Chemická kinetik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2B955-CB6B-4BAF-8B91-AE3DD82C452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ffff"/>
                </a:solidFill>
                <a:latin typeface="Times New Roman"/>
              </a:rPr>
              <a:t>P5: Experiment. Vsádkový, 05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77" name="7c_zmydelneni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5105520" y="4495680"/>
            <a:ext cx="388764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ff"/>
                </a:solidFill>
                <a:latin typeface="Times New Roman"/>
              </a:rPr>
              <a:t>S5: Řešení technických problémů s experimentem v praxi</a:t>
            </a:r>
            <a:r>
              <a:rPr b="1" lang="cs-CZ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6920-8FBF-475D-BAFA-75C3481ADDA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P6: Reakce katalyzované 1: homogenní katalýza, acidobazická katalýza, autokatalýza, enzymová katalýza, rovnice Michalisova-Mentenové, nestacionární kinetika, integrovaná rovnice Michaelisova-Mentenové, složité enzymové reakce (Clelandova symbolika, Kingova-Altmanova metoda), inhibic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2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6705720" cy="4016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638680" y="5638680"/>
            <a:ext cx="308628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Fig 3. </a:t>
            </a:r>
            <a:r>
              <a:rPr b="1" lang="cs-CZ" sz="1800" spc="-1" strike="noStrike">
                <a:solidFill>
                  <a:srgbClr val="3333ff"/>
                </a:solidFill>
                <a:latin typeface="Arial"/>
              </a:rPr>
              <a:t>Určení konstanty Michaelis – Mentenové 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  <a:ea typeface="Arial"/>
              </a:rPr>
              <a:t>Km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7D91-C28A-48B7-B27B-734B12F3433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848720" cy="27432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ff"/>
                </a:solidFill>
                <a:latin typeface="Times New Roman"/>
              </a:rPr>
              <a:t>P7: Reakce katalyzované 2: heterogenní katalýza, chemisorpce a pokrytí povrchu, adsorpční izotermy (Langmuirova, BET, Freundlichova, Temkinova), uni a bimolekulární reakce na povrchu, inhibice produktem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ff"/>
                </a:solidFill>
                <a:latin typeface="Times New Roman"/>
              </a:rPr>
              <a:t>P8: Reakce řetězové: iniciace, propagace, terminace, reakce radikálové, reakce větvené, polymerace, hoření, exploz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cat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4800600" cy="38178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5791320" y="5562720"/>
            <a:ext cx="2817720" cy="916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ff"/>
                </a:solidFill>
                <a:latin typeface="Georgia"/>
              </a:rPr>
              <a:t>Figure 1.10: Mechanisms of ethylene hydrogen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266840" y="5867280"/>
            <a:ext cx="6608880" cy="266400"/>
            <a:chOff x="1266840" y="5867280"/>
            <a:chExt cx="6608880" cy="266400"/>
          </a:xfrm>
        </p:grpSpPr>
        <p:sp>
          <p:nvSpPr>
            <p:cNvPr id="186" name=""/>
            <p:cNvSpPr/>
            <p:nvPr/>
          </p:nvSpPr>
          <p:spPr>
            <a:xfrm>
              <a:off x="1311120" y="5911560"/>
              <a:ext cx="65199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266840" y="5867280"/>
              <a:ext cx="6608880" cy="26640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7072-DB65-408E-9E72-755BA3E8295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66"/>
                </a:solidFill>
                <a:latin typeface="Times New Roman"/>
              </a:rPr>
              <a:t>P9: Reakce oscilující: oscilátory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 (Lotka-Volterra, Brusselátor, Oregonátor), limitní cyklus, rekurentní rovnice Metody relaxační: teplotní, tlakový skok, ultrazvuk, mikrovlny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Oscilace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6553440" cy="451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9F63-FB8C-4250-8CEC-1BD9244FEB5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533160" y="228600"/>
            <a:ext cx="83818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P10: Závislost rychlostní konstanty na teplotě 1: Arrheniova rovnice, srážková teorie, pravděpodobnostní faktor, Lindemannova teorie unimolekulárních reakcí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P11: Závislost rychlostní konstanty na teplotě 2: plochy potenciální energie aktivovaný komplex, Eyringova rovnice, reakční termodynamika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P12: Mechanismy difúze. Látkové toky a difúzní koeficienty. 1 a 2. Fickův zákon. Analytické a numerické řešení difúzních rovnic, okrajové podmínky. Difúze v~neideálních soustavách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952880" y="4019400"/>
            <a:ext cx="3733920" cy="2288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imes New Roman"/>
              </a:rPr>
              <a:t>Figure 3</a:t>
            </a:r>
            <a:r>
              <a:rPr b="1" lang="cs-CZ" sz="1800" spc="-1" strike="noStrike">
                <a:solidFill>
                  <a:srgbClr val="3333ff"/>
                </a:solidFill>
                <a:latin typeface="Times New Roman"/>
              </a:rPr>
              <a:t>:</a:t>
            </a:r>
            <a:r>
              <a:rPr b="1" lang="en-US" sz="1800" spc="-1" strike="noStrike">
                <a:solidFill>
                  <a:srgbClr val="3333ff"/>
                </a:solidFill>
                <a:latin typeface="Times New Roman"/>
              </a:rPr>
              <a:t> During the first minute of exposure the concentration profile in the tube is more steep at the opening than deeper in the tube. Shown here is the profile after 5 seconds. As a result of Fick's Law the mass flow is larger at the opening than deeper insid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Image6" descr=""/>
          <p:cNvPicPr/>
          <p:nvPr/>
        </p:nvPicPr>
        <p:blipFill>
          <a:blip r:embed="rId1"/>
          <a:stretch/>
        </p:blipFill>
        <p:spPr>
          <a:xfrm>
            <a:off x="990720" y="3733920"/>
            <a:ext cx="3809880" cy="298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FA3B-77A5-4B80-8E09-112CD6BECCE2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P13: Elektrodová kinetika Mechanismus přenosu elektronu v~homogenním a v~heterogenním prostředí (na rozhraní elektroda/roztok), Marcusova teorie, přepětí, Butlerova a Volmerova rovnice, koeficient přenosu náboje,rychlost elektrodové reakce, elektrodový proces s~chemickou reakcí (předřazená, vřazená a následná chemická reakce), heterogenní rychlostní konstanta, vyhodnocení heterogenních rychlostních, konstant pomocí běžných elektrochemických metod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715000" y="3429000"/>
            <a:ext cx="3124080" cy="916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imes New Roman"/>
              </a:rPr>
              <a:t>Figure 1: Schematic of the electrode-electrolyte interface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fig1" descr=""/>
          <p:cNvPicPr/>
          <p:nvPr/>
        </p:nvPicPr>
        <p:blipFill>
          <a:blip r:embed="rId1"/>
          <a:srcRect l="0" t="6667" r="0" b="6667"/>
          <a:stretch/>
        </p:blipFill>
        <p:spPr>
          <a:xfrm>
            <a:off x="457200" y="3317760"/>
            <a:ext cx="4800600" cy="3113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E2AA-27B0-487F-8392-6935F571EB3D}" type="slidenum">
              <a:t>15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1360" y="30456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Organizace přednášky: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Garant a vyučující: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Doc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RNDr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iří Sopoušek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CSc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l. 549497138, </a:t>
            </a:r>
            <a:r>
              <a:rPr b="0" lang="cs-CZ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sopousek</a:t>
            </a:r>
            <a:r>
              <a:rPr b="0" lang="cs-CZ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cs-CZ" sz="2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chemi</a:t>
            </a:r>
            <a:r>
              <a:rPr b="0" lang="cs-CZ" sz="2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cs-CZ" sz="2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muni</a:t>
            </a:r>
            <a:r>
              <a:rPr b="0" lang="cs-CZ" sz="28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.</a:t>
            </a:r>
            <a:r>
              <a:rPr b="0" lang="cs-CZ" sz="28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cz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Ústav chemi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UKB, bu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A1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kan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c. 23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rerekvizity: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solvování přednášek Fyzik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hemie I a II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Times New Roman"/>
              </a:rPr>
              <a:t>Podmínky ke připuštění ke zkoušce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ffcc00"/>
                </a:solidFill>
                <a:latin typeface="Times New Roman"/>
              </a:rPr>
              <a:t>- prokázání schopnosti samostatně řešit modelové    problém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cc00"/>
                </a:solidFill>
                <a:latin typeface="Times New Roman"/>
              </a:rPr>
              <a:t>    </a:t>
            </a:r>
            <a:r>
              <a:rPr b="1" lang="cs-CZ" sz="2800" spc="-1" strike="noStrike">
                <a:solidFill>
                  <a:srgbClr val="ffcc00"/>
                </a:solidFill>
                <a:latin typeface="Times New Roman"/>
              </a:rPr>
              <a:t>- získání zápočtu ze semináře C63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AF54-5A12-4F1D-82C3-775B8584B36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Organizace semináře:</a:t>
            </a:r>
            <a:br>
              <a:rPr sz="4400"/>
            </a:b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C6330 Chemická kinetik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Vyučující: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Doc. Jiří Sopoušek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Obsah cvičení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cc00"/>
                </a:solidFill>
                <a:latin typeface="Times New Roman"/>
              </a:rPr>
              <a:t>Praktické procvičování učiva probraného na přednášce (kalkulačku sebou, práce s P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cc00"/>
                </a:solidFill>
                <a:latin typeface="Times New Roman"/>
              </a:rPr>
              <a:t>Vyhodnocování příkladů experimentálního měření (viz např. měření praktika fyzikální chemie, nebo videa z internetu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cc00"/>
                </a:solidFill>
                <a:latin typeface="Times New Roman"/>
              </a:rPr>
              <a:t>Používání software urychlujícího práci (zejména EXCE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cc00"/>
                </a:solidFill>
                <a:latin typeface="Times New Roman"/>
              </a:rPr>
              <a:t>Osvojení si vyhledávat potřebné informace (internet, , wifi internet připojení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Podmínky získání zápočtu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cs-CZ" sz="2400" spc="-1" strike="noStrike">
                <a:solidFill>
                  <a:srgbClr val="ffcc00"/>
                </a:solidFill>
                <a:latin typeface="Times New Roman"/>
              </a:rPr>
              <a:t> Znalost probírané tématiky dle sylabu přednášky C63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ffcc00"/>
                </a:solidFill>
                <a:latin typeface="Times New Roman"/>
              </a:rPr>
              <a:t>- </a:t>
            </a:r>
            <a:r>
              <a:rPr b="1" lang="cs-CZ" sz="2400" spc="-1" strike="noStrike">
                <a:solidFill>
                  <a:srgbClr val="ffcc00"/>
                </a:solidFill>
                <a:latin typeface="Times New Roman"/>
              </a:rPr>
              <a:t>Vypracování zápočtových příkladů  a identifikace kinetického vid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4294-3B08-49DE-9845-3DDC337C495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Doporučená literatur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eindl, Ľudovít.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mická kinetika [Treindl, 1990]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2. přeprac. vyd. Bratislava : Slovenské pedagogické nakladateĺstvo, 1990. 34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kins, P. W.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ysical chemistry</a:t>
            </a:r>
            <a:r>
              <a:rPr b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6th ed. Oxford : Oxford University Press, 1998. xvi, 1014. ISBN 0-19-850101-3.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R. I. Masel: Chemical kinetics and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atalysis, John Wiley &amp; Sons, 2001,  ISBN 0-471-24197-0.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. Wilkinson, Chemical Kinetics and reaction Mechanism, Van Nostrand Reinhold, New York 1980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Times New Roman"/>
              </a:rPr>
              <a:t>J. Olmsted III, G. M. Williams: Chemistry – The Molekular Science, Moshby – Year Book, Inc., 199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J. Vohlídal, Chemická kinetika, Karolinum, Praha 2001</a:t>
            </a:r>
            <a:r>
              <a:rPr b="1" lang="cs-CZ" sz="2000" spc="-1" strike="noStrike">
                <a:solidFill>
                  <a:srgbClr val="ffcc00"/>
                </a:solidFill>
                <a:latin typeface="Times New Roman"/>
              </a:rPr>
              <a:t> (script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2D5F-B0D8-4440-9B60-8384844549D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cc00"/>
                </a:solidFill>
                <a:latin typeface="Times New Roman"/>
              </a:rPr>
              <a:t>Příkladník z fyzikální chemie VŠChT: http://www.vscht.cz/fch/prikladnik/prikladnik/p.html</a:t>
            </a:r>
            <a:r>
              <a:rPr b="1" lang="cs-CZ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4E4B-EFB4-48AB-B24D-7408CD9A53C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1360" y="228600"/>
            <a:ext cx="8078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ffff"/>
                </a:solidFill>
                <a:latin typeface="Times New Roman"/>
              </a:rPr>
              <a:t>Osnova přednášky a seminář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47640" y="11430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69360" indent="-36936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L1: Úvodní hodina. Proč probíhají chemické reakce? Jak můžeme jejich rychlost popisovat? 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ákladní pojmy chemické kinetiky</a:t>
            </a: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. Typy chemických reakcí, elementární reakce, molekulari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image113" descr=""/>
          <p:cNvPicPr/>
          <p:nvPr/>
        </p:nvPicPr>
        <p:blipFill>
          <a:blip r:embed="rId1"/>
          <a:stretch/>
        </p:blipFill>
        <p:spPr>
          <a:xfrm>
            <a:off x="685800" y="2438280"/>
            <a:ext cx="4994280" cy="40118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172200" y="2933640"/>
            <a:ext cx="2971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S1: Procvičování základní termodynamik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43600" y="55627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Times New Roman"/>
              </a:rPr>
              <a:t>Figure PRS.3C-3</a:t>
            </a:r>
            <a:r>
              <a:rPr b="0" lang="en-US" sz="1800" spc="-1" strike="noStrike">
                <a:solidFill>
                  <a:srgbClr val="33cc33"/>
                </a:solidFill>
                <a:latin typeface="Times New Roman"/>
              </a:rPr>
              <a:t>  Potential energy surfac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3ACE-2CAE-4237-90D1-2A585CC3A4D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P2: Rychlost reakce, rozsah reakce,rychlostní rovnice, řád reakce. Reakce jednosměrné (1. a 2. řádu, následné, simultánní, následné,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2133720"/>
            <a:ext cx="4572000" cy="4305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ff"/>
                </a:solidFill>
                <a:latin typeface="Times New Roman"/>
              </a:rPr>
              <a:t>Table: Rates of Bimolecular Atmospheric Gas Reactions at 298.15 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Reaction Rate Constant k m3/mol 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O + O3 --+ 2O2 </a:t>
            </a:r>
            <a:r>
              <a:rPr b="0" lang="cs-CZ" sz="1800" spc="-1" strike="noStrike">
                <a:solidFill>
                  <a:srgbClr val="6666ff"/>
                </a:solidFill>
                <a:latin typeface="Arial Unicode MS"/>
              </a:rPr>
              <a:t>	</a:t>
            </a:r>
            <a:r>
              <a:rPr b="0" lang="cs-CZ" sz="1800" spc="-1" strike="noStrike">
                <a:solidFill>
                  <a:srgbClr val="6666ff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5.7 x 10+3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OH + OH --+ H2O + O </a:t>
            </a:r>
            <a:r>
              <a:rPr b="0" lang="cs-CZ" sz="1800" spc="-1" strike="noStrike">
                <a:solidFill>
                  <a:srgbClr val="6666ff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1.1 x 10+6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OH + H2 --+ H2O + H </a:t>
            </a:r>
            <a:r>
              <a:rPr b="0" lang="cs-CZ" sz="1800" spc="-1" strike="noStrike">
                <a:solidFill>
                  <a:srgbClr val="6666ff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4.3 x 10+3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N + O2 --+ NO + O </a:t>
            </a:r>
            <a:r>
              <a:rPr b="0" lang="cs-CZ" sz="1800" spc="-1" strike="noStrike">
                <a:solidFill>
                  <a:srgbClr val="6666ff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5.4 x 10+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N + NO --+ N2 + O </a:t>
            </a:r>
            <a:r>
              <a:rPr b="0" lang="cs-CZ" sz="1800" spc="-1" strike="noStrike">
                <a:solidFill>
                  <a:srgbClr val="6666ff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2.0 x 10+7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N + NO2 --+ N2O + O </a:t>
            </a:r>
            <a:r>
              <a:rPr b="0" lang="cs-CZ" sz="1800" spc="-1" strike="noStrike">
                <a:solidFill>
                  <a:srgbClr val="6666ff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8.4 x 10+5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O + NO3 --+ O2 + NO2 </a:t>
            </a:r>
            <a:r>
              <a:rPr b="0" lang="cs-CZ" sz="1800" spc="-1" strike="noStrike">
                <a:solidFill>
                  <a:srgbClr val="6666ff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6.0 x 10+6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OH + CH4 --+ H2O + CH3 </a:t>
            </a:r>
            <a:r>
              <a:rPr b="0" lang="cs-CZ" sz="1800" spc="-1" strike="noStrike">
                <a:solidFill>
                  <a:srgbClr val="6666ff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4.8 x 10+3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Cl + H2 --+ HCl + H </a:t>
            </a:r>
            <a:r>
              <a:rPr b="0" lang="cs-CZ" sz="1800" spc="-1" strike="noStrike">
                <a:solidFill>
                  <a:srgbClr val="6666ff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1.1 x 10+4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Cl + O3 --+ ClO + O2 </a:t>
            </a:r>
            <a:r>
              <a:rPr b="0" lang="cs-CZ" sz="1800" spc="-1" strike="noStrike">
                <a:solidFill>
                  <a:srgbClr val="6666ff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6666ff"/>
                </a:solidFill>
                <a:latin typeface="Arial Unicode MS"/>
              </a:rPr>
              <a:t>7.2 x 10+6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4120" y="1905120"/>
            <a:ext cx="3581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S2: Příklady na analytické a numerické řešeni reakčních schémat jednosměrných reakcí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7CFA-8C0B-48FA-BF42-2E2862C3A4A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40388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46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6320" indent="-34632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P3: Určení řádu reakce: metoda integrální, metoda zlomkových časů (poločas reakce, střední doba života), metody cílených experimentů (metoda izolační, metoda počátečních rychlostí)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3276720"/>
            <a:ext cx="419112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 fontScale="92000"/>
          </a:bodyPr>
          <a:p>
            <a:pPr marL="350280" indent="-3502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0280" indent="-3502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S3: Numerické řešení reakčních schémat a jejich grafická vizualizace. Určení řádu reakce z experimentálních dat. Lineární a nelineární regrese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191120" y="380880"/>
            <a:ext cx="4746600" cy="38941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648320" y="4724280"/>
            <a:ext cx="3794040" cy="779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ff"/>
                </a:solidFill>
                <a:latin typeface="Arial"/>
                <a:ea typeface="Arial"/>
              </a:rPr>
              <a:t>Figure:  </a:t>
            </a:r>
            <a:r>
              <a:rPr b="1" lang="cs-CZ" sz="1800" spc="-1" strike="noStrike">
                <a:solidFill>
                  <a:srgbClr val="6666ff"/>
                </a:solidFill>
                <a:latin typeface="Times New Roman"/>
              </a:rPr>
              <a:t>Následná nevratná reakce prvního řádu</a:t>
            </a:r>
            <a:r>
              <a:rPr b="1" lang="en-US" sz="1800" spc="-1" strike="noStrike">
                <a:solidFill>
                  <a:srgbClr val="6666ff"/>
                </a:solidFill>
                <a:latin typeface="Arial"/>
                <a:ea typeface="Arial"/>
              </a:rPr>
              <a:t>  A --&gt; B --&gt; 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                                                                                          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5F7E-CADE-4D12-A974-D2C725EDF39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51920" y="380880"/>
            <a:ext cx="89917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P4: Reakce vratné: dynamická rovnováha, stacionární stav, rovnovážná konstanta, rychlostní rovnice lineární a exponenciální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p02154g1" descr=""/>
          <p:cNvPicPr/>
          <p:nvPr/>
        </p:nvPicPr>
        <p:blipFill>
          <a:blip r:embed="rId1"/>
          <a:stretch/>
        </p:blipFill>
        <p:spPr>
          <a:xfrm>
            <a:off x="609480" y="2514600"/>
            <a:ext cx="3962520" cy="38876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4572000" y="2666880"/>
            <a:ext cx="4572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S4: Příklady a numerické řešení reakcí s vratným a paralelním krok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0E69-447A-488A-918C-1F543E0A007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poušek Jiří</cp:lastModifiedBy>
  <dcterms:modified xsi:type="dcterms:W3CDTF">2010-02-22T13:47:54Z</dcterms:modified>
  <cp:revision>30</cp:revision>
  <dc:subject/>
  <dc:title>Prezentace aplikace PowerPoint</dc:title>
</cp:coreProperties>
</file>