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189B-5035-4EA0-8C95-9EC038A7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C617-7594-42AB-AEF1-C54ED088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8C04-62AD-4984-93BB-195278F76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0EE8-AA6C-4F13-AE20-6722A7FA7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818B-7F5B-4AB2-BF47-496DAD91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CAFF-8EE6-4D59-A991-D505E4795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ACD9-A521-4485-A50C-3B86B43F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C7CA-57CE-4CC1-974A-872CB039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9CF0-83D1-47B4-89F1-C73B9A89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F1C5-CA1E-4F8B-B6F8-E4BFDF67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FB99-2340-497C-A492-EF9AAF18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A06-224E-4339-8AE3-A21A4DD5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7E6B-E19C-48A2-8B73-EB699856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C24EF-770D-4AA1-8E13-799192BC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EA74-FD4C-43BD-A6C7-97CA8B78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1005-E706-4957-B74B-310979D6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3E9E-E7CA-4107-837C-7204B20C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A068-4DAA-4BAF-9149-ECDADC9E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30D4-7F90-420D-BB95-BC000251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4D3-2765-4E51-9DF5-0FDC6DE9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000" y="609120"/>
            <a:ext cx="8078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705D-F781-4B30-BCC6-D28E51BC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F2A4-01F6-409B-8EC2-A6327B3A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9470-F83F-46FF-8D18-592CDFFE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9131-7B5F-4F74-B55D-2A8B7D7E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43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F345-DD8F-4193-996A-33B616B4FE3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2f5e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7EB0-1DFA-49A3-B440-8240CAB052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6320 Chemická kinetika: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č probíhají chemické reak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2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0362-B405-42FB-BE50-BC1B2B75021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rmodynamické důvo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movolné procesy jsou provázeny růstem entropie (vysvětlení viz lit.: Olms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ntropii čistých látek i sloučenin lze vypočítat z 3.V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 uzavřené soustavy s konst. P a T je kriteriem Gibbsova energi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 uzavřené soustavy s konst. V a T je kriteriem Helmholzova energi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72200" y="4114800"/>
            <a:ext cx="2454120" cy="461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943600" y="5105520"/>
            <a:ext cx="2590920" cy="459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ccecff"/>
                </a:solidFill>
                <a:latin typeface="Times New Roman"/>
              </a:rPr>
              <a:t>F=</a:t>
            </a:r>
            <a:r>
              <a:rPr b="0" lang="cs-CZ" sz="24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ccecff"/>
                </a:solidFill>
                <a:latin typeface="Times New Roman"/>
              </a:rPr>
              <a:t>U-T</a:t>
            </a:r>
            <a:r>
              <a:rPr b="0" lang="cs-CZ" sz="2400" spc="-1" strike="noStrike">
                <a:solidFill>
                  <a:srgbClr val="ccecff"/>
                </a:solidFill>
                <a:latin typeface="Symbol"/>
                <a:ea typeface="Symbol"/>
              </a:rPr>
              <a:t></a:t>
            </a:r>
            <a:r>
              <a:rPr b="0" lang="cs-CZ" sz="2400" spc="-1" strike="noStrike">
                <a:solidFill>
                  <a:srgbClr val="ccec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2051-5CDE-4D16-84F7-75DABA93B3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43080" y="3860640"/>
            <a:ext cx="8800920" cy="2997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6091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měny termodynamických funkcí a samovol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689880" y="2666880"/>
            <a:ext cx="2454120" cy="462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04920" y="242424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izké teploty: převládá entalpický příspěv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ysoké teploty: převládá entropický příspěv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204-A309-4A75-A2BD-618FE57470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1360" y="-3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abilita sádrov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22528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7925040" cy="7430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2971800" y="1143000"/>
            <a:ext cx="2895480" cy="61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F791-A275-415C-804E-E5008B1824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609480"/>
            <a:ext cx="75452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počty reakčních termodynamických funkcí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1680" y="1981080"/>
            <a:ext cx="8001000" cy="758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23960" y="12952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 tvorných Gibbsových energií reaktantů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4290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alogicky pro entalpii a entropi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F43D-F731-4BAE-8C20-2CFC28C728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9960" y="304560"/>
            <a:ext cx="76215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Efektivita buň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46280" y="2362320"/>
            <a:ext cx="7650000" cy="695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19810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2) Prostá oxidace glukóz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9144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1) Celková reakce v buň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19040" y="1371600"/>
            <a:ext cx="8305920" cy="674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04920" y="2971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3) Přeměna 36 ADP na 36 AT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95360" y="3429000"/>
            <a:ext cx="8153280" cy="538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752480" y="4572000"/>
            <a:ext cx="4343400" cy="48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9072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elkový efekt kombinace reakcí v buňce (2) a (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5257800"/>
            <a:ext cx="792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sledek: ačkoliv 1100kJ je uloženo do ATP , zbytek (tj. 1770kJ) se nevyužije a přemění se v tepelný pohy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j. účinnost buňky je 38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3CCE-13E0-4DD5-B516-B6107D5EA7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697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vnovážná konstanta a reakční Gibbsova e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1268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4057560" cy="1930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048120" y="5105520"/>
            <a:ext cx="3047760" cy="600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2514600" y="6019920"/>
            <a:ext cx="2895480" cy="495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5638680" y="5943600"/>
            <a:ext cx="2286000" cy="622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762120" y="5105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žný efek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019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 rovnov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69C9-85A3-48F7-8ADF-58FC8D0C18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27:03Z</dcterms:modified>
  <cp:revision>21</cp:revision>
  <dc:subject/>
  <dc:title>Prezentace aplikace PowerPoint</dc:title>
</cp:coreProperties>
</file>